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6689-B0A0-4934-9258-932E6804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C66-E104-4748-B3B3-1C0048D2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70CC-B051-4296-B71C-4F325C44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AF29-72F7-44DD-B8D2-38550843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2D29-6AE2-40FD-9BC6-67C74670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67AD-0FEA-4958-A3F6-1DDB6DC7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535A-ACEA-4C40-9094-EFC862E7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C5E7-73B4-4FD9-88F8-652B8688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3CCF-4719-4A50-93F5-377B5AC1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0019-F971-4A08-8050-D6618A8B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4A84-08BC-4FFB-9204-294DAA1C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AFD5-A7A5-433A-A4EC-E3DEF98D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7F45-0B35-4DFC-AF8C-7D8E9FDF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CDF8-42AB-48BD-845A-E446CFB9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7F2A-6F6C-4EA8-8C1A-304AE441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C776-B0EA-4695-BF91-130E1DAC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41C9-8434-4FC2-9585-7009FF1A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CD64-A57F-406A-A758-03B1A0B8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45CE-E438-4FBC-926D-B7002784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28AE-F31F-40F0-A521-2955CEFB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B62C-7E7D-443B-930F-5E714006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7D4B-4C46-44AF-9C20-2BB19E1E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BFF2-04ED-4908-A2E1-5BB89619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037-41BE-4F61-9FAA-F4C5972B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ED4F-1E58-469E-B383-EA4859AFC6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0EBB-2A27-4EE7-885A-0540A0AF70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onibilidad y costo 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v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r. Ing. Rodrigo Pascual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/me57a/murty95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0-22 de abril de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jemplo ilustra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lan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versión en ac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60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m (en vida útil)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asa de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2670 u/hor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ida útil de diseño de la pla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30 años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pera 16 horas/d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al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40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m/m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ño 1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i1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= 2,6320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m/año y A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= 62 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ño 2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i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= 2,7231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m/año, A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=65 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cio unitario 60 um/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stos de operación (excluyendo salarios) alcanzan los 54,7 10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um/añ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des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ablecer optimo de disponi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asa de producción nomin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3227400"/>
            <a:ext cx="472464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s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 Fi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lari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 Oper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843280" y="1509840"/>
                <a:ext cx="525780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m</m:t>
                            </m:r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ida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útil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ida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útil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m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843280" y="3068640"/>
                <a:ext cx="511344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m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m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627280" y="4724280"/>
                <a:ext cx="4608720" cy="19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t xml:space="preserve">,</m:t>
                            </m:r>
                            <m:r>
                              <m:t xml:space="preserve">7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um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ño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ño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61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</m:t>
                            </m:r>
                          </m:sub>
                        </m:sSub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61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u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m</m:t>
                            </m:r>
                            <m:r>
                              <m:t xml:space="preserve">u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sto Interven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el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987640" y="3213000"/>
            <a:ext cx="4319640" cy="2870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348000" y="2060640"/>
            <a:ext cx="355428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09520" y="3498840"/>
            <a:ext cx="69231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09640" y="2798640"/>
            <a:ext cx="3333600" cy="2133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143680" y="2322360"/>
            <a:ext cx="3047760" cy="743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284720" y="3429000"/>
            <a:ext cx="439092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280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pare resultados al ajustar el primer modelo propuesto por (Murty, 199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348000" y="2328840"/>
            <a:ext cx="533880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203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upuesto de mantenimiento no puede superar en 20% el máximo histó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348000" y="2306520"/>
            <a:ext cx="5338800" cy="4121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76720" y="4365720"/>
            <a:ext cx="56163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12000" y="43657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e el modelo propuesto para considerar el efecto de la implementación de TPM. Tome en cuenta que durante el segundo año del estudio, 25% del parque de equipos recibía atención TPM de parte del oper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43280" y="3484440"/>
            <a:ext cx="52578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ipótes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i=Ci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356000" y="1413000"/>
            <a:ext cx="4038840" cy="1114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526104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timación de parámetr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2529000"/>
            <a:ext cx="822960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6121440" cy="1235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771640" y="3141720"/>
            <a:ext cx="40388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09560" y="1600200"/>
            <a:ext cx="5924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mentari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 agregado, empí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posiciones múltiples de l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stimación de parámetr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árametros del mode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ostos fijos por unidad de tiemp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osto operacion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Intervención mantenimiento (um/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recio unitario (um/u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rámetros y variab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tasa de producción nomin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tasa de producción efectiv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utilidad por unidad de tiemp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osto de operación por unidad de produc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tilidad = u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Ingresos – Costo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Ingresos por unidad de tiemp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os=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os=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Costo global por unidad de tiemp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sto Global = Costo Fijo + Costo Operacional + Costo Interv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fix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op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sto operacional por unidad de tiemp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o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·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sto de Interven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modelos para el costo de inter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0920" y="2781360"/>
            <a:ext cx="2951280" cy="1147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195640" y="4221000"/>
            <a:ext cx="3914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timación de parámetr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el primero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867280" y="1773360"/>
            <a:ext cx="2700360" cy="1050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835280" y="558972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835280" y="299700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52200" y="4097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920" y="36385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0280" y="2852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56160" y="575316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7280" y="3592440"/>
            <a:ext cx="111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inter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300720" y="2924280"/>
                <a:ext cx="1936800" cy="23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β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dad por unidad de tiemp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52720" y="1989000"/>
            <a:ext cx="4038480" cy="514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195640" y="2637000"/>
            <a:ext cx="4038480" cy="447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276720" y="3213000"/>
            <a:ext cx="1512720" cy="806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2124000" y="4149720"/>
            <a:ext cx="4038840" cy="1623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484360" y="5013360"/>
            <a:ext cx="50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028960" y="5118120"/>
                <a:ext cx="9363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8:49:22Z</dcterms:created>
  <dc:creator>Rodrigo Pascual</dc:creator>
  <dc:description/>
  <dc:language>en-US</dc:language>
  <cp:lastModifiedBy>Vivi</cp:lastModifiedBy>
  <dcterms:modified xsi:type="dcterms:W3CDTF">2005-09-21T02:59:01Z</dcterms:modified>
  <cp:revision>19</cp:revision>
  <dc:subject/>
  <dc:title>Disponibilidad y costo de intervención</dc:title>
</cp:coreProperties>
</file>