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59D-1AB1-4417-B4AA-0BB7EEEA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FCD-E760-4F68-A66F-2CE165DE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50B-26D2-46D9-BCEE-8C621EC3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90A-CE6C-4593-A05F-65F25A44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31FA-4851-4279-8C53-2350A017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B54E-3111-4B32-A51E-A5EC827F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7090-921B-4322-8D67-AC51A5F8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0C21-394C-4A94-8FCB-A58141EC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F3FF-C95D-4A62-BBF8-26369F2C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73C4-A0E5-49FB-9764-5F2E28BC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6414-5CFD-45B9-A0E0-DD340C78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6EE-4E59-4CB0-B6FC-938C177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9829-4049-4C72-B371-5BF22B25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7ED7-3C8F-42C1-BD5B-30C7147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41AA-583E-4A2F-B0F0-47DC7970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2E90-1F14-4840-823A-A4C16924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3E6E-98C6-4657-A80F-45C73521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048-1BF5-4011-9064-6BB3805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68D-BC03-4D2A-86B7-371DA6AD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A16-CB91-4BDA-A949-F668039B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AD4-689C-49FF-9973-4DFBA5B5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D7A-E7AD-4561-BAC3-52DF1205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FDC-DA8E-4E2B-9C0D-5831D733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A29-221C-427F-8214-645F64BD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56CD-40BF-40F1-BE37-DADEAC9205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5DF2-4A12-4E7B-83A8-CF1BC60564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onibilidad y costo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. Ing. Rodrigo Pascual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/me57a/murty95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-22 de abril de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mplo ilustr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en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 (en vida útil)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s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670 u/ho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da útil de diseño de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0 año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 16 horas/d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632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 y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62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7231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,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65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cio unitario 60 um/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tos de operación (excluyendo salarios) alcanzan los 54,7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m/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s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blecer optimo de dispon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3227400"/>
            <a:ext cx="4724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1509840"/>
                <a:ext cx="52578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43280" y="3068640"/>
                <a:ext cx="5113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724280"/>
                <a:ext cx="460872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6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61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4319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5542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09520" y="3498840"/>
            <a:ext cx="6923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9640" y="2798640"/>
            <a:ext cx="33336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3680" y="232236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43909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re resultados al ajustar el primer modelo propuesto por (Murty, 199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48000" y="2328840"/>
            <a:ext cx="5338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20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o de mantenimiento no puede superar en 20% el máximo 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2306520"/>
            <a:ext cx="5338800" cy="412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4365720"/>
            <a:ext cx="561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436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e el modelo propuesto para considerar el efecto de la implementación de TPM. Tome en cuenta que durante el segundo año del estudio, 25% del parque de equipos recibía atención TPM de parte del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43280" y="3484440"/>
            <a:ext cx="5257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pót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=Ci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038840" cy="111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261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8229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121440" cy="123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4038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9560" y="1600200"/>
            <a:ext cx="592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agregado, empí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iciones múltiples de 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árametros d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s fijos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Intervención mantenimiento (um/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ecio unitario (um/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ámetros y variab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efecti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de operación por unidad de produc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dad = u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Ingresos – Cost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Ingresos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osto global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 Global = Costo Fijo + Costo Operacional + Costo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sto operacional por unidad de tiemp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modelos para el costo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29512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914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rimer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003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589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997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2200" y="4097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920" y="3638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028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6160" y="5753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" y="359244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inter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00720" y="2924280"/>
                <a:ext cx="19368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2720" y="1989000"/>
            <a:ext cx="403848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038480" cy="447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3213000"/>
            <a:ext cx="1512720" cy="806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403884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84360" y="5013360"/>
            <a:ext cx="50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28960" y="5118120"/>
                <a:ext cx="93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49:22Z</dcterms:created>
  <dc:creator>Rodrigo Pascual</dc:creator>
  <dc:description/>
  <dc:language>en-US</dc:language>
  <cp:lastModifiedBy>Vivi</cp:lastModifiedBy>
  <dcterms:modified xsi:type="dcterms:W3CDTF">2005-09-21T02:59:01Z</dcterms:modified>
  <cp:revision>19</cp:revision>
  <dc:subject/>
  <dc:title>Disponibilidad y costo de intervención</dc:title>
</cp:coreProperties>
</file>