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ADE-AAA7-4AB2-87F8-20CA74A6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9D5-45B1-4BBC-B5D6-A86D2FE5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1A2-4004-4F74-950F-19BB5E77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ACD-E5ED-44AA-A879-21EEC728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313D-2585-48E3-A8A5-63D0C917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22CC-D870-4E65-B18C-69746257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6895-0D06-4F67-9175-F3E657BB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1573-6366-4C48-ABBF-6B45091C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10C7-5E03-4EFC-967F-BE1031D2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50D2-618E-48B2-9E4E-938A6A84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F580-5023-47C5-A371-FCE0C645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699-07DE-4BCB-BB7F-1DC3B95F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04F3-ABD5-448B-A2F8-D8F41EFB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B18B-56D0-4E3E-8EF3-1FAA388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492B-B7E4-41A9-9125-EB3DF695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8705-FD0D-47BB-9B38-8BE8615B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D332-6845-490D-96F8-90A42A67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EED-C730-4D6E-A366-D717E1F3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A9A-38F8-42C1-B188-C705D618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ADA-E110-4A53-975C-12A01B9F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90A-F288-4BBD-9CE3-8EF3DE24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A8A-32F7-4D39-A93C-FB0781B3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F2D-35EC-4502-A370-F3DF3D98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4D7-409C-48D0-8301-03BB88C0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A3F3-F80E-40E5-A624-DB592B788E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1CFB-6493-4E81-A650-9BB9E3574A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onibilidad y costo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. Ing. Rodrigo Pascual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/me57a/murty95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-22 de abril de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mplo ilustra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en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 (en vida útil)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s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670 u/ho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da útil de diseño de la pl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0 año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 16 horas/d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4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632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 y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62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7231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,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65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cio unitario 60 um/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tos de operación (excluyendo salarios) alcanzan los 54,7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m/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s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blecer optimo de dispon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3227400"/>
            <a:ext cx="47246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3280" y="1509840"/>
                <a:ext cx="52578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43280" y="3068640"/>
                <a:ext cx="51134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4724280"/>
                <a:ext cx="460872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,</m:t>
                            </m:r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6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61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43196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5542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09520" y="3498840"/>
            <a:ext cx="6923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9640" y="2798640"/>
            <a:ext cx="3333600" cy="2133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3680" y="2322360"/>
            <a:ext cx="3047760" cy="743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284720" y="3429000"/>
            <a:ext cx="43909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are resultados al ajustar el primer modelo propuesto por (Murty, 199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48000" y="2328840"/>
            <a:ext cx="53388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20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o de mantenimiento no puede superar en 20% el máximo 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2306520"/>
            <a:ext cx="5338800" cy="4121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76720" y="4365720"/>
            <a:ext cx="5616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12000" y="43657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e el modelo propuesto para considerar el efecto de la implementación de TPM. Tome en cuenta que durante el segundo año del estudio, 25% del parque de equipos recibía atención TPM de parte del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43280" y="3484440"/>
            <a:ext cx="5257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póte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=Ci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4038840" cy="111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5261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529000"/>
            <a:ext cx="8229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121440" cy="123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4038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9560" y="1600200"/>
            <a:ext cx="5924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agregado, empí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posiciones múltiples de l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árametros d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s fijos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Intervención mantenimiento (um/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ecio unitario (um/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ámetros y variab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efecti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de operación por unidad de produc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dad = u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Ingresos – Cost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Ingresos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osto global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 Global = Costo Fijo + Costo Operacional + Costo Inter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sto operacional por unidad de tiemp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modelos para el costo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2951280" cy="114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3914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rimer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00360" cy="1050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35280" y="5589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35280" y="2997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52200" y="4097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920" y="3638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0280" y="28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56160" y="57531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280" y="359244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inter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300720" y="2924280"/>
                <a:ext cx="193680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β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2720" y="1989000"/>
            <a:ext cx="403848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038480" cy="447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3213000"/>
            <a:ext cx="1512720" cy="806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24000" y="4149720"/>
            <a:ext cx="4038840" cy="1623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84360" y="5013360"/>
            <a:ext cx="50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28960" y="5118120"/>
                <a:ext cx="936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8:49:22Z</dcterms:created>
  <dc:creator>Rodrigo Pascual</dc:creator>
  <dc:description/>
  <dc:language>en-US</dc:language>
  <cp:lastModifiedBy>Vivi</cp:lastModifiedBy>
  <dcterms:modified xsi:type="dcterms:W3CDTF">2005-09-21T02:59:01Z</dcterms:modified>
  <cp:revision>19</cp:revision>
  <dc:subject/>
  <dc:title>Disponibilidad y costo de intervención</dc:title>
</cp:coreProperties>
</file>