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7C3-904C-4C34-9BAE-85A17E70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561-656A-4971-A235-CF1D0008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1EF-DB8A-4D5F-8168-1C2D59EB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C31-BC94-46C8-A1BC-E072BBE2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0C55-2217-4034-8D67-B96935E4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95CC-16B1-4E27-8E76-555B4851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8A4D-C2ED-4821-A6F6-551A7B09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1591-6B92-4205-A83B-D4B97059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481A-4675-4157-81D6-AD8375B6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F737-0BC8-4DF4-8DEA-E0E46713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4B61-111B-4C9C-926E-3F480701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7E3-BEFF-43C5-A3F7-99773405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406-8223-4EF9-A303-0D59C1BE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C046-BFF8-4256-8DDC-47E8037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DE7E-F6B7-44F4-8FD8-0B2B5069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7E94-E703-4F7D-A5A8-D6DDF777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F6C6-0BE6-46C8-81DF-17ABC977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611-1B30-4E7A-A96F-92E35448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1F7-BBEB-4C5D-805E-79068B53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A61-19BF-4DE8-82CD-2F0C98E7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0FA-0DF2-4F76-B862-FA470BCB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3D7-48A6-4E2C-B7E0-8E03C53E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DAC-89BF-4A0E-8B05-CC809FE5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3A4-C9BE-4849-95DA-E3C60038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8F2C-924D-4455-9E55-C7B1CE8D558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BC03-397B-4C3A-B7D6-AE1DCCC1100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amaño de Talleres y Cuadrilla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019760" cy="1590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568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38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-74304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rcicio en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l siguiente problema en AR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tiene un equipo que puede tener 3 tipos distintos de fa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maño óptimo de personal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36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tiempo promedio de espera en la co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número promedio de trabajos en cur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la probabilidad de que el servicio esté sin u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llegada de trabajos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servicio por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s: tiempo medio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q: Tiempo de espera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16360" y="3213000"/>
                <a:ext cx="3384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700360" y="5140440"/>
                <a:ext cx="36003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ρ</m:t>
                              </m:r>
                            </m:num>
                            <m:den>
                              <m:r>
                                <m:t xml:space="preserve">μ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den>
                          </m:f>
                        </m:e>
                        <m:e>
                          <m:r>
                            <m:t xml:space="preserve">,</m:t>
                          </m:r>
                        </m:e>
                        <m:e>
                          <m:r>
                            <m:t xml:space="preserve">ρ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eqArr>
                            <m:e>
                              <m:f>
                                <m:num>
                                  <m:r>
                                    <m:t xml:space="preserve">μ</m:t>
                                  </m:r>
                                </m:num>
                                <m:den/>
                              </m:f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con n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mpo medio que un recursos esta 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8472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5300640"/>
            <a:ext cx="1584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dad de que un recurso este des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tidad esperada tareas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975280" cy="1843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43280" y="4797360"/>
            <a:ext cx="33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516720" y="4797360"/>
            <a:ext cx="1727280" cy="1300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979640" y="4797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 de espera en la c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657440" cy="100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71640" y="3645000"/>
            <a:ext cx="3673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 esperado de tareas en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2592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quiere minimizar el costo glo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operación de un re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fa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56163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57:21Z</dcterms:created>
  <dc:creator>Vivi</dc:creator>
  <dc:description/>
  <dc:language>en-US</dc:language>
  <cp:lastModifiedBy>Vivi</cp:lastModifiedBy>
  <dcterms:modified xsi:type="dcterms:W3CDTF">2005-08-05T03:51:27Z</dcterms:modified>
  <cp:revision>6</cp:revision>
  <dc:subject/>
  <dc:title>Tamaño de Talleres y Cuadrillas</dc:title>
</cp:coreProperties>
</file>