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4AE-425E-458E-916C-675DD57B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E88-7CCB-49E5-BC6C-BEC7C379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2E5-C20F-4E14-A821-D39E30A2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940-CD1B-4577-BF1E-32684264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7DA5-5D2C-4BB6-80CE-9C694E3C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7125-9862-4C72-8534-13FCF2FA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6E25-40FB-466C-967E-571408E1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9F43-58C0-4BE9-8D31-05208FB6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A14A-470A-47D6-A6C2-187A4985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7107-9FCD-464F-AF8C-CF68687B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ED3D-3E1D-4688-8126-868D81D8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737-7778-4DDB-B099-1751146C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35E4-CB69-4F7F-8EDF-CC28223D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2C19-C823-4C91-9704-CEDC9A90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1F3F-B6FA-4F58-A433-4320D4CE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7CF9-7194-46E0-BC46-3352DDBB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9E24-3FDA-4F32-9807-F69942D3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D3A-9815-48BF-B7A0-2A76D1B9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9D8-6837-4780-A2B1-0BB7A359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D40-BD1B-4D3B-AFD1-E20FFFF5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9ED-BFBC-48CF-BE52-16A8C53B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B08-D38D-41F1-A9D8-7F52DAAF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A84-910D-4257-8F74-D6B1410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27D-D31C-41B4-8F82-11DDED1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E8E9-AB05-4C2E-90A5-FD897846999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112D-7D31-435E-841E-C7AEC02E974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amaño de Talleres y Cuadrilla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4019760" cy="1590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568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38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00000" y="738360"/>
            <a:ext cx="698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-743040"/>
            <a:ext cx="75438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rcicio en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l siguiente problema en AR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tiene un equipo que puede tener 3 tipos distintos de fa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sigue una distribución exponencial de media 4, 1 y 8 días respectiv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n dos talleres de reparación: Mecánica (capacidad 2), Eléctrica (capacidad 2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ánica se demora en reparar 3 días con una distribución exponencial, y Eléctrica 4 días con la misma distribu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tiene una probabilidad de 0.6, 0.6 y 0.7 de requerir taller mecánico, y 0.5, 0.3, 0.4 de requerir taller eléctr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el tiempo medio de espera en cola de ambos talleres y la tasa de ocupación de los talleres, si los talleres trabajan en serie y en paralelo. Para un tiempo de simulación de 200 dí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maño óptimo de personal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364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tiempo promedio de espera en la co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número promedio de trabajos en cur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la probabilidad de que el servicio esté sin u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llegada de trabajos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servicio por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s: tiempo medio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q: Tiempo de espera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16360" y="3213000"/>
                <a:ext cx="3384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700360" y="5140440"/>
                <a:ext cx="360036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q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ρ</m:t>
                              </m:r>
                            </m:num>
                            <m:den>
                              <m:r>
                                <m:t xml:space="preserve">μ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den>
                          </m:f>
                        </m:e>
                        <m:e>
                          <m:r>
                            <m:t xml:space="preserve">,</m:t>
                          </m:r>
                        </m:e>
                        <m:e>
                          <m:r>
                            <m:t xml:space="preserve">ρ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eqArr>
                            <m:e>
                              <m:f>
                                <m:num>
                                  <m:r>
                                    <m:t xml:space="preserve">μ</m:t>
                                  </m:r>
                                </m:num>
                                <m:den/>
                              </m:f>
                            </m:e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con n 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mpo medio que un recursos esta 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84720" cy="2449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08360" y="5300640"/>
            <a:ext cx="1584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dad de que un recurso este des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tidad esperada tareas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975280" cy="1843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43280" y="4797360"/>
            <a:ext cx="3311280" cy="139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516720" y="4797360"/>
            <a:ext cx="1727280" cy="1300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979640" y="4797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 de espera en la c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1657440" cy="100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71640" y="3645000"/>
            <a:ext cx="3673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 esperado de tareas en serv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2592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quiere minimizar el costo glo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operación de un re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fa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56163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57:21Z</dcterms:created>
  <dc:creator>Vivi</dc:creator>
  <dc:description/>
  <dc:language>en-US</dc:language>
  <cp:lastModifiedBy>Vivi</cp:lastModifiedBy>
  <dcterms:modified xsi:type="dcterms:W3CDTF">2005-08-05T03:51:27Z</dcterms:modified>
  <cp:revision>6</cp:revision>
  <dc:subject/>
  <dc:title>Tamaño de Talleres y Cuadrillas</dc:title>
</cp:coreProperties>
</file>