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8AA-442D-461D-9D37-BB28DC0F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0F8-5F2F-4347-800C-8DF47F77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054-04FD-4381-99F5-8AC38881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84C-ADD9-46E4-B6E4-F33EE45E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BC53-C2CE-429B-8442-F6FD43B1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ED59-A74F-4EFF-94DA-3E300CD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56C4-0E70-4080-A881-FDB652A7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7691-82CC-433F-A087-4EA533ED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D7BA-9A72-42D1-BF13-AF57CC4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2E3-1555-4FB6-8659-C3A3EECC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A0BD-7BCD-47C4-B667-9D4832A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8B2-8642-4BEF-AD95-FB193D22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732A-28D7-47AE-B2A2-1B394EF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CAAC-2A2C-4C52-8799-5BDE6B8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280-B22D-4E38-84E9-7A54B93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402E-CF2D-4ED3-A31D-5E5901C9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66D-FFA9-4CBE-9163-9313DFED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ED7-6CFE-438D-B64B-33F16E4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283-1ED0-4ABD-88A6-513A21D0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EBD-EE3C-4549-9C3F-473DE5B2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61A-72E6-4A0D-925B-A60DF37C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D0D-28C9-4216-A965-C4C38BDB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7C7-349A-4162-8AB9-072A9E81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71C-328B-4FD0-A05C-A97270B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928A-1731-47F0-A42C-DDD9B2772C0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7D72-98E2-4290-9849-94100CB889C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amaño de Talleres y Cuadrilla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019760" cy="159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3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-74304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rcicio en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l siguiente problema en AR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tiene un equipo que puede tener 3 tipos distintos de fa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maño óptimo de personal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36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tiempo promedio de espera en la co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número promedio de trabajos en cur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la probabilidad de que el servicio esté sin u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llegada de trabajos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servicio por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s: tiempo medio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q: Tiempo de espera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16360" y="3213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00360" y="5140440"/>
                <a:ext cx="36003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den>
                          </m:f>
                        </m:e>
                        <m:e>
                          <m:r>
                            <m:t xml:space="preserve">,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eqArr>
                            <m:e>
                              <m:f>
                                <m:num>
                                  <m:r>
                                    <m:t xml:space="preserve">μ</m:t>
                                  </m:r>
                                </m:num>
                                <m:den/>
                              </m:f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con n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mpo medio que un recursos esta 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5300640"/>
            <a:ext cx="1584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dad de que un recurso este des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tidad esperada tareas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975280" cy="1843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43280" y="4797360"/>
            <a:ext cx="33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516720" y="4797360"/>
            <a:ext cx="1727280" cy="130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 de espera en la c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657440" cy="10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673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 esperado de tareas en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592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quiere minimizar el costo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operación de un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fa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6163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57:21Z</dcterms:created>
  <dc:creator>Vivi</dc:creator>
  <dc:description/>
  <dc:language>en-US</dc:language>
  <cp:lastModifiedBy>Vivi</cp:lastModifiedBy>
  <dcterms:modified xsi:type="dcterms:W3CDTF">2005-08-05T03:51:27Z</dcterms:modified>
  <cp:revision>6</cp:revision>
  <dc:subject/>
  <dc:title>Tamaño de Talleres y Cuadrillas</dc:title>
</cp:coreProperties>
</file>