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6F93-77FB-4AC9-8D95-EA89AD902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971D-E09D-4971-81E0-10F353FF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1D10-07F0-4B1D-843E-1F671FA2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2437-662B-46AD-B84E-4A4887C03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3C88-058B-449D-92A8-DD916179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D058-7F74-46D1-953D-A31251EE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9B6D-9AA9-43D6-B884-84BED6F4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707A-E848-4103-B724-5C325268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727C-C390-4068-87FB-4D65ADB3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3045-92DF-4EBC-822D-716B6675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6129-84DA-415C-91C0-A5559314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F7A4-BE91-4AF7-89FD-7B434409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2D4D-FF2B-46E1-88DD-A3BED450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2E11-E759-42AB-9E7A-FDB3E0FE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6FDC-1DD4-4C54-A6EC-8459A0B0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8582-6B9F-48F7-932E-CD3721E25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D306-598A-4A23-9ADD-64E13C04A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7F10-6880-4F3F-8E92-50EA576C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7FF0-D162-4D32-8795-1F43BFF9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385A-DF32-4351-965A-4C9BE75B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639A-C5EE-4E04-BDDC-BF0F7838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5DE0-0B64-4A06-9062-8E5E405A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FC0E-3C11-4155-951A-C84E33EE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B176-3375-46E0-A823-CF28BDEC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3A83-715A-4047-ABCC-1FA30604D1EA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D9C6-5344-4D22-A747-1D30EB79F72F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amaño de Talleres y Cuadrilla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4019760" cy="15904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835280" y="4005360"/>
            <a:ext cx="56880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473800" cy="44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543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en Aren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00000" y="738360"/>
            <a:ext cx="698364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543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en Aren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000" y="-743040"/>
            <a:ext cx="75438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rcicio en cl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lizar el siguiente problema en AR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tiene un equipo que puede tener 3 tipos distintos de fall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falla sigue una distribución exponencial de media 4, 1 y 8 días respectivam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en dos talleres de reparación: Mecánica (capacidad 2), Eléctrica (capacidad 2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cánica se demora en reparar 3 días con una distribución exponencial, y Eléctrica 4 días con la misma distribució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falla tiene una probabilidad de 0.6, 0.6 y 0.7 de requerir taller mecánico, y 0.5, 0.3, 0.4 de requerir taller eléctric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ar el tiempo medio de espera en cola de ambos talleres y la tasa de ocupación de los talleres, si los talleres trabajan en serie y en paralelo. Para un tiempo de simulación de 200 dí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roduc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maño óptimo de personal de mantenimi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o de Interv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o de fa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536400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¿Cuál es el tiempo promedio de espera en la col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¿Cuál es el número promedio de trabajos en curs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¿Cuál es la probabilidad de que el servicio esté sin us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: tasa de llegada de trabajos unidad de tiem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: tasa de servicio por unidad de tiem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s: tiempo medio de tr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q: Tiempo de espera en la co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916360" y="3213000"/>
                <a:ext cx="33843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700360" y="5140440"/>
                <a:ext cx="3600360" cy="17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q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ρ</m:t>
                              </m:r>
                            </m:num>
                            <m:den>
                              <m:r>
                                <m:t xml:space="preserve">μ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</m:den>
                          </m:f>
                        </m:e>
                        <m:e>
                          <m:r>
                            <m:t xml:space="preserve">,</m:t>
                          </m:r>
                        </m:e>
                        <m:e>
                          <m:r>
                            <m:t xml:space="preserve">ρ</m:t>
                          </m:r>
                          <m:r>
                            <m:t xml:space="preserve">=</m:t>
                          </m:r>
                          <m:r>
                            <m:t xml:space="preserve">λ</m:t>
                          </m:r>
                          <m:eqArr>
                            <m:e>
                              <m:f>
                                <m:num>
                                  <m:r>
                                    <m:t xml:space="preserve">μ</m:t>
                                  </m:r>
                                </m:num>
                                <m:den/>
                              </m:f>
                            </m:e>
                          </m:eqAr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stema con n recurs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empo medio que un recursos esta ocup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5184720" cy="2449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708360" y="5300640"/>
            <a:ext cx="15843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abilidad de que un recurso este desocup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tidad esperada tareas en la co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619280" y="2349360"/>
            <a:ext cx="5975280" cy="18432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843280" y="4797360"/>
            <a:ext cx="3311280" cy="1397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516720" y="4797360"/>
            <a:ext cx="1727280" cy="1300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1979640" y="4797360"/>
            <a:ext cx="100800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empo de espera en la co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635280" y="2565360"/>
            <a:ext cx="1657440" cy="10047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771640" y="3645000"/>
            <a:ext cx="36734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úmero esperado de tareas en servic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059280" y="2349360"/>
            <a:ext cx="259236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e quiere minimizar el costo glob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: costo de operación de un recur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: costo de fal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32000" y="3789360"/>
            <a:ext cx="561636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02:57:21Z</dcterms:created>
  <dc:creator>Vivi</dc:creator>
  <dc:description/>
  <dc:language>en-US</dc:language>
  <cp:lastModifiedBy>Vivi</cp:lastModifiedBy>
  <dcterms:modified xsi:type="dcterms:W3CDTF">2005-08-05T03:51:27Z</dcterms:modified>
  <cp:revision>6</cp:revision>
  <dc:subject/>
  <dc:title>Tamaño de Talleres y Cuadrillas</dc:title>
</cp:coreProperties>
</file>