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47C6-8757-43C7-AE72-A8E9D4F7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6CC7-8B9C-469C-9623-808BBAB6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9E75-AAD4-490D-87B6-63719F36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23D-26A5-4AB3-9446-BB811807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59B7-56C1-48FA-B83A-F9FC28AC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36BC-53AA-418B-BB9C-11FC23CE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E297-2E88-4DE0-9007-8B250C53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087E-B3AB-4D18-A44B-D2A486FD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B48A-F24F-44E5-897E-EDEB39B0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F4F4-A69A-4081-9624-135669D8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944B-B4AF-4745-B3F9-6C8AC7B6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126-7266-4909-B182-64D19F31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0A41-66CF-418D-B0D6-E9E64FA8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CA8F-4BA0-4CB7-A354-CD3F6340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04A3-851B-44F1-9A30-5960A103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5263-DBB3-4A44-AA7F-3811FBE6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E97A-7B06-4F96-B71D-4473B058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94F8-EC28-4DF5-BB19-21B7BBD6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DD6D-EADD-4EC1-82CA-D1E6C41B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06DE-4C8D-4BAB-82F9-BE9E3115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513-F2FE-4901-B054-2979401D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F85F-8B8E-463F-832B-E66CF9B5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B30C-7BA6-4046-94EF-68A59F58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FB67-16AA-4356-B1F4-0EE0536D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4A09-0ED1-41D4-922D-EF27B6322C5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D98F-71A6-43C0-BD17-5DBEA362D01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amaño de Talleres y Cuadrilla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4019760" cy="1590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835280" y="4005360"/>
            <a:ext cx="5688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47380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en Are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00000" y="738360"/>
            <a:ext cx="69836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en Are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-743040"/>
            <a:ext cx="75438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rcicio en cl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izar el siguiente problema en AR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tiene un equipo que puede tener 3 tipos distintos de fa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falla sigue una distribución exponencial de media 4, 1 y 8 días respectiva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en dos talleres de reparación: Mecánica (capacidad 2), Eléctrica (capacidad 2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cánica se demora en reparar 3 días con una distribución exponencial, y Eléctrica 4 días con la misma distribució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falla tiene una probabilidad de 0.6, 0.6 y 0.7 de requerir taller mecánico, y 0.5, 0.3, 0.4 de requerir taller eléctric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el tiempo medio de espera en cola de ambos talleres y la tasa de ocupación de los talleres, si los talleres trabajan en serie y en paralelo. Para un tiempo de simulación de 200 dí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roduc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maño óptimo de personal de manteni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o de Interv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o de f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53640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ál es el tiempo promedio de espera en la col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ál es el número promedio de trabajos en curs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ál es la probabilidad de que el servicio esté sin us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tasa de llegada de trabajos unidad de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tasa de servicio por unidad de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s: tiempo medio de tr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q: Tiempo de espera en la c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916360" y="3213000"/>
                <a:ext cx="3384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700360" y="5140440"/>
                <a:ext cx="360036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q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ρ</m:t>
                              </m:r>
                            </m:num>
                            <m:den>
                              <m:r>
                                <m:t xml:space="preserve">μ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</m:den>
                          </m:f>
                        </m:e>
                        <m:e>
                          <m:r>
                            <m:t xml:space="preserve">,</m:t>
                          </m:r>
                        </m:e>
                        <m:e>
                          <m:r>
                            <m:t xml:space="preserve">ρ</m:t>
                          </m:r>
                          <m:r>
                            <m:t xml:space="preserve">=</m:t>
                          </m:r>
                          <m:r>
                            <m:t xml:space="preserve">λ</m:t>
                          </m:r>
                          <m:eqArr>
                            <m:e>
                              <m:f>
                                <m:num>
                                  <m:r>
                                    <m:t xml:space="preserve">μ</m:t>
                                  </m:r>
                                </m:num>
                                <m:den/>
                              </m:f>
                            </m:e>
                          </m:eqAr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stema con n recur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empo medio que un recursos esta ocup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184720" cy="2449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708360" y="5300640"/>
            <a:ext cx="15843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ilidad de que un recurso este desocup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tidad esperada tareas en la c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5975280" cy="1843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843280" y="4797360"/>
            <a:ext cx="3311280" cy="1397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516720" y="4797360"/>
            <a:ext cx="1727280" cy="1300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979640" y="4797360"/>
            <a:ext cx="1008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empo de espera en la co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1657440" cy="1004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771640" y="3645000"/>
            <a:ext cx="3673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úmero esperado de tareas en serv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259236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quiere minimizar el costo glo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costo de operación de un recur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costo de fa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561636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57:21Z</dcterms:created>
  <dc:creator>Vivi</dc:creator>
  <dc:description/>
  <dc:language>en-US</dc:language>
  <cp:lastModifiedBy>Vivi</cp:lastModifiedBy>
  <dcterms:modified xsi:type="dcterms:W3CDTF">2005-08-05T03:51:27Z</dcterms:modified>
  <cp:revision>6</cp:revision>
  <dc:subject/>
  <dc:title>Tamaño de Talleres y Cuadrillas</dc:title>
</cp:coreProperties>
</file>