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BAA-CFED-43A8-859E-45BC1132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C62-50E2-4D35-BBAE-872B912F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B04-1553-49AA-9D63-6A3B2C93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FF7-7F6F-4234-BE43-4C521906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9688-7DEB-4D19-9265-8A230E97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6439-2398-49BE-B573-9F51D5E0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8CBB-9D1F-4880-93FA-1F6270C3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A2AA-45D6-4E71-86D8-A10C034E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E521-16FA-4666-8289-965ECD0A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9DD2-FC3F-47F8-A96A-3C16B998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9793-43BF-4C6F-8826-E779D12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E1A-B1F9-4055-9D55-1AE1577C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61DE-E26D-40B3-93FB-74815BA5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DEBB-BB32-450F-816B-21FBD78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6C38-071C-45C3-9764-FC1BC8BB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3004-E1D1-4050-B676-2063783B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B34C-B962-4880-B462-DA892342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71A-69BA-43DC-89F0-60FED605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27F-B6D1-41EF-91AF-66A3B022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65C-9E7A-444E-BC94-0ED46E5A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24C-3CAA-4FA5-AD6B-6946BBA3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7F7-4686-434C-AEC4-3778D5D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0D0-E47C-4C9C-BF47-C44BDBD0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1F0-DC25-4643-BDAF-FCE36D47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0B2B-E513-4EB9-BB89-419D7347B7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CE13-8057-4272-B565-665E9D3FE9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granajes Tornillo Sinfin y C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296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Coeficiente Elástico c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97496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9840" y="19810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17463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2209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7120" y="220968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4240" y="1905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85920" y="197496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 Resist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Espi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492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683040" y="199404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34440" y="2146320"/>
            <a:ext cx="49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6800" y="2149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73600" y="2603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4720" y="363528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34066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5840" y="3789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77040" y="379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8280" y="3595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640" y="450864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1720" y="42800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58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77040" y="4664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8280" y="4468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46240" y="613584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3240" y="59072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27360" y="6289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78560" y="6291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9800" y="6095880"/>
            <a:ext cx="275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600" y="609588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7680" y="58672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1800" y="6249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251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4240" y="60562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Espirale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869080" y="289548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3434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46483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18200" y="411480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4864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257800" cy="4113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-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4384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44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905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7920" y="25970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282564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82564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92320" y="252108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7400" y="3733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Resis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ornillo Sinfín - 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73200" y="1600200"/>
            <a:ext cx="419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utilizan cuando se debe cambiar de ángulo la dirección de la potencia a trans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n como dos conos en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o común: Cambio de dirección en 90°, aunque otros ángulos son utilizados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cuando el ruido no es un factor importante y son de costo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menclatura equivalente a engranajes 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580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5280" y="297180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15238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981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360" y="388620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160" y="4641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876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2480" y="5486400"/>
            <a:ext cx="2636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dientes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entradas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8760" y="5486400"/>
            <a:ext cx="283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 : distancia entre 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 :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Tornillo Sinfín – Corona - Defin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Sinfín Corona: Ángulos de presión de avance y alturas de di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867280" cy="3465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3800" y="5334120"/>
            <a:ext cx="23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4680" y="579132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" y="6248520"/>
            <a:ext cx="230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1360" y="259704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9720" y="312408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9720" y="3657600"/>
            <a:ext cx="190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56440" y="4251240"/>
            <a:ext cx="44582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 : fuerza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omponentes ortogonales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7520" y="175248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266688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60600" y="312408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0160" y="358128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16160" y="456552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10800" y="42670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6360" y="480060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15880" y="586728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45680" y="556272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4960" y="6095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6095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23623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46880" y="213372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7240" y="259092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429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1120" y="3193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4800" y="3657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1280" y="4419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43434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50292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0384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4100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324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410080"/>
            <a:ext cx="1371600" cy="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410080"/>
            <a:ext cx="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57200" y="5409720"/>
            <a:ext cx="137160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9625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800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3120" y="49528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87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4400" y="5638680"/>
            <a:ext cx="3465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i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2071800"/>
            <a:ext cx="6019560" cy="4329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88520" y="229248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2160" y="22096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22096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3124080"/>
            <a:ext cx="640080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ancho de cara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: factor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tamaño 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relación de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Esfuerz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10360" cy="2154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3908520"/>
            <a:ext cx="8001000" cy="2949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76320" y="2209680"/>
            <a:ext cx="6172200" cy="3676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15000" y="3006720"/>
            <a:ext cx="3505320" cy="24033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5146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2440" y="28954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40480" y="28954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962520"/>
            <a:ext cx="64008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Po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Helicoid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similar a cónicos rectos, pero se utilizan en situaciones de mayor velocidad de rotación y donde el ruido si es un factor importante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200808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Sinfín-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n capacidad de reducción d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nsmisión por deslizamiento puro, no rodadura p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menor de transmisión por efectos de roce en desli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84440"/>
            <a:ext cx="4038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4267080" cy="397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12720" y="21337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6560" y="18702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764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4680" y="33940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19800" y="31305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8720" y="3664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46195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16840" y="43848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21760" y="476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60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97080" y="213372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4400" y="281304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228600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2767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4840" y="421020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3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0541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480" y="251784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8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429000"/>
            <a:ext cx="28958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 : paso diame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 : ancho de cara (flex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 : factor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9384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652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49876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4224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2200" y="19652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041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2096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352680"/>
            <a:ext cx="4038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P :coeficiente elá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v :factor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 : factor geométrico (durabilidad de superfi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eguridad de los engra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ob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 : factor de seguridad 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Esfuerz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5473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6-08T05:33:43Z</dcterms:modified>
  <cp:revision>27</cp:revision>
  <dc:subject/>
  <dc:title>ME56A - Diseño de Elementos de Máquinas</dc:title>
</cp:coreProperties>
</file>