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823-B856-4370-952E-511B3DEB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600-EB70-4155-A47A-F94775E6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C95-7310-4D2B-A6BD-C06D0362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3DE-6AB0-445F-8BD4-F2D18702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E983-778E-4C00-8E42-274AFDB3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679E-0735-4757-8C75-67BB7652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4959-7ADE-47A0-810C-7717E338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CECA-B9AA-4748-8D48-CD44D31D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C2B9-DA88-423F-9A24-F9601A3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472-1060-440E-AE85-11EB2B9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B747-2BAE-46D1-A021-D3114163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05D-F7BC-46A3-9E07-53389ABE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B2F8-518C-4DBC-9B54-526294E5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8203-AF35-4103-96F7-3B50B53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1B88-805A-4023-92B7-CD9977D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12AF-5FE5-497F-B313-552A25ED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A7A6-6BCB-4CFD-B2F5-9B2CA2ED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121-A5F4-4BB0-9177-8F29A4C1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930-D294-4095-892E-92B47D73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399-B3ED-43F5-BB95-8BC73191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B9A-23AD-4233-85A1-66D7CF4B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2D7-5701-40FB-9C09-A25B4DA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F62-355B-47AD-9C5C-57F6A0F0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93B-24D7-44FD-B7DE-C4FD8A2B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540D-5FA1-4BD2-BD65-C602D2FA91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B2A3-30B6-4F99-9440-46FD1B68AC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Tornillo Sinfin y Có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lederma@cec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Darren Ledermann</cp:lastModifiedBy>
  <dcterms:modified xsi:type="dcterms:W3CDTF">2005-06-08T05:33:43Z</dcterms:modified>
  <cp:revision>27</cp:revision>
  <dc:subject/>
  <dc:title>ME56A - Diseño de Elementos de Máquinas</dc:title>
</cp:coreProperties>
</file>