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CC5-9CC7-45DF-8602-FD4C128A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CF4-60FE-48D9-9D1F-3A2AB5C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8B8-5027-4C05-81AC-7BBF1D7C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3C5-CE57-4C86-9078-9F26AD1A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35FC-9C35-4209-B422-D987A4BD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3DB-2AD6-4CA1-B5EA-614438E0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A110-51EC-46D9-BACA-6B5C4BE7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244A-5EBA-4BC0-BE1B-1656C18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7E22-3C12-48D0-87DB-2B51AAB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3A9B-B6FB-46F2-B078-FA973DD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EBC-D1EA-4D58-8EF5-BE54070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91A-AD8A-469F-9878-15A45BE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60F5-6476-4985-BA41-CF450FF5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27DE-136C-4269-B57D-DFC02F9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3C1A-3D33-43C6-B97A-251995E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BAF-BD76-4C88-A2FD-D63A2658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390-202B-4607-956D-65C8C80C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08C-69DF-4F69-92CB-188D333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EBB-AA4D-46C2-B55D-B70931B9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6B3-A81A-46A9-AD90-E50D0DA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21-34DC-4240-AC37-D8D1FA8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EE8-A99E-4DDD-B57B-A828615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362-1E47-4C19-B27D-03CD6E1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901-AA15-41FE-88CF-5161F2B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C93A-A18E-4DE3-98BE-CC5FD560210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F66B-9DD0-46F4-9463-B7489CF09D3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Felipe Figueroa</cp:lastModifiedBy>
  <dcterms:modified xsi:type="dcterms:W3CDTF">2005-10-25T01:20:10Z</dcterms:modified>
  <cp:revision>20</cp:revision>
  <dc:subject/>
  <dc:title>ME56A – Diseño de Elementos de Máquinas</dc:title>
</cp:coreProperties>
</file>