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9D2-DAB0-4B9E-9270-ED909446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AC9-6066-4325-9C31-DFA17B33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FE7-D930-430B-B310-18D98E22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6A4-69E5-4CB0-8942-B0274E6D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03F3-3420-4BE8-B909-A91BCE9D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ADB3-B3D0-4D87-B8D4-8E77E787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2B62-0DA3-42F9-A5B9-C9CEDCBC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7625-BA7D-45BD-9702-7D07AD7B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807B-FF7C-4FCE-B8BD-B3C1BAE4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7BD0-872E-464D-9A5E-BACE6173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D4C4-819B-444C-9020-CE41F584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386-2360-4A52-AFB5-81129C96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3C33-2F2A-4140-B374-86E32C8F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9052-E805-4A4E-9D85-886D1F1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BBF8-F13C-4ED3-B59B-55969BF9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4946-3418-484F-AE62-CE7F265A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802F-B382-408B-817C-8EAD7BE0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ACA-DC71-48A5-BAB5-C5DF3A92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EA9-35FA-4836-B2E2-A73F8ACD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E72-C2F8-41E5-ABA9-706EC307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893-16BE-48CB-9068-0CC5EA16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E7B-DFCC-46E8-AA93-FF297ABC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339-D2E2-4724-8EEE-B139E4F5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BFA-AB37-455B-817D-377148FE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046F-B54F-43C5-850C-08734C9C978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AD68-57FB-4070-90A2-DDDC2B8BC6E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56A – Diseño de Elementos de Máqu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38862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Engranajes Rectos y Helicoidale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5105520"/>
            <a:ext cx="62481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fesor: Roberto Corvalá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yudante: Felipe Figueroa G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ffiguero@ing.uchile.c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encia AG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flexió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picad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51200" y="2562120"/>
                <a:ext cx="3092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24240" y="4435560"/>
                <a:ext cx="3608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7242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828800"/>
            <a:ext cx="1676520" cy="304920"/>
          </a:xfrm>
          <a:prstGeom prst="borderCallout1">
            <a:avLst>
              <a:gd name="adj1" fmla="val 18750"/>
              <a:gd name="adj2" fmla="val -8333"/>
              <a:gd name="adj3" fmla="val 312500"/>
              <a:gd name="adj4" fmla="val -71495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31240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31481"/>
              <a:gd name="adj4" fmla="val -111356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fiabil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1524240" cy="343080"/>
          </a:xfrm>
          <a:prstGeom prst="borderCallout1">
            <a:avLst>
              <a:gd name="adj1" fmla="val 18750"/>
              <a:gd name="adj2" fmla="val -8333"/>
              <a:gd name="adj3" fmla="val -142592"/>
              <a:gd name="adj4" fmla="val 1495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4114800"/>
            <a:ext cx="990360" cy="343080"/>
          </a:xfrm>
          <a:prstGeom prst="borderCallout1">
            <a:avLst>
              <a:gd name="adj1" fmla="val 18750"/>
              <a:gd name="adj2" fmla="val -8333"/>
              <a:gd name="adj3" fmla="val 166666"/>
              <a:gd name="adj4" fmla="val -8445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urez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114800"/>
            <a:ext cx="1676160" cy="304920"/>
          </a:xfrm>
          <a:prstGeom prst="borderCallout1">
            <a:avLst>
              <a:gd name="adj1" fmla="val 18750"/>
              <a:gd name="adj2" fmla="val -8333"/>
              <a:gd name="adj3" fmla="val 197916"/>
              <a:gd name="adj4" fmla="val 1158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83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5240" y="1981080"/>
            <a:ext cx="636084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168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81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de Segur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factores de seguridad para cada caso quedan entonces com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90920" y="3124080"/>
                <a:ext cx="2847960" cy="31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35280" y="2709720"/>
                <a:ext cx="3897360" cy="32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e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Paso Diametra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Módulo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π</m:t>
                        </m:r>
                        <m:r>
                          <m:rPr>
                            <m:lit/>
                            <m:nor/>
                          </m:rPr>
                          <m:t xml:space="preserve">     Paso Circul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Relación de Velocidad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ás dientes es llamado corona o rueda. Subíndice 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enos dientes es llamado piñón. Subíndice 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24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1840" y="1752480"/>
                <a:ext cx="3878280" cy="441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Úti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 en unidades inglesa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81480" y="1828800"/>
                <a:ext cx="316404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Genera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T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105520" y="1828800"/>
            <a:ext cx="3276360" cy="3352680"/>
          </a:xfrm>
          <a:prstGeom prst="rect">
            <a:avLst/>
          </a:prstGeom>
          <a:noFill/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35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Ejemplo: Engranaje conectado a un motor de 2.5[kW] a 1750[rpm], diámetro de paso d=50[mm]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47920" y="3657600"/>
                <a:ext cx="6705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5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 Helicoid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254480" cy="449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121360" y="2209680"/>
                <a:ext cx="3778200" cy="30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presión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hél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uaciones de esfuerzo 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Dos ecuaciones fundamenta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el esfuerzo flexionante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la resistencia a la picadura (contacto)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28800" y="3124080"/>
                <a:ext cx="4648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5120" y="5105520"/>
                <a:ext cx="5103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jo con las Dim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0880" y="1905120"/>
                <a:ext cx="66294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767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lbf][1/in]/[in]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" y="3981600"/>
                <a:ext cx="6477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0988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56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psi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([lbf/in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)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523880"/>
            <a:ext cx="1447560" cy="419400"/>
          </a:xfrm>
          <a:prstGeom prst="borderCallout1">
            <a:avLst>
              <a:gd name="adj1" fmla="val 18750"/>
              <a:gd name="adj2" fmla="val -8333"/>
              <a:gd name="adj3" fmla="val 227652"/>
              <a:gd name="adj4" fmla="val 12237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Sobre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1486080"/>
            <a:ext cx="1295280" cy="3427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1176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467160"/>
            <a:ext cx="914400" cy="342720"/>
          </a:xfrm>
          <a:prstGeom prst="borderCallout1">
            <a:avLst>
              <a:gd name="adj1" fmla="val 18750"/>
              <a:gd name="adj2" fmla="val -8333"/>
              <a:gd name="adj3" fmla="val -144444"/>
              <a:gd name="adj4" fmla="val -5833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562040"/>
            <a:ext cx="1447920" cy="609840"/>
          </a:xfrm>
          <a:prstGeom prst="borderCallout1">
            <a:avLst>
              <a:gd name="adj1" fmla="val 18750"/>
              <a:gd name="adj2" fmla="val -8333"/>
              <a:gd name="adj3" fmla="val 81250"/>
              <a:gd name="adj4" fmla="val -263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spesor de A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3505320"/>
            <a:ext cx="1523880" cy="342720"/>
          </a:xfrm>
          <a:prstGeom prst="borderCallout1">
            <a:avLst>
              <a:gd name="adj1" fmla="val 18750"/>
              <a:gd name="adj2" fmla="val -8333"/>
              <a:gd name="adj3" fmla="val -111111"/>
              <a:gd name="adj4" fmla="val -30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56386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-136111"/>
              <a:gd name="adj4" fmla="val -2156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6095880"/>
            <a:ext cx="1524240" cy="609840"/>
          </a:xfrm>
          <a:prstGeom prst="borderCallout1">
            <a:avLst>
              <a:gd name="adj1" fmla="val 18750"/>
              <a:gd name="adj2" fmla="val -8333"/>
              <a:gd name="adj3" fmla="val -199740"/>
              <a:gd name="adj4" fmla="val -14481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4038480"/>
            <a:ext cx="1371600" cy="609840"/>
          </a:xfrm>
          <a:prstGeom prst="borderCallout1">
            <a:avLst>
              <a:gd name="adj1" fmla="val 18750"/>
              <a:gd name="adj2" fmla="val -8333"/>
              <a:gd name="adj3" fmla="val 52083"/>
              <a:gd name="adj4" fmla="val -46759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dición Superfic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2:41:44Z</dcterms:created>
  <dc:creator>Felipe Figueroa G.</dc:creator>
  <dc:description/>
  <dc:language>en-US</dc:language>
  <cp:lastModifiedBy>Felipe Figueroa</cp:lastModifiedBy>
  <dcterms:modified xsi:type="dcterms:W3CDTF">2005-10-25T01:20:10Z</dcterms:modified>
  <cp:revision>20</cp:revision>
  <dc:subject/>
  <dc:title>ME56A – Diseño de Elementos de Máquinas</dc:title>
</cp:coreProperties>
</file>