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E03-BBC5-4BA0-B555-502BBAB9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E1C-F0A9-4DFB-9819-4C69F3E1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37E-3620-42A8-8A0F-C00F583D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42B2-40DF-4A9A-BA1A-16956DCA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616E-0869-4F5B-B92D-6834C894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157C-6261-4463-A7F1-5A357E8C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3579-CB9E-44C2-8A44-1B2FD82B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0D6D-E0B4-4FE1-A786-646930B3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A8C3-2BA5-4F27-BC23-4C2B579A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846F-27A0-4D97-854B-B7D2CC00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A5A1-3325-483B-867E-4CFE48B1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91F-3373-4524-B2DD-AE5FDE22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F1C2-74F7-411A-AA74-3E6FFA29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D4D1-CF0F-47A3-B41C-6D87876A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3816-F1DC-4E1C-A568-021C9BFD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79F4-0FDE-4840-BE22-C2C44F95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32E2-5FDA-4CC7-9706-07AF11F9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42E-5FAE-488E-92EC-B7947130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741-3DBB-4242-B3F9-031F9FCB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661-A7C4-4531-A091-3C790880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342-B20D-4102-BCFB-65F9A394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5CC-592E-4DD0-8BFB-C2855E8F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FE6-D6DD-4B50-A29F-4638736E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591B-2A64-42AC-88BD-63EA44F6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7C79-F8AE-42CD-9B06-346DEF7F91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91C0-BFC5-43E0-9912-D31B1975F9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or: Roberto Corvalá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yudante: Darren Ledermann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lederma@cec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5273640"/>
            <a:ext cx="30481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rga básica Dinámica C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ste factor es un dato del rodamiento, se encuentra en tabla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rga dinámica equivalente P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pende de cada rodamiento y está en función de las fuerzas que actúan sobre el rodami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743200" y="4038480"/>
                <a:ext cx="3581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762120" y="4952880"/>
            <a:ext cx="7848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 = Carga Dinámica Equivalente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r = Carga Radial constante, real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 = Carga axial constante, real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 =  Coeficiente Radial del ro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= Coeficiente Axial del ro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Límites de Veloc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locidad de rotación afecta la vida del rod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ubricación y temperatura son relevantes al momento de definir la velocidad máxima de op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aplicaciones pesadas se debe ponderar la velocidad máxima especificada por un factor de corr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Límites de Veloc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3880" y="1503360"/>
            <a:ext cx="60199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jemplo de Catálog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543800" cy="6259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47242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Recomendaciones para el 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Shigley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bastará para resolver el ejerc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jalá tengan el catálogo SKF de la bibliot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copias del catálogo NO SON SUFICIENTES para todos los alumnos del curso. Por esto, se subirá a U-Cursos un extracto del catálogo para que tengan las tablas de rodamientos de b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nomenclatura del catálogo es diferente a la del Shigley. Se utilizará la del catá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mentos de máquina que permiten el giro de una pieza móvil en torno a una pieza fija con el menor roce po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s comunes: ejes, masas, elementos oscilantes, pol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629400" y="1617840"/>
            <a:ext cx="1428840" cy="2152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29400" y="3959280"/>
            <a:ext cx="14288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isten rodamientos de diversos tipos, según sea la aplicación en la cual serán utiliz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Bolas (Ball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illos (Roller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illos Cónicos (Tapered Roller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tra forma de Clasifica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amientos Rad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amientos Ax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17840"/>
            <a:ext cx="1428840" cy="2152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162920" y="1617840"/>
            <a:ext cx="1428480" cy="215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06520" y="3941640"/>
            <a:ext cx="1330200" cy="2189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211880" y="3941640"/>
            <a:ext cx="1330560" cy="2189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57400" y="22096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Bo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a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57200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 C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x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2209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a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58460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 Cónicos Do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x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rodamientos axiales soportan cargas puramente ax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rodamientos radiales soportan cargas puramente rad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damientos de ambos tipos pueden soportar un cierto grado de cargas combinadas, pero se favorece el uso de uno u otro tipo según la magnitud de las car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sten diversos parámetros a considerar al seleccionar un rod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basta con conocer las dimensiones de la pieza sobre la cual se montar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be conocer condiciones de operación, tanto las fuerzas que actúan como factores tales como temperatura, tolerancias, lubricació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o factor primario, se debe imponer una determinada ventana de uso del rod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iempo de uso se puede definir en horas como en millones de revoluciones, según sea el ca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uación Princip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286000" y="4648320"/>
                <a:ext cx="4343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6868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Duración nominal, millones de revolu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Lh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uración nominal, hora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Velocidad de rotación, [rp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 =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arga básica dinámica, [k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ga equivalente sobre el rodamiento, [k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/P =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eguridad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onente de duración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ara rodamientos de bolas,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10/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ara rodamientos de rod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0" y="1643040"/>
                <a:ext cx="4343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uracione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1165320"/>
          <a:ext cx="9144000" cy="5692680"/>
        </p:xfrm>
        <a:graphic>
          <a:graphicData uri="http://schemas.openxmlformats.org/drawingml/2006/table">
            <a:tbl>
              <a:tblPr/>
              <a:tblGrid>
                <a:gridCol w="7162920"/>
                <a:gridCol w="198108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máqu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h: horas de funciona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corto o intermitente cuando eventuales fallos no sean de graves consecuencias: Máquinas-herramienta manuales, máquinas domésticas, máquinas agrícolas, polipastos elevadores en talleres y grúas de fundicion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a 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intermitente, cuando eventuales  fallos sean de graves consecuenci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es eléctricos para equipo agrícola y para aparatos electrodomésticos de calefacción y refrigeración,  maquinaria auxiliar en centrales eléctricas, correas  transportadoras, ascensores, grúas de talleres  y máquinas-herramienta de poco us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 a 1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revistas para 8 horas de servicio diario 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mente utilizad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ores de velocidad para uso general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es eléctricos estacionario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 a 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0 a 2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revistas para 8 horas de servicio diario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mente utilizad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-herramienta, máquinas para trabajar la madera,  máquinas para la industria mecánica en general, grúas para  materiales a granel y ventilador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 a 3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continuo funcionando 24 horas al día: Compresores, bombas, motores eléctricos estacionarios y máquinas de extracción para mi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 a 6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amientos axiales en los ejes de las hélices en los buques, máquinas eléctricas estacionarias marinas, rodamientos para los ejes de transmisión en los buqu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 a 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24 horas de servicio con gran seguridad de funcionamient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la fabricación de papel y pasta de papel, máquinas para centrales eléctricas, máquinas para abastecimiento de aguas, bombas para min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01:57Z</dcterms:created>
  <dc:creator>Darren Ledermann</dc:creator>
  <dc:description/>
  <dc:language>en-US</dc:language>
  <cp:lastModifiedBy>Darren Ledermann</cp:lastModifiedBy>
  <dcterms:modified xsi:type="dcterms:W3CDTF">2005-05-04T02:20:33Z</dcterms:modified>
  <cp:revision>20</cp:revision>
  <dc:subject/>
  <dc:title>ME56A - Diseño de Elementos de Máquinas</dc:title>
</cp:coreProperties>
</file>