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9320" y="412740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7260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808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932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808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20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2040" y="96480"/>
            <a:ext cx="7153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260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9320" y="412740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260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808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932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808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20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32040" y="96480"/>
            <a:ext cx="7153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7260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oundRect">
            <a:avLst>
              <a:gd name="adj" fmla="val 1560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oundRect">
            <a:avLst>
              <a:gd name="adj" fmla="val 1560"/>
            </a:avLst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561960"/>
            <a:ext cx="154080" cy="1066680"/>
          </a:xfrm>
          <a:custGeom>
            <a:avLst/>
            <a:gdLst/>
            <a:ahLst/>
            <a:rect l="l" t="t" r="r" b="b"/>
            <a:pathLst>
              <a:path w="428" h="2964">
                <a:moveTo>
                  <a:pt x="427" y="2963"/>
                </a:moveTo>
                <a:lnTo>
                  <a:pt x="0" y="2963"/>
                </a:lnTo>
                <a:lnTo>
                  <a:pt x="0" y="0"/>
                </a:lnTo>
                <a:lnTo>
                  <a:pt x="4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424" h="2982">
                <a:moveTo>
                  <a:pt x="0" y="0"/>
                </a:moveTo>
                <a:lnTo>
                  <a:pt x="423" y="0"/>
                </a:lnTo>
                <a:lnTo>
                  <a:pt x="423" y="2981"/>
                </a:lnTo>
                <a:lnTo>
                  <a:pt x="0" y="2981"/>
                </a:ln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8120" indent="-4381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5160" indent="-43344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76200" indent="-3974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59600" indent="-3787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4440" indent="-383400"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444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444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914400"/>
            <a:ext cx="8681760" cy="2509920"/>
            <a:chOff x="0" y="914400"/>
            <a:chExt cx="8681760" cy="2509920"/>
          </a:xfrm>
        </p:grpSpPr>
        <p:sp>
          <p:nvSpPr>
            <p:cNvPr id="43" name=""/>
            <p:cNvSpPr/>
            <p:nvPr/>
          </p:nvSpPr>
          <p:spPr>
            <a:xfrm>
              <a:off x="228240" y="914400"/>
              <a:ext cx="2513880" cy="250992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675800"/>
              <a:ext cx="4721760" cy="1142280"/>
            </a:xfrm>
            <a:prstGeom prst="roundRect">
              <a:avLst>
                <a:gd name="adj" fmla="val 139"/>
              </a:avLst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60000" y="1675800"/>
              <a:ext cx="4721760" cy="1142280"/>
            </a:xfrm>
            <a:prstGeom prst="roundRect">
              <a:avLst>
                <a:gd name="adj" fmla="val 1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120" y="1523520"/>
              <a:ext cx="228240" cy="1446840"/>
            </a:xfrm>
            <a:custGeom>
              <a:avLst/>
              <a:gdLst/>
              <a:ahLst/>
              <a:rect l="l" t="t" r="r" b="b"/>
              <a:pathLst>
                <a:path w="636" h="4022">
                  <a:moveTo>
                    <a:pt x="635" y="4021"/>
                  </a:moveTo>
                  <a:lnTo>
                    <a:pt x="0" y="4021"/>
                  </a:lnTo>
                  <a:lnTo>
                    <a:pt x="0" y="0"/>
                  </a:lnTo>
                  <a:lnTo>
                    <a:pt x="635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42240" y="1209240"/>
              <a:ext cx="261720" cy="1369080"/>
            </a:xfrm>
            <a:custGeom>
              <a:avLst/>
              <a:gdLst/>
              <a:ahLst/>
              <a:rect l="l" t="t" r="r" b="b"/>
              <a:pathLst>
                <a:path w="728" h="3807">
                  <a:moveTo>
                    <a:pt x="0" y="0"/>
                  </a:moveTo>
                  <a:lnTo>
                    <a:pt x="727" y="0"/>
                  </a:lnTo>
                  <a:lnTo>
                    <a:pt x="727" y="3806"/>
                  </a:lnTo>
                  <a:lnTo>
                    <a:pt x="0" y="3806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442880"/>
            <a:ext cx="7081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-43812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9160" indent="-401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76520" indent="-38268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65320" indent="-387360"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6532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6532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56A –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4800" spc="-1" strike="noStrike">
                <a:solidFill>
                  <a:srgbClr val="292929"/>
                </a:solidFill>
                <a:latin typeface="Arial"/>
              </a:rPr>
              <a:t>Unione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Profesor: Roberto Corval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Ayudante: Felipe Figueroa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(ffiguero@ing.uchile.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ctor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8120" indent="-4381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La fracción de la carga P soportada por el perno está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00440" y="3124080"/>
                <a:ext cx="29336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954000" y="5334120"/>
            <a:ext cx="765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11480" indent="-411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  <a:ea typeface="Arial Unicode MS"/>
              </a:rPr>
              <a:t>El perno se diseña en función de la carga F</a:t>
            </a:r>
            <a:r>
              <a:rPr b="0" lang="es-ES_tradnl" sz="3200" spc="-1" strike="noStrike" baseline="-25000">
                <a:solidFill>
                  <a:srgbClr val="292929"/>
                </a:solidFill>
                <a:latin typeface="Arial"/>
                <a:ea typeface="Arial Unicode MS"/>
              </a:rPr>
              <a:t>b</a:t>
            </a:r>
            <a:r>
              <a:rPr b="0" lang="es-ES_tradnl" sz="3200" spc="-1" strike="noStrike">
                <a:solidFill>
                  <a:srgbClr val="292929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64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gidez del P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362320" y="2743200"/>
                <a:ext cx="3429000" cy="34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Parte Con Hilo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Parte Sin Hilo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rigidez del perno está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64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gidez De Los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ay una distribución de la carga en los elementos unidos, denominada cono de presión de Rotsch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3851280"/>
            <a:ext cx="78753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64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gidez de los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9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l ángulo del cono se toma igual a 30º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a rigidez de un elemento esta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229280" y="3254400"/>
                <a:ext cx="72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43000" y="3809880"/>
                <a:ext cx="699912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igidez de los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8080" y="2050920"/>
                <a:ext cx="7696440" cy="33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es el diámetro inicial del con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 general es igual a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es el ángulo del cono, se toma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mento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igidez de 2 Elementos Idén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29480" indent="-4294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i se consideran solo dos elementos a unir, de igual material y espesor, espalda con espalda y asumimos que d</a:t>
            </a:r>
            <a:r>
              <a:rPr b="0" lang="es-ES_tradnl" sz="3200" spc="-1" strike="noStrike" baseline="-25000">
                <a:solidFill>
                  <a:srgbClr val="292929"/>
                </a:solidFill>
                <a:latin typeface="Arial"/>
              </a:rPr>
              <a:t>w</a:t>
            </a: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=1.5d obtenemos qu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14400" y="4114800"/>
                <a:ext cx="73152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7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7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igidez de 2 Elementos Idén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También para este caso se puede utilizar la regresió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3124080"/>
                <a:ext cx="38098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43000" y="4495680"/>
            <a:ext cx="67057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carga y Par de 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5146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ara un tornillo apretado con un torque T, su precarga está dada p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04920" y="3657600"/>
                <a:ext cx="5257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240360" cy="4145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3520" y="4521240"/>
            <a:ext cx="4876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carga y Par de 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l término es parentesis cuadrado se denomina </a:t>
            </a:r>
            <a:r>
              <a:rPr b="0" i="1" lang="es-ES_tradnl" sz="3200" spc="-1" strike="noStrike">
                <a:solidFill>
                  <a:srgbClr val="292929"/>
                </a:solidFill>
                <a:latin typeface="Arial"/>
              </a:rPr>
              <a:t>coeficiente de par de torsión, K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8006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a de Pru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292929"/>
                </a:solidFill>
                <a:latin typeface="Arial"/>
              </a:rPr>
              <a:t>esfuerzo de prueba S</a:t>
            </a:r>
            <a:r>
              <a:rPr b="0" i="1" lang="es-ES_tradnl" sz="28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r>
              <a:rPr b="0" lang="es-ES_tradnl" sz="2800" spc="-1" strike="noStrike" baseline="-25000">
                <a:solidFill>
                  <a:srgbClr val="29292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se define como el esfuerzo aplicado sobre el perno que garantiza que no habrá fluencia con un 99% de certeza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La fracción de la carga de prueba utilizada por la precarga se denomina como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0760" y="4800600"/>
                <a:ext cx="3989520" cy="17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47712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a de Pru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La fracción del esfuerzo de prueba que siente el perno está dado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295280" y="3657600"/>
                <a:ext cx="650268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a de Pru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La ecuación de diseño para cargas estáticas queda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20800" y="3306600"/>
                <a:ext cx="5094360" cy="19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e sabe que la resistencia a la fatiga de una probeta sometida a un ensayo de tensión con viga rotativa esta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3520" y="4262400"/>
                <a:ext cx="8153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6</m:t>
                                  </m:r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T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,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8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{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4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a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74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UTS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4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a</m:t>
                            </m:r>
                          </m:e>
                        </m:d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Para una geometría y tipo de carga determinada, la resistencia a la fatiga está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82720" y="4084560"/>
                <a:ext cx="54244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Para pernos, la resistencia a la fatiga corregida está tabulad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80010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Para una carga oscilante podemos definir las cantidade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38080" y="3233880"/>
                <a:ext cx="746784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P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Los criterios de falla utilizados para estos casos so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-43812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Goodma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-43812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ASME Elíptico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905120" y="3505320"/>
                <a:ext cx="205740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676520" y="5029200"/>
                <a:ext cx="3154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espejando el factor de seguridad para fatiga en Goodman, sabiendo qu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e obtiene qu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362320" y="3048120"/>
                <a:ext cx="1676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00200" y="4603680"/>
                <a:ext cx="310500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sca métrica M y M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Figura 8-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670040"/>
            <a:ext cx="7391520" cy="62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ámetros del P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vance, </a:t>
            </a:r>
            <a:r>
              <a:rPr b="0" i="1" lang="en-GB" sz="3200" spc="-1" strike="noStrike">
                <a:solidFill>
                  <a:srgbClr val="292929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: cuanto se mueve axialmente el perno después de un giro de 360º. Cuando hay solo un hilo l=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Paso, </a:t>
            </a:r>
            <a:r>
              <a:rPr b="0" i="1" lang="en-GB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: Distancia entre dos cuerdas adyacent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Área de Esfuerzo de Tensión, </a:t>
            </a:r>
            <a:r>
              <a:rPr b="0" i="1" lang="en-GB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i="1" lang="en-GB" sz="3200" spc="-1" strike="noStrike" baseline="-33000">
                <a:solidFill>
                  <a:srgbClr val="292929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: área equivalente para un ensayo de tracción de un perno sin hil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ámetros del P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0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Largo zona con hilo, L</a:t>
            </a:r>
            <a:r>
              <a:rPr b="0" lang="en-GB" sz="2800" spc="-1" strike="noStrike" baseline="-33000">
                <a:solidFill>
                  <a:srgbClr val="292929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392120" y="2849400"/>
                <a:ext cx="6553440" cy="236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L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t xml:space="preserve">∧</m:t>
                              </m:r>
                              <m:r>
                                <m:t xml:space="preserve">D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8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125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L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L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012680" y="5403960"/>
            <a:ext cx="6996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84160" indent="-438120">
              <a:lnSpc>
                <a:spcPct val="93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1002816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  <a:ea typeface="Arial Unicode MS"/>
              </a:rPr>
              <a:t>Todas las medidas están en mm. (Serie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401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10028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no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as roscas (o hilos) para la serie métrica se denominan escribiendo el diámetro y el paso en milímetros, en ese ord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j: M8x1.25 =&gt; d=8[mm], p=1.25[mm]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álisis de Fuerz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0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El perno proporciona una fuerza para mantener la unión debido a su elongación. Dicha elongación es causada por el apriete de és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La fuerza causada por esta elongación se conoce como </a:t>
            </a:r>
            <a:r>
              <a:rPr b="0" i="1" lang="en-GB" sz="2400" spc="-1" strike="noStrike" u="sng">
                <a:solidFill>
                  <a:srgbClr val="292929"/>
                </a:solidFill>
                <a:uFillTx/>
                <a:latin typeface="Arial"/>
              </a:rPr>
              <a:t>precarga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, o F</a:t>
            </a:r>
            <a:r>
              <a:rPr b="0" lang="en-GB" sz="2400" spc="-1" strike="noStrike" baseline="-33000">
                <a:solidFill>
                  <a:srgbClr val="29292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La precarga está presente después del apriete, sin importar que no hayan fuerzas externas aplicadas a la unió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álisis de Fuerz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447920" y="2076480"/>
                <a:ext cx="266544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694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uerzas Resul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4647960"/>
            <a:ext cx="392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La fuerza resultante en el perno 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La fuerza resultante en la unión 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173480" y="4616280"/>
                <a:ext cx="467208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44800" y="1643040"/>
            <a:ext cx="2693880" cy="27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114800" y="5607000"/>
                <a:ext cx="4813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lipe Figueroa G.</cp:lastModifiedBy>
  <dcterms:modified xsi:type="dcterms:W3CDTF">2005-09-06T14:42:29Z</dcterms:modified>
  <cp:revision>19</cp:revision>
  <dc:subject/>
  <dc:title>ME56A – Diseño de Elementos de Máquinas</dc:title>
</cp:coreProperties>
</file>