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7524-7FBA-44AD-8C47-F4CE69E9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B5C-3284-4AE4-A94E-EA5590E6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E84C-E118-4218-A695-E0F09383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161-29C4-44B6-8506-487A84EB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13A6-A3CA-484A-BD8F-586C75CB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40F2-0414-463F-B17B-6C8946FF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14C5-EEC9-4DF5-9E89-C5D95889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CDF2-8557-4F11-90DD-D0EC8F48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D2DC-3915-45A3-9ABA-1A31A717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10BC-1B37-483C-ACA4-1421AC01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FBD3-B4DF-4E23-ADA0-C7A8C519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7C5-E292-4E24-9BAB-49FD4FDE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075F-E22A-43EB-A37A-BCD5E47F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09C0-0C2E-4B55-9841-8B9AF08C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DDFD-7B8F-47AA-BA78-63FB7B19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11ED-D3EF-4455-8941-24C9BECC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0EDB-51C4-4A51-A9FB-C6EB195E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50B-2109-46F4-8D3B-9E2A042A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191A-F197-4A5A-8996-684EDDA5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951-BEB8-467A-ADCE-FDABA44A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DBD-E230-4C20-8FEE-AD504FC3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E47-29E3-4DE1-99FE-F1274A69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0F2-D9F0-4693-AA76-25BE2229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CEC-E2E9-4F19-AAD3-CE398B2B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070"/>
              </a:gs>
              <a:gs pos="100000">
                <a:srgbClr val="0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8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68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783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b5cd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ce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B55A-EB77-4868-A28F-4FF3433D5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8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68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783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5580-DC9A-416B-8EBC-42318476E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5b5cd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ace9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Presentación Metalurgia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General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tegrantes:         Daniel Tarnok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rancisca Jal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or:          Oscar Bu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echa:                  15/11/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038480" cy="1830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3280" y="3068640"/>
            <a:ext cx="4038840" cy="2395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71640" y="2349360"/>
            <a:ext cx="19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rusión Dire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22880" y="23493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rusión inver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solución Problem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azón de extrusión: R=A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/A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fuerzo verdadero: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=ln(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ergía disipada en deformación plástica por unidad de volume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Luego el trabajo realizado en la pieza de trabajo por deformación plástica 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=A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c*u=A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c*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 ln(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ste trabajo, es realizado por la fuerza neta externa: W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=F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rza fricción: F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τ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*w*t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 criterio de Tresca: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τ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terminación de la fuerza net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=F-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t*w/4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gualando los trabajos realizados se obtie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-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t*w/4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=A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ln(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sfuerzo máximo en la herramient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=F/(2*t*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ondición límite de operación: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on lo que se obtien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2*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t*w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*-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t*w/4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=A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ln(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o sabemos además que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=3*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on lo que: Rmax=exp(5,75*t/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5:17:40Z</dcterms:created>
  <dc:creator>fjalil</dc:creator>
  <dc:description/>
  <dc:language>en-US</dc:language>
  <cp:lastModifiedBy>fjalil</cp:lastModifiedBy>
  <dcterms:modified xsi:type="dcterms:W3CDTF">2005-11-15T16:51:33Z</dcterms:modified>
  <cp:revision>3</cp:revision>
  <dc:subject/>
  <dc:title>Presentación Metalurgia General</dc:title>
</cp:coreProperties>
</file>