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C9E8-CD39-4B45-8A60-E74022F85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05E5-105E-467F-BD9E-574503B5D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3F84-7911-45A9-A275-47FA8B584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32FA-8C65-41E5-B48B-80A83501E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55339-6D6E-4294-B85F-DC917E255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EDBC4-D549-438C-859D-660F2E1F3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1BE22-C8BF-4E1D-8096-5AC90F79E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7C227-5CBE-4FD7-A1FE-422DE87BC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5BAB2-AF52-4D46-AAF3-8874A1EBC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CBC04-1E54-413C-851F-D4BC7D4BC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51D37-68C4-4F6C-8377-4BCFEBEA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9802-478C-470B-ACFD-F964BC144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B4A86-DDAB-4FF8-A273-894968FB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92DB4-3CE3-4200-A8C6-456A3F60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A84C8-FE4B-4EC7-91D4-A1B37C63C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4204E-B1CE-46E6-84ED-5EE4747CC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1B273-3907-4173-A260-DD90DA4F8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0A77-C5F0-4699-846D-8D6072A22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9ABD-79C1-4E17-8683-07E54B88F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26E4-39B0-47CB-A50E-56A732851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AE55-A461-4DF1-8465-4CD92190E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C961-A57F-4B4A-9A75-AEE1F633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F07F-7220-4639-A7AA-7A0F6E2A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D8BE-F8E7-4283-991F-1847C7C5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070"/>
              </a:gs>
              <a:gs pos="100000">
                <a:srgbClr val="00808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47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474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7b7b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878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c6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07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474"/>
                  </a:gs>
                  <a:gs pos="100000">
                    <a:srgbClr val="00808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070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878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07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070"/>
                  </a:gs>
                  <a:gs pos="100000">
                    <a:srgbClr val="00808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47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070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878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070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474"/>
                  </a:gs>
                  <a:gs pos="100000">
                    <a:srgbClr val="00808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474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474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c6c"/>
                  </a:gs>
                  <a:gs pos="100000">
                    <a:srgbClr val="00808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474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8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07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07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07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383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383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686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7838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383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383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383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878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7b7b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6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6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6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6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6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6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6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66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80"/>
                    </a:gs>
                    <a:gs pos="100000">
                      <a:srgbClr val="0066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66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80"/>
                    </a:gs>
                    <a:gs pos="100000">
                      <a:srgbClr val="0066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5b5cd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ace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4D5B0-FDD7-411A-A0B1-AA3D0129FB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47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474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7b7b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878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c6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07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474"/>
                  </a:gs>
                  <a:gs pos="100000">
                    <a:srgbClr val="00808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070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878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07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070"/>
                  </a:gs>
                  <a:gs pos="100000">
                    <a:srgbClr val="00808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47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070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878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070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474"/>
                  </a:gs>
                  <a:gs pos="100000">
                    <a:srgbClr val="00808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474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474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c6c"/>
                  </a:gs>
                  <a:gs pos="100000">
                    <a:srgbClr val="00808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474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8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07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07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07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383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383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686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7838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383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383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383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878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7b7b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6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6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6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6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6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6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6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66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80"/>
                    </a:gs>
                    <a:gs pos="100000">
                      <a:srgbClr val="0066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66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80"/>
                    </a:gs>
                    <a:gs pos="100000">
                      <a:srgbClr val="0066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265E7-5D61-42BF-8045-BDCF8F13CB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08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5b5cd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ace9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Presentación Metalurgia</a:t>
            </a:r>
            <a:br>
              <a:rPr sz="5400"/>
            </a:b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General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ntegrantes:         Daniel Tarnok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Francisca Jal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fesor:          Oscar Bus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Fecha:                  15/11/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nunciad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68360" y="3357720"/>
            <a:ext cx="4038480" cy="18302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4643280" y="3068640"/>
            <a:ext cx="4038840" cy="23954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971640" y="2349360"/>
            <a:ext cx="192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rusión Direc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222880" y="234936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rusión inver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Resolución Problem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Razón de extrusión: R=A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/A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fuerzo verdadero: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ε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v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=ln(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nergía disipada en deformación plástica por unidad de volumen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u=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y</a:t>
            </a:r>
            <a:r>
              <a:rPr b="0" lang="es-ES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pt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*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ε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Luego el trabajo realizado en la pieza de trabajo por deformación plástica 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=A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*c*u=A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*c*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y</a:t>
            </a:r>
            <a:r>
              <a:rPr b="0" lang="es-ES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pt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* ln(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Este trabajo, es realizado por la fuerza neta externa: W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h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=F</a:t>
            </a:r>
            <a:r>
              <a:rPr b="0" lang="es-ES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*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Fuerza fricción: F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τ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f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*w*t/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r criterio de Tresca: 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τ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f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=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y</a:t>
            </a:r>
            <a:r>
              <a:rPr b="0" lang="es-ES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pt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/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eterminación de la fuerza neta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s-ES" sz="32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=F-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y</a:t>
            </a:r>
            <a:r>
              <a:rPr b="0" lang="es-ES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pt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*t*w/4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gualando los trabajos realizados se obtien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F-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y</a:t>
            </a:r>
            <a:r>
              <a:rPr b="0" lang="es-ES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pt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*t*w/4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=A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y</a:t>
            </a:r>
            <a:r>
              <a:rPr b="0" lang="es-ES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pt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*ln(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8229600" cy="55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Esfuerzo máximo en la herramienta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h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=F/(2*t*w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Condición límite de operación: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h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=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y</a:t>
            </a:r>
            <a:r>
              <a:rPr b="0" lang="es-ES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Con lo que se obtien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2*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y</a:t>
            </a:r>
            <a:r>
              <a:rPr b="0" lang="es-ES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h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*t*w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*-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y</a:t>
            </a:r>
            <a:r>
              <a:rPr b="0" lang="es-ES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pt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*t*w/4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=A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y</a:t>
            </a:r>
            <a:r>
              <a:rPr b="0" lang="es-ES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pt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*ln(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ero sabemos además que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y</a:t>
            </a:r>
            <a:r>
              <a:rPr b="0" lang="es-ES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h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=3*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y</a:t>
            </a:r>
            <a:r>
              <a:rPr b="0" lang="es-ES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Con lo que: Rmax=exp(5,75*t/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15:17:40Z</dcterms:created>
  <dc:creator>fjalil</dc:creator>
  <dc:description/>
  <dc:language>en-US</dc:language>
  <cp:lastModifiedBy>fjalil</cp:lastModifiedBy>
  <dcterms:modified xsi:type="dcterms:W3CDTF">2005-11-15T16:51:33Z</dcterms:modified>
  <cp:revision>3</cp:revision>
  <dc:subject/>
  <dc:title>Presentación Metalurgia General</dc:title>
</cp:coreProperties>
</file>