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D13-C5CB-4D34-9569-04B55FD3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AC3-ECA1-4250-A686-AD1593C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934-3890-4EBB-9FB7-15A52371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A4A-0099-4D14-89AB-9A9980AD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6D3-41CB-49A9-A696-95D1F725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543-AAA3-4D3D-930C-3122C9E1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905-F19D-4258-9B7B-B8A5492E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F59-F6FD-4ECE-A256-3BF0C722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59E-4C13-453E-8D6E-6B9C467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CE1-A4E4-4D31-98C3-63C654B3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018-DDE1-486B-9F32-5CC51BC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EEF-B897-4346-A6C4-1D2FC877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D2A9-C80A-43F0-97F8-E78811F12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sentación Tarea ME4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berto Est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rnando H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e noviembre d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005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rofeso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Oscar Bu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10861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barra cilíndrica de acero de largo 10’’ y 2’’ de diámetro es cubierta por una delgada capa de plomo, la cual está fuertemente adherida a la superficie cilíndrica de la barra. Una fuerza axial F y un momento de torsión M son aplicados al cilindro, el momento es constante e igual a M=G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*F*R/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nte todo el tiempo de carga, donde R es el radio del cilind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3933720"/>
            <a:ext cx="79200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734080"/>
            <a:ext cx="79200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407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084640"/>
            <a:ext cx="576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221000"/>
            <a:ext cx="0" cy="1656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292640"/>
            <a:ext cx="0" cy="1655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4292640"/>
            <a:ext cx="0" cy="1655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4292640"/>
            <a:ext cx="0" cy="1655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4221000"/>
            <a:ext cx="0" cy="1656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43280" y="364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602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472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4720" y="623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5840" y="465300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pa de pl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32360" y="3860640"/>
            <a:ext cx="43164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4160" y="36450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=1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56360" y="4437000"/>
                <a:ext cx="19209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220000" y="558972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=10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5400" y="3848040"/>
            <a:ext cx="295200" cy="173160"/>
          </a:xfrm>
          <a:custGeom>
            <a:avLst/>
            <a:gdLst/>
            <a:ahLst/>
            <a:rect l="l" t="t" r="r" b="b"/>
            <a:pathLst>
              <a:path w="186" h="109">
                <a:moveTo>
                  <a:pt x="48" y="0"/>
                </a:moveTo>
                <a:cubicBezTo>
                  <a:pt x="14" y="7"/>
                  <a:pt x="11" y="10"/>
                  <a:pt x="0" y="42"/>
                </a:cubicBezTo>
                <a:cubicBezTo>
                  <a:pt x="11" y="74"/>
                  <a:pt x="47" y="92"/>
                  <a:pt x="78" y="102"/>
                </a:cubicBezTo>
                <a:cubicBezTo>
                  <a:pt x="150" y="96"/>
                  <a:pt x="154" y="109"/>
                  <a:pt x="186" y="60"/>
                </a:cubicBezTo>
                <a:cubicBezTo>
                  <a:pt x="179" y="11"/>
                  <a:pt x="176" y="0"/>
                  <a:pt x="12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6058080"/>
            <a:ext cx="306360" cy="187200"/>
          </a:xfrm>
          <a:custGeom>
            <a:avLst/>
            <a:gdLst/>
            <a:ahLst/>
            <a:rect l="l" t="t" r="r" b="b"/>
            <a:pathLst>
              <a:path w="193" h="118">
                <a:moveTo>
                  <a:pt x="180" y="42"/>
                </a:moveTo>
                <a:cubicBezTo>
                  <a:pt x="192" y="77"/>
                  <a:pt x="193" y="87"/>
                  <a:pt x="156" y="96"/>
                </a:cubicBezTo>
                <a:cubicBezTo>
                  <a:pt x="24" y="89"/>
                  <a:pt x="46" y="118"/>
                  <a:pt x="0" y="48"/>
                </a:cubicBezTo>
                <a:cubicBezTo>
                  <a:pt x="8" y="24"/>
                  <a:pt x="15" y="14"/>
                  <a:pt x="36" y="0"/>
                </a:cubicBezTo>
                <a:cubicBezTo>
                  <a:pt x="68" y="6"/>
                  <a:pt x="56" y="6"/>
                  <a:pt x="7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2160" y="602136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2160" y="37162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uerza y el momento en la capa de plomo son insignificantes comparadas con la fuerza y el momento en la barra de a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lomo es perfectamente plástico rígido, es decir, no hay tensión elástica y tampoco trabajo de endure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ensión en la capa de plomo es unifor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módulo de Young para el acero es E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3x10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7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si, el módulo de rigidez es G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1,1x10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si, y el módulo de Poisson es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 es el incremento de deformación plástica en el plomo al aumentar la fuerza de F a F + d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 es la distribución del esfuerzo en la capa de plomo luego del aumento en la fuer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0145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dε=dσ/E+(2/3)σdλ  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dγ=dτ/2G+ σdλ  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Criterio de Von Mises                                       σ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 3τ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 = Y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  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De (1),(2) y (3) se obtiene la sgte re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3dL/rdφ=σ/τ+(L/r)(3dσ/Edφ-σdτ/τGd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Utilizando la aproximación E=3G obten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3dL/rdφ=σ/τ-(Y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L/Gσr)(1/τ)(dτ/d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Como τ=cte en la zona plástica, entonces (dτ/dφ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=&gt;3dL/rdφ=σ/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or otro lado sabemo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τ=2Mr/π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Garamond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ero como M=GRF/2E </a:t>
            </a:r>
            <a:r>
              <a:rPr b="0" lang="es-ES" sz="2800" spc="-1" strike="noStrike">
                <a:solidFill>
                  <a:srgbClr val="009999"/>
                </a:solidFill>
                <a:latin typeface="Garamond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(a) con (b) =&gt;  τ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/2r=(GR/2E)F/π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y como F/π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=F/A=σ nos queda qu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σ/τ=RE/Gr </a:t>
            </a:r>
            <a:r>
              <a:rPr b="0" lang="es-ES" sz="2800" spc="-1" strike="noStrike">
                <a:solidFill>
                  <a:srgbClr val="009999"/>
                </a:solidFill>
                <a:latin typeface="Garamond"/>
              </a:rPr>
              <a:t>(c)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Usando el criterio de Von M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 3τ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 = Y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c) con (d)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τ=Gr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=RE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i evaluamos para r=R, nos que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τ=G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=E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Usando que 3G=E y reemplazando en (e) y (f) nos que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τ=(3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Y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=(3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Y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akrabarty,J. “Theory of Plastic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erdinard Beer. “Mechanics of Materi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9:01Z</dcterms:created>
  <dc:creator>restay</dc:creator>
  <dc:description/>
  <dc:language>en-US</dc:language>
  <cp:lastModifiedBy>restay</cp:lastModifiedBy>
  <dcterms:modified xsi:type="dcterms:W3CDTF">2005-11-15T17:27:34Z</dcterms:modified>
  <cp:revision>3</cp:revision>
  <dc:subject/>
  <dc:title>Tarea ME42A</dc:title>
</cp:coreProperties>
</file>