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.wmf" ContentType="image/x-wmf"/>
  <Override PartName="/ppt/media/image27.wmf" ContentType="image/x-wmf"/>
  <Override PartName="/ppt/media/image22.jpeg" ContentType="image/jpeg"/>
  <Override PartName="/ppt/media/image42.wmf" ContentType="image/x-wmf"/>
  <Override PartName="/ppt/media/image28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26.wmf" ContentType="image/x-wmf"/>
  <Override PartName="/ppt/media/image46.jpeg" ContentType="image/jpeg"/>
  <Override PartName="/ppt/media/image15.jpeg" ContentType="image/jpeg"/>
  <Override PartName="/ppt/media/image25.wmf" ContentType="image/x-wmf"/>
  <Override PartName="/ppt/media/image1.png" ContentType="image/png"/>
  <Override PartName="/ppt/media/image24.jpeg" ContentType="image/jpeg"/>
  <Override PartName="/ppt/media/image14.png" ContentType="image/png"/>
  <Override PartName="/ppt/media/image33.png" ContentType="image/png"/>
  <Override PartName="/ppt/media/image34.jpeg" ContentType="image/jpeg"/>
  <Override PartName="/ppt/media/image40.wmf" ContentType="image/x-wmf"/>
  <Override PartName="/ppt/media/image31.jpeg" ContentType="image/jpeg"/>
  <Override PartName="/ppt/media/image9.wmf" ContentType="image/x-wmf"/>
  <Override PartName="/ppt/media/image39.wmf" ContentType="image/x-wmf"/>
  <Override PartName="/ppt/media/image41.wmf" ContentType="image/x-wmf"/>
  <Override PartName="/ppt/media/image38.jpeg" ContentType="image/jpeg"/>
  <Override PartName="/ppt/media/image44.jpeg" ContentType="image/jpeg"/>
  <Override PartName="/ppt/media/image32.png" ContentType="image/png"/>
  <Override PartName="/ppt/media/image36.jpeg" ContentType="image/jpeg"/>
  <Override PartName="/ppt/media/image43.wmf" ContentType="image/x-wmf"/>
  <Override PartName="/ppt/media/image45.jpeg" ContentType="image/jpeg"/>
  <Override PartName="/ppt/media/image13.wmf" ContentType="image/x-wmf"/>
  <Override PartName="/ppt/media/image5.png" ContentType="image/png"/>
  <Override PartName="/ppt/media/image8.wmf" ContentType="image/x-wmf"/>
  <Override PartName="/ppt/media/image3.jpeg" ContentType="image/jpeg"/>
  <Override PartName="/ppt/media/image30.png" ContentType="image/png"/>
  <Override PartName="/ppt/media/image37.jpeg" ContentType="image/jpeg"/>
  <Override PartName="/ppt/media/image12.wmf" ContentType="image/x-wmf"/>
  <Override PartName="/ppt/media/image4.png" ContentType="image/png"/>
  <Override PartName="/ppt/media/image7.wmf" ContentType="image/x-wmf"/>
  <Override PartName="/ppt/media/image20.jpeg" ContentType="image/jpeg"/>
  <Override PartName="/ppt/media/image11.wmf" ContentType="image/x-wmf"/>
  <Override PartName="/ppt/media/image6.wmf" ContentType="image/x-wmf"/>
  <Override PartName="/ppt/media/image19.jpeg" ContentType="image/jpeg"/>
  <Override PartName="/ppt/media/image35.jpeg" ContentType="image/jpeg"/>
  <Override PartName="/ppt/media/image10.png" ContentType="image/png"/>
  <Override PartName="/ppt/media/image2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E33D-0C80-4550-B153-1C68B35A0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9E59-A477-4CBC-BDEF-CD00E5EB1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A420-871F-4A15-9501-244771CE4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8F5E-BCCD-4625-99C7-4E79C33B2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15F93-5412-470E-9CCE-6F8CE2220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5F427-0B93-40E7-8588-7FB2AFCA9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3E2B5-9754-4705-B172-56371437A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027AF-CF38-46C8-8F6D-364727A31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8054B-BD43-4CEA-B1AB-C7CFB48A4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D2D73-0DDC-4CB0-983A-A57608363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D3BA5-AC1F-4197-B84A-5F7C3696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E614-9455-4937-9E25-CEEB15C31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1E2E0-26D6-45FF-AEFA-75491A30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69528-9D61-4F8F-8926-495163A0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DFD3D-784E-43C4-9F4F-02892311C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4B103-2875-4EDE-ACE0-8979DC3C7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6F848-D86A-42D7-9A98-B5A77EA6A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B16C-EFF1-421D-9DC9-6782F0F8E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2E71-3ADD-444F-9D40-D815DF0EC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41B5-426C-431D-BDDA-11748B927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8D74-AA8D-4BC0-B1E8-280794E85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95F1-14D5-4EE4-8968-BB758386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F1BD-D73F-4445-BCFB-E992FE6D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2939-B1EA-400E-9A56-4B186D69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8257F-2934-4CEC-83AE-5A88A1F199B5}" type="slidenum">
              <a:rPr b="0" lang="es-MX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06389-D83D-436D-838C-A07EB1E2AD5B}" type="slidenum">
              <a:rPr b="0" lang="es-MX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000" y="1125000"/>
            <a:ext cx="822636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ff9900"/>
                </a:solidFill>
                <a:latin typeface="Arial"/>
              </a:rPr>
              <a:t>Propiedades Mecánica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320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eaeaea"/>
                </a:solidFill>
                <a:latin typeface="Arial"/>
              </a:rPr>
              <a:t>Ensayos de Tracción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9900"/>
                </a:solidFill>
                <a:latin typeface="Arial"/>
              </a:rPr>
              <a:t>Modulo de You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1835280" y="2349360"/>
                <a:ext cx="5688000" cy="20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Eε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9900"/>
                </a:solidFill>
                <a:latin typeface="Arial"/>
              </a:rPr>
              <a:t>Módulo de elasticidad (módulo de Young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55760" y="1598760"/>
          <a:ext cx="8226360" cy="4497120"/>
        </p:xfrm>
        <a:graphic>
          <a:graphicData uri="http://schemas.openxmlformats.org/drawingml/2006/table">
            <a:tbl>
              <a:tblPr/>
              <a:tblGrid>
                <a:gridCol w="2892240"/>
                <a:gridCol w="1003320"/>
                <a:gridCol w="1012680"/>
                <a:gridCol w="1079640"/>
                <a:gridCol w="1152720"/>
                <a:gridCol w="1085760"/>
              </a:tblGrid>
              <a:tr h="852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Material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1" lang="es-ES_tradnl" sz="24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mb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77 K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700 K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810 K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22 K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cero al Carbono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07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86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55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34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24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cero inoxidable austenítico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93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76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59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55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45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leaciones de titanio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4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7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74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leaciones de aluminio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1908360" y="2599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Arial"/>
              </a:rPr>
              <a:t>Resiliencia</a:t>
            </a:r>
            <a:r>
              <a:rPr b="0" lang="es-MX" sz="4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2263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Es la capacidad de un material para absorber energía cuando se deforma elásticamente</a:t>
            </a: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-900000" y="2637000"/>
            <a:ext cx="822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s-ES" sz="4400" spc="-1" strike="noStrike">
                <a:solidFill>
                  <a:srgbClr val="ff9900"/>
                </a:solidFill>
                <a:latin typeface="Arial"/>
              </a:rPr>
              <a:t>Módulo de Resiliencia</a:t>
            </a:r>
            <a:r>
              <a:rPr b="0" lang="es-MX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95280" y="3789360"/>
            <a:ext cx="822636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ccecff"/>
                </a:solidFill>
                <a:latin typeface="Arial"/>
              </a:rPr>
              <a:t>Corresponde a la energía de deformación por unidad de volumen requerida para deformar el material hasta el límite elástico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5038560" y="308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395280" y="476280"/>
                <a:ext cx="820908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·</m:t>
                    </m:r>
                    <m:f>
                      <m:num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E</m:t>
                        </m:r>
                      </m:den>
                    </m:f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J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0" y="228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5867280" y="3213000"/>
                <a:ext cx="4809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282" name=""/>
          <p:cNvGraphicFramePr/>
          <p:nvPr/>
        </p:nvGraphicFramePr>
        <p:xfrm>
          <a:off x="108000" y="3235320"/>
          <a:ext cx="9036000" cy="3622680"/>
        </p:xfrm>
        <a:graphic>
          <a:graphicData uri="http://schemas.openxmlformats.org/drawingml/2006/table">
            <a:tbl>
              <a:tblPr/>
              <a:tblGrid>
                <a:gridCol w="3987720"/>
                <a:gridCol w="1428840"/>
                <a:gridCol w="1971720"/>
                <a:gridCol w="1647720"/>
              </a:tblGrid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Materi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E(GPa)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(MPa)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r>
                        <a:rPr b="1" lang="es-ES_tradnl" sz="28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1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(kPa)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cero medio C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07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1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3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cero alto C para resorte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07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6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25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Duraluminio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2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07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obr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.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Goma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0.001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14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crílico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.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3" name=""/>
          <p:cNvSpPr/>
          <p:nvPr/>
        </p:nvSpPr>
        <p:spPr>
          <a:xfrm>
            <a:off x="395280" y="2349360"/>
            <a:ext cx="51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9900"/>
                </a:solidFill>
                <a:latin typeface="Arial"/>
              </a:rPr>
              <a:t>Para el caso de un resort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3089160" y="294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324000" y="620640"/>
          <a:ext cx="8820000" cy="55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620640"/>
                    <a:ext cx="882000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Arial"/>
              </a:rPr>
              <a:t>Tenacidad</a:t>
            </a:r>
            <a:r>
              <a:rPr b="0" lang="es-MX" sz="4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868824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Es la capacidad para absorber  energía en el rango plástico. Corresponde al área bajo la curv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Esfuerzo y deformación verdadero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El esfuerzo y la deformación verdaderos se definen como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124160" y="278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504720" y="4508640"/>
                <a:ext cx="8639280" cy="14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sSub>
                      <m:e>
                        <m:r>
                          <m:t xml:space="preserve">dε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394920" y="620280"/>
            <a:ext cx="822636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e cumplen las siguientes relaciones</a:t>
            </a: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105440" y="325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1476360" y="1557360"/>
                <a:ext cx="5477040" cy="18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4" name=""/>
          <p:cNvSpPr/>
          <p:nvPr/>
        </p:nvSpPr>
        <p:spPr>
          <a:xfrm>
            <a:off x="826920" y="3715200"/>
            <a:ext cx="748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Arial"/>
              </a:rPr>
              <a:t>Estas ecuaciones son válidas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Arial"/>
              </a:rPr>
              <a:t>hasta la deformación uniforme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455400" y="691920"/>
            <a:ext cx="8226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Más allá de este punto se cumple que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722680" y="233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2340000" y="1268280"/>
                <a:ext cx="429732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8" name=""/>
          <p:cNvSpPr/>
          <p:nvPr/>
        </p:nvSpPr>
        <p:spPr>
          <a:xfrm>
            <a:off x="3759120" y="378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1332000" y="2581200"/>
          <a:ext cx="6840360" cy="394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2581200"/>
                    <a:ext cx="6840360" cy="3949920"/>
                  </a:xfrm>
                  <a:prstGeom prst="rect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9900"/>
                </a:solidFill>
                <a:latin typeface="Arial"/>
              </a:rPr>
              <a:t>Deformación verdadera local en el cuello</a:t>
            </a:r>
            <a:r>
              <a:rPr b="0" lang="es-MX" sz="40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22636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Es la deformación necesaria para deformarla muestra desde la carga máxima hasta la fractura.  Se calcula a partir de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780000" y="453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2627280" y="3789360"/>
                <a:ext cx="3097080" cy="19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v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Arial"/>
              </a:rPr>
              <a:t>Ajuste de Hollomon</a:t>
            </a:r>
            <a:r>
              <a:rPr b="0" lang="es-MX" sz="4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0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Para la zona de deformación plástica uniforme se puede relacionar el esfuerzo verdadero con la deformación verdadera por:</a:t>
            </a: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394080" y="422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2411280" y="3789360"/>
                <a:ext cx="3915000" cy="15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ε</m:t>
                        </m:r>
                      </m:e>
                      <m:sub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124000" y="1125360"/>
            <a:ext cx="518472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8930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00"/>
                </a:solidFill>
                <a:latin typeface="Arial"/>
              </a:rPr>
              <a:t>n=0 el material es perfectamente plástic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00"/>
                </a:solidFill>
                <a:latin typeface="Arial"/>
              </a:rPr>
              <a:t>n=1 corresponde a un sólido elástic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00"/>
                </a:solidFill>
                <a:latin typeface="Arial"/>
              </a:rPr>
              <a:t>Normalmente para la mayoría de los materiales, 0.10 &lt; n &lt;0.50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395280" y="2205000"/>
          <a:ext cx="8317080" cy="4076640"/>
        </p:xfrm>
        <a:graphic>
          <a:graphicData uri="http://schemas.openxmlformats.org/drawingml/2006/table">
            <a:tbl>
              <a:tblPr/>
              <a:tblGrid>
                <a:gridCol w="2562480"/>
                <a:gridCol w="3127320"/>
                <a:gridCol w="1079640"/>
                <a:gridCol w="154764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Metal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ondición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(MPa)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cero 0.05%C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ecocido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0.26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3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AE 434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ecocido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0.15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64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cero 0.6%C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Templado y Revenido a 540ºC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0.1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57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cero 0.6%C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Templado y Revenido a 705ºC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0.19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23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obre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ecocido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0.54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2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Latón 70/3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ecocido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0.49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0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468000" y="25992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La expresión  corresponde a la velocidad de endurecimiento por deformación</a:t>
            </a: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i="1" lang="es-ES_tradnl" sz="3200" spc="-1" strike="noStrike">
                <a:solidFill>
                  <a:srgbClr val="eaeaea"/>
                </a:solidFill>
                <a:latin typeface="Arial"/>
              </a:rPr>
              <a:t>n</a:t>
            </a: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 se calcula graficando  hasta la deformación plástica uniforme. La pendiente de la recta resultante corresponde a </a:t>
            </a:r>
            <a:r>
              <a:rPr b="0" i="1" lang="es-ES_tradnl" sz="3200" spc="-1" strike="noStrike">
                <a:solidFill>
                  <a:srgbClr val="eaeaea"/>
                </a:solidFill>
                <a:latin typeface="Arial"/>
              </a:rPr>
              <a:t>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3708360" y="1268280"/>
                <a:ext cx="876240" cy="12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σ</m:t>
                        </m:r>
                      </m:num>
                      <m:den>
                        <m:r>
                          <m:t xml:space="preserve">d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3" name=""/>
          <p:cNvSpPr/>
          <p:nvPr/>
        </p:nvSpPr>
        <p:spPr>
          <a:xfrm>
            <a:off x="2560680" y="514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1042920" y="4941720"/>
                <a:ext cx="6583320" cy="115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σ</m:t>
                            </m:r>
                          </m:e>
                        </m:d>
                      </m:num>
                      <m:den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ε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ε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dσ</m:t>
                        </m:r>
                      </m:num>
                      <m:den>
                        <m:r>
                          <m:t xml:space="preserve">dε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dσ</m:t>
                        </m:r>
                      </m:num>
                      <m:den>
                        <m:r>
                          <m:t xml:space="preserve">dε</m:t>
                        </m:r>
                      </m:den>
                    </m:f>
                    <m:r>
                      <m:t xml:space="preserve">=</m:t>
                    </m:r>
                    <m:r>
                      <m:t xml:space="preserve">n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9900"/>
                </a:solidFill>
                <a:latin typeface="Arial"/>
              </a:rPr>
              <a:t>Relaciones de “n” con respecto al tipo de estructur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1905120" y="1598760"/>
          <a:ext cx="6122880" cy="516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598760"/>
                    <a:ext cx="6122880" cy="51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9900"/>
                </a:solidFill>
                <a:latin typeface="Arial"/>
              </a:rPr>
              <a:t>Distribución de esfuerzos en el cuell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-360" y="1557000"/>
            <a:ext cx="3179880" cy="36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Durante la formación de cuello aparece un estado triaxial de esfuerzos</a:t>
            </a: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4284720" y="1628640"/>
          <a:ext cx="3975120" cy="522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628640"/>
                    <a:ext cx="3975120" cy="52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9900"/>
                </a:solidFill>
                <a:latin typeface="Arial"/>
              </a:rPr>
              <a:t>Formación de cuell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2627280" y="1125360"/>
            <a:ext cx="41688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7" dur="1" fill="hold"/>
                                        <p:tgtEl>
                                          <p:spTgt spid="3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272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9900"/>
                </a:solidFill>
                <a:latin typeface="Arial"/>
              </a:rPr>
              <a:t>Efecto de la velocidad de deformación sobre las propiedades</a:t>
            </a:r>
            <a:r>
              <a:rPr b="0" lang="es-MX" sz="40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Uno de los parámetros importantes en la determinación de las propiedades mecánicas, lo constituye la velocidad de deformación </a:t>
            </a:r>
            <a:r>
              <a:rPr b="0" lang="es-ES_tradnl" sz="3200" spc="-1" strike="noStrike">
                <a:solidFill>
                  <a:srgbClr val="eaeaea"/>
                </a:solidFill>
                <a:latin typeface="Symbol"/>
                <a:ea typeface="Symbol"/>
              </a:rPr>
              <a:t></a:t>
            </a: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, definida po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759120" y="42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2340000" y="3933720"/>
                <a:ext cx="4341960" cy="193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ε</m:t>
                        </m:r>
                      </m:e>
                    </m:acc>
                    <m:r>
                      <m:t xml:space="preserve">≡</m:t>
                    </m:r>
                    <m:f>
                      <m:num>
                        <m:r>
                          <m:t xml:space="preserve">dε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272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9900"/>
                </a:solidFill>
                <a:latin typeface="Arial"/>
              </a:rPr>
              <a:t>Relación entre el esfuerzo de fluencia y la velocidad de deformación</a:t>
            </a:r>
            <a:r>
              <a:rPr b="1" lang="es-MX" sz="40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2771640" y="1989000"/>
                <a:ext cx="360072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C</m:t>
                    </m:r>
                    <m:sSup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</m:e>
                      <m:sup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0" name=""/>
          <p:cNvSpPr/>
          <p:nvPr/>
        </p:nvSpPr>
        <p:spPr>
          <a:xfrm>
            <a:off x="3738600" y="44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1116000" y="3789360"/>
                <a:ext cx="7139160" cy="16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r>
                                  <m:t xml:space="preserve">σ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n {</m:t>
                                </m:r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ε</m:t>
                                    </m:r>
                                  </m:e>
                                </m:acc>
                              </m:den>
                            </m:f>
                          </m:e>
                          <m:e/>
                        </m:d>
                      </m:e>
                      <m:sub>
                        <m:r>
                          <m:t xml:space="preserve">ε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sub>
                    </m:sSub>
                    <m:r>
                      <m:t xml:space="preserve">≃</m:t>
                    </m:r>
                    <m:f>
                      <m:num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σ</m:t>
                        </m:r>
                      </m:num>
                      <m:den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ln {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ε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ε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7777080" cy="46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00"/>
                </a:solidFill>
                <a:latin typeface="Arial"/>
              </a:rPr>
              <a:t>Velocidades de deformación</a:t>
            </a:r>
            <a:r>
              <a:rPr b="0" lang="es-MX" sz="4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5760" y="1598760"/>
          <a:ext cx="8226360" cy="4705200"/>
        </p:xfrm>
        <a:graphic>
          <a:graphicData uri="http://schemas.openxmlformats.org/drawingml/2006/table">
            <a:tbl>
              <a:tblPr/>
              <a:tblGrid>
                <a:gridCol w="1812600"/>
                <a:gridCol w="6413760"/>
              </a:tblGrid>
              <a:tr h="1020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ango (s</a:t>
                      </a:r>
                      <a:r>
                        <a:rPr b="1" lang="es-ES_tradnl" sz="2400" spc="-1" strike="noStrike" baseline="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Tipo de Test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es-ES_tradnl" sz="2400" spc="-1" strike="noStrike" baseline="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8</a:t>
                      </a: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– 10 </a:t>
                      </a:r>
                      <a:r>
                        <a:rPr b="1" lang="es-ES_tradnl" sz="2400" spc="-1" strike="noStrike" baseline="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–5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Fluencia (creep) a  </a:t>
                      </a:r>
                      <a:r>
                        <a:rPr b="1" i="1" lang="es-ES_tradnl" sz="2400" spc="-1" strike="noStrike">
                          <a:solidFill>
                            <a:srgbClr val="eaeaea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= cte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es-ES_tradnl" sz="2400" spc="-1" strike="noStrike" baseline="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5</a:t>
                      </a: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– 10</a:t>
                      </a:r>
                      <a:r>
                        <a:rPr b="1" lang="es-ES_tradnl" sz="2400" spc="-1" strike="noStrike" baseline="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Ensayo de tracción estático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es-ES_tradnl" sz="2400" spc="-1" strike="noStrike" baseline="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– 10</a:t>
                      </a:r>
                      <a:r>
                        <a:rPr b="1" lang="es-ES_tradnl" sz="2400" spc="-1" strike="noStrike" baseline="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Ensayos de tracción o compresión dinámicos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es-ES_tradnl" sz="2400" spc="-1" strike="noStrike" baseline="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– 10</a:t>
                      </a:r>
                      <a:r>
                        <a:rPr b="1" lang="es-ES_tradnl" sz="2400" spc="-1" strike="noStrike" baseline="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Ensayos a alta velocidad usando barras de impacto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es-ES_tradnl" sz="2400" spc="-1" strike="noStrike" baseline="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– 10</a:t>
                      </a:r>
                      <a:r>
                        <a:rPr b="1" lang="es-ES_tradnl" sz="2400" spc="-1" strike="noStrike" baseline="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Ensayos a muy alta velocidad usando explosivos o propulsores de gas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9900"/>
                </a:solidFill>
                <a:latin typeface="Arial"/>
              </a:rPr>
              <a:t>Consideraciones para “m”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Arial"/>
              </a:rPr>
              <a:t>Los metales a temperatura ambiente tienen un valor de “m” menor o igual a 0.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Arial"/>
              </a:rPr>
              <a:t>Este índice varía con la temperatura, mayor temperatura mayor índic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Arial"/>
              </a:rPr>
              <a:t>Depende de la velocidad de movimiento de dislocaciones (TAREA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5400" y="620280"/>
            <a:ext cx="82263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eaeaea"/>
                </a:solidFill>
                <a:latin typeface="Arial"/>
              </a:rPr>
              <a:t>El Ensayo de tracción se realiza bajo la norma ASTM E-8 ASTM A 370, o bien la norma chilena NCH 200, entre otras. 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9900"/>
                </a:solidFill>
                <a:latin typeface="Arial"/>
              </a:rPr>
              <a:t>Su importancia radica en que es válido y aceptado para especificación de materiales en ingeniería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9900"/>
                </a:solidFill>
                <a:latin typeface="Arial"/>
              </a:rPr>
              <a:t>Efecto de la temperatura sobre las propiedades  en tracció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22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2195640" y="1598760"/>
          <a:ext cx="5329080" cy="45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598760"/>
                    <a:ext cx="532908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9900"/>
                </a:solidFill>
                <a:latin typeface="Arial"/>
              </a:rPr>
              <a:t>Influencia sobre la temperatu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572000" y="347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1979640" y="1413000"/>
          <a:ext cx="5040360" cy="425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413000"/>
                    <a:ext cx="5040360" cy="42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9900"/>
                </a:solidFill>
                <a:latin typeface="Arial"/>
              </a:rPr>
              <a:t>Fenómeno del punto de fluencia</a:t>
            </a:r>
            <a:r>
              <a:rPr b="0" lang="es-MX" sz="40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l fenómeno de punto de fluencia se da en algunos materiales que contienen solutos especialmente intersticiales como el acero de bajo contenido en carbono y consiste en la aparición de una oscilación de la curva esfuerzo – deformación cerca del inicio de la deformación plástica</a:t>
            </a: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455760" y="839880"/>
            <a:ext cx="822636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9900"/>
                </a:solidFill>
                <a:latin typeface="Arial"/>
              </a:rPr>
              <a:t>Acero de Construcción A 44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827760" y="514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5832720" cy="407700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4500720" y="3645000"/>
            <a:ext cx="4105080" cy="2365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455760" y="1536840"/>
            <a:ext cx="822636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9900"/>
                </a:solidFill>
                <a:latin typeface="Arial"/>
              </a:rPr>
              <a:t>Tracción en planchas de acer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0" y="2482920"/>
            <a:ext cx="5292720" cy="391644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3851280" y="2492280"/>
            <a:ext cx="5292720" cy="39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3" dur="1" fill="hold"/>
                                        <p:tgtEl>
                                          <p:spTgt spid="3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355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355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8" dur="1" fill="hold"/>
                                        <p:tgtEl>
                                          <p:spTgt spid="3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546200" y="400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57" name="fig22b" descr=""/>
          <p:cNvPicPr/>
          <p:nvPr/>
        </p:nvPicPr>
        <p:blipFill>
          <a:blip r:embed="rId1"/>
          <a:stretch/>
        </p:blipFill>
        <p:spPr>
          <a:xfrm>
            <a:off x="2124000" y="1125360"/>
            <a:ext cx="2092320" cy="374364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6988320" y="350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59" name="fig22c" descr=""/>
          <p:cNvPicPr/>
          <p:nvPr/>
        </p:nvPicPr>
        <p:blipFill>
          <a:blip r:embed="rId2"/>
          <a:stretch/>
        </p:blipFill>
        <p:spPr>
          <a:xfrm>
            <a:off x="6804000" y="1125360"/>
            <a:ext cx="2149560" cy="381636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607392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61" name="fig22a" descr=""/>
          <p:cNvPicPr/>
          <p:nvPr/>
        </p:nvPicPr>
        <p:blipFill>
          <a:blip r:embed="rId3"/>
          <a:stretch/>
        </p:blipFill>
        <p:spPr>
          <a:xfrm>
            <a:off x="250920" y="1125360"/>
            <a:ext cx="2063520" cy="367200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3505320" y="250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63" name="fig22d" descr=""/>
          <p:cNvPicPr/>
          <p:nvPr/>
        </p:nvPicPr>
        <p:blipFill>
          <a:blip r:embed="rId4"/>
          <a:stretch/>
        </p:blipFill>
        <p:spPr>
          <a:xfrm>
            <a:off x="4788000" y="1125360"/>
            <a:ext cx="2073240" cy="381636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395280" y="515772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9900"/>
                </a:solidFill>
                <a:latin typeface="Arial"/>
              </a:rPr>
              <a:t>Fractura Dúcti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076720" y="522936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9900"/>
                </a:solidFill>
                <a:latin typeface="Arial"/>
              </a:rPr>
              <a:t>Fractura Frági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66" name="fig17" descr=""/>
          <p:cNvPicPr/>
          <p:nvPr/>
        </p:nvPicPr>
        <p:blipFill>
          <a:blip r:embed="rId5"/>
          <a:stretch/>
        </p:blipFill>
        <p:spPr>
          <a:xfrm>
            <a:off x="250920" y="1197000"/>
            <a:ext cx="4116240" cy="37242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6575400" y="296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68" name="fig144" descr=""/>
          <p:cNvPicPr/>
          <p:nvPr/>
        </p:nvPicPr>
        <p:blipFill>
          <a:blip r:embed="rId6"/>
          <a:stretch/>
        </p:blipFill>
        <p:spPr>
          <a:xfrm>
            <a:off x="5076720" y="1268280"/>
            <a:ext cx="34513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9900"/>
                </a:solidFill>
                <a:latin typeface="Arial"/>
              </a:rPr>
              <a:t>Resumen del Ensayo de Tracció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94920" y="836280"/>
            <a:ext cx="822636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sfuerzo de Fluenc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sfuerzo máximo (UT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Modulo de Young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Resilienc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Alargamient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Reducción de Áre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Tenacida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ndurecimiento por deformació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nfluencia de la temperatur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nfluencia de la velocidad del ensay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luencia heterogénea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Tipo de fractur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Arial"/>
              </a:rPr>
              <a:t>Ensayo de Flex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4284720" y="1557360"/>
          <a:ext cx="2374920" cy="9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557360"/>
                    <a:ext cx="237492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4" name=""/>
          <p:cNvGraphicFramePr/>
          <p:nvPr/>
        </p:nvGraphicFramePr>
        <p:xfrm>
          <a:off x="900000" y="2428920"/>
          <a:ext cx="7782120" cy="98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2428920"/>
                    <a:ext cx="7782120" cy="98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" name=""/>
          <p:cNvGraphicFramePr/>
          <p:nvPr/>
        </p:nvGraphicFramePr>
        <p:xfrm>
          <a:off x="2771640" y="1557360"/>
          <a:ext cx="4248360" cy="1076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71640" y="1557360"/>
                    <a:ext cx="424836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8" name=""/>
          <p:cNvSpPr/>
          <p:nvPr/>
        </p:nvSpPr>
        <p:spPr>
          <a:xfrm>
            <a:off x="468360" y="4005360"/>
            <a:ext cx="822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Arial"/>
              </a:rPr>
              <a:t>Ensayo de Compresió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50920" y="333360"/>
            <a:ext cx="8893080" cy="6191280"/>
          </a:xfrm>
          <a:prstGeom prst="rect">
            <a:avLst/>
          </a:prstGeom>
          <a:solidFill>
            <a:srgbClr val="cce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684360" y="260280"/>
            <a:ext cx="8501400" cy="6192720"/>
            <a:chOff x="684360" y="260280"/>
            <a:chExt cx="8501400" cy="6192720"/>
          </a:xfrm>
        </p:grpSpPr>
        <p:sp>
          <p:nvSpPr>
            <p:cNvPr id="218" name=""/>
            <p:cNvSpPr/>
            <p:nvPr/>
          </p:nvSpPr>
          <p:spPr>
            <a:xfrm flipV="1">
              <a:off x="1790280" y="778680"/>
              <a:ext cx="1440" cy="490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705680" y="874080"/>
              <a:ext cx="169560" cy="231120"/>
            </a:xfrm>
            <a:custGeom>
              <a:avLst/>
              <a:gdLst/>
              <a:ahLst/>
              <a:rect l="l" t="t" r="r" b="b"/>
              <a:pathLst>
                <a:path w="128" h="128">
                  <a:moveTo>
                    <a:pt x="0" y="128"/>
                  </a:moveTo>
                  <a:lnTo>
                    <a:pt x="64" y="0"/>
                  </a:lnTo>
                  <a:lnTo>
                    <a:pt x="128" y="128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810080" y="5688720"/>
              <a:ext cx="47998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569280" y="5373000"/>
              <a:ext cx="169200" cy="238320"/>
            </a:xfrm>
            <a:custGeom>
              <a:avLst/>
              <a:gdLst/>
              <a:ahLst/>
              <a:rect l="l" t="t" r="r" b="b"/>
              <a:pathLst>
                <a:path w="128" h="132">
                  <a:moveTo>
                    <a:pt x="0" y="0"/>
                  </a:moveTo>
                  <a:lnTo>
                    <a:pt x="128" y="64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1789920" y="2668320"/>
              <a:ext cx="973800" cy="3069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744640" y="1889640"/>
              <a:ext cx="2867760" cy="794520"/>
            </a:xfrm>
            <a:custGeom>
              <a:avLst/>
              <a:gdLst/>
              <a:ahLst/>
              <a:rect l="l" t="t" r="r" b="b"/>
              <a:pathLst>
                <a:path w="2167" h="440">
                  <a:moveTo>
                    <a:pt x="0" y="440"/>
                  </a:moveTo>
                  <a:lnTo>
                    <a:pt x="124" y="340"/>
                  </a:lnTo>
                  <a:lnTo>
                    <a:pt x="252" y="248"/>
                  </a:lnTo>
                  <a:lnTo>
                    <a:pt x="388" y="172"/>
                  </a:lnTo>
                  <a:lnTo>
                    <a:pt x="532" y="108"/>
                  </a:lnTo>
                  <a:lnTo>
                    <a:pt x="684" y="60"/>
                  </a:lnTo>
                  <a:lnTo>
                    <a:pt x="836" y="24"/>
                  </a:lnTo>
                  <a:lnTo>
                    <a:pt x="991" y="4"/>
                  </a:lnTo>
                  <a:lnTo>
                    <a:pt x="1147" y="0"/>
                  </a:lnTo>
                  <a:lnTo>
                    <a:pt x="1307" y="8"/>
                  </a:lnTo>
                  <a:lnTo>
                    <a:pt x="1459" y="32"/>
                  </a:lnTo>
                  <a:lnTo>
                    <a:pt x="1615" y="72"/>
                  </a:lnTo>
                  <a:lnTo>
                    <a:pt x="1763" y="128"/>
                  </a:lnTo>
                  <a:lnTo>
                    <a:pt x="1903" y="196"/>
                  </a:lnTo>
                  <a:lnTo>
                    <a:pt x="2039" y="280"/>
                  </a:lnTo>
                  <a:lnTo>
                    <a:pt x="2167" y="37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5616360" y="2465640"/>
              <a:ext cx="73800" cy="20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616360" y="2465640"/>
              <a:ext cx="110880" cy="20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653440" y="2566800"/>
              <a:ext cx="1440" cy="3170160"/>
            </a:xfrm>
            <a:prstGeom prst="line">
              <a:avLst/>
            </a:prstGeom>
            <a:ln w="25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680160" y="2408040"/>
              <a:ext cx="2294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sfuerzo de fractura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987160" y="2401200"/>
              <a:ext cx="528840" cy="361080"/>
            </a:xfrm>
            <a:custGeom>
              <a:avLst/>
              <a:gdLst/>
              <a:ahLst/>
              <a:rect l="l" t="t" r="r" b="b"/>
              <a:pathLst>
                <a:path w="400" h="200">
                  <a:moveTo>
                    <a:pt x="0" y="44"/>
                  </a:moveTo>
                  <a:lnTo>
                    <a:pt x="16" y="44"/>
                  </a:lnTo>
                  <a:lnTo>
                    <a:pt x="28" y="40"/>
                  </a:lnTo>
                  <a:lnTo>
                    <a:pt x="40" y="36"/>
                  </a:lnTo>
                  <a:lnTo>
                    <a:pt x="52" y="32"/>
                  </a:lnTo>
                  <a:lnTo>
                    <a:pt x="68" y="28"/>
                  </a:lnTo>
                  <a:lnTo>
                    <a:pt x="80" y="24"/>
                  </a:lnTo>
                  <a:lnTo>
                    <a:pt x="92" y="20"/>
                  </a:lnTo>
                  <a:lnTo>
                    <a:pt x="104" y="20"/>
                  </a:lnTo>
                  <a:lnTo>
                    <a:pt x="116" y="16"/>
                  </a:lnTo>
                  <a:lnTo>
                    <a:pt x="128" y="12"/>
                  </a:lnTo>
                  <a:lnTo>
                    <a:pt x="140" y="8"/>
                  </a:lnTo>
                  <a:lnTo>
                    <a:pt x="148" y="8"/>
                  </a:lnTo>
                  <a:lnTo>
                    <a:pt x="160" y="4"/>
                  </a:lnTo>
                  <a:lnTo>
                    <a:pt x="168" y="4"/>
                  </a:lnTo>
                  <a:lnTo>
                    <a:pt x="176" y="4"/>
                  </a:lnTo>
                  <a:lnTo>
                    <a:pt x="184" y="0"/>
                  </a:lnTo>
                  <a:lnTo>
                    <a:pt x="188" y="0"/>
                  </a:lnTo>
                  <a:lnTo>
                    <a:pt x="200" y="0"/>
                  </a:lnTo>
                  <a:lnTo>
                    <a:pt x="204" y="4"/>
                  </a:lnTo>
                  <a:lnTo>
                    <a:pt x="208" y="8"/>
                  </a:lnTo>
                  <a:lnTo>
                    <a:pt x="208" y="12"/>
                  </a:lnTo>
                  <a:lnTo>
                    <a:pt x="204" y="20"/>
                  </a:lnTo>
                  <a:lnTo>
                    <a:pt x="200" y="24"/>
                  </a:lnTo>
                  <a:lnTo>
                    <a:pt x="196" y="32"/>
                  </a:lnTo>
                  <a:lnTo>
                    <a:pt x="188" y="44"/>
                  </a:lnTo>
                  <a:lnTo>
                    <a:pt x="180" y="52"/>
                  </a:lnTo>
                  <a:lnTo>
                    <a:pt x="172" y="60"/>
                  </a:lnTo>
                  <a:lnTo>
                    <a:pt x="164" y="72"/>
                  </a:lnTo>
                  <a:lnTo>
                    <a:pt x="156" y="84"/>
                  </a:lnTo>
                  <a:lnTo>
                    <a:pt x="144" y="92"/>
                  </a:lnTo>
                  <a:lnTo>
                    <a:pt x="140" y="104"/>
                  </a:lnTo>
                  <a:lnTo>
                    <a:pt x="132" y="116"/>
                  </a:lnTo>
                  <a:lnTo>
                    <a:pt x="128" y="124"/>
                  </a:lnTo>
                  <a:lnTo>
                    <a:pt x="124" y="136"/>
                  </a:lnTo>
                  <a:lnTo>
                    <a:pt x="120" y="148"/>
                  </a:lnTo>
                  <a:lnTo>
                    <a:pt x="120" y="156"/>
                  </a:lnTo>
                  <a:lnTo>
                    <a:pt x="124" y="164"/>
                  </a:lnTo>
                  <a:lnTo>
                    <a:pt x="124" y="172"/>
                  </a:lnTo>
                  <a:lnTo>
                    <a:pt x="128" y="180"/>
                  </a:lnTo>
                  <a:lnTo>
                    <a:pt x="136" y="184"/>
                  </a:lnTo>
                  <a:lnTo>
                    <a:pt x="144" y="188"/>
                  </a:lnTo>
                  <a:lnTo>
                    <a:pt x="152" y="196"/>
                  </a:lnTo>
                  <a:lnTo>
                    <a:pt x="160" y="196"/>
                  </a:lnTo>
                  <a:lnTo>
                    <a:pt x="168" y="200"/>
                  </a:lnTo>
                  <a:lnTo>
                    <a:pt x="180" y="200"/>
                  </a:lnTo>
                  <a:lnTo>
                    <a:pt x="192" y="196"/>
                  </a:lnTo>
                  <a:lnTo>
                    <a:pt x="204" y="196"/>
                  </a:lnTo>
                  <a:lnTo>
                    <a:pt x="220" y="188"/>
                  </a:lnTo>
                  <a:lnTo>
                    <a:pt x="240" y="180"/>
                  </a:lnTo>
                  <a:lnTo>
                    <a:pt x="256" y="168"/>
                  </a:lnTo>
                  <a:lnTo>
                    <a:pt x="276" y="160"/>
                  </a:lnTo>
                  <a:lnTo>
                    <a:pt x="296" y="148"/>
                  </a:lnTo>
                  <a:lnTo>
                    <a:pt x="316" y="140"/>
                  </a:lnTo>
                  <a:lnTo>
                    <a:pt x="332" y="136"/>
                  </a:lnTo>
                  <a:lnTo>
                    <a:pt x="352" y="132"/>
                  </a:lnTo>
                  <a:lnTo>
                    <a:pt x="368" y="132"/>
                  </a:lnTo>
                  <a:lnTo>
                    <a:pt x="384" y="136"/>
                  </a:lnTo>
                  <a:lnTo>
                    <a:pt x="400" y="14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838840" y="2364840"/>
              <a:ext cx="185040" cy="230760"/>
            </a:xfrm>
            <a:custGeom>
              <a:avLst/>
              <a:gdLst/>
              <a:ahLst/>
              <a:rect l="l" t="t" r="r" b="b"/>
              <a:pathLst>
                <a:path w="140" h="128">
                  <a:moveTo>
                    <a:pt x="140" y="128"/>
                  </a:moveTo>
                  <a:lnTo>
                    <a:pt x="0" y="84"/>
                  </a:lnTo>
                  <a:lnTo>
                    <a:pt x="120" y="0"/>
                  </a:lnTo>
                  <a:lnTo>
                    <a:pt x="14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594120" y="4310640"/>
              <a:ext cx="2591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Deformación a fractura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859720" y="4570560"/>
              <a:ext cx="582480" cy="527040"/>
            </a:xfrm>
            <a:custGeom>
              <a:avLst/>
              <a:gdLst/>
              <a:ahLst/>
              <a:rect l="l" t="t" r="r" b="b"/>
              <a:pathLst>
                <a:path w="440" h="292">
                  <a:moveTo>
                    <a:pt x="0" y="292"/>
                  </a:moveTo>
                  <a:lnTo>
                    <a:pt x="8" y="276"/>
                  </a:lnTo>
                  <a:lnTo>
                    <a:pt x="16" y="256"/>
                  </a:lnTo>
                  <a:lnTo>
                    <a:pt x="24" y="240"/>
                  </a:lnTo>
                  <a:lnTo>
                    <a:pt x="36" y="224"/>
                  </a:lnTo>
                  <a:lnTo>
                    <a:pt x="44" y="208"/>
                  </a:lnTo>
                  <a:lnTo>
                    <a:pt x="56" y="188"/>
                  </a:lnTo>
                  <a:lnTo>
                    <a:pt x="64" y="172"/>
                  </a:lnTo>
                  <a:lnTo>
                    <a:pt x="76" y="156"/>
                  </a:lnTo>
                  <a:lnTo>
                    <a:pt x="84" y="144"/>
                  </a:lnTo>
                  <a:lnTo>
                    <a:pt x="92" y="128"/>
                  </a:lnTo>
                  <a:lnTo>
                    <a:pt x="104" y="116"/>
                  </a:lnTo>
                  <a:lnTo>
                    <a:pt x="112" y="104"/>
                  </a:lnTo>
                  <a:lnTo>
                    <a:pt x="120" y="92"/>
                  </a:lnTo>
                  <a:lnTo>
                    <a:pt x="128" y="84"/>
                  </a:lnTo>
                  <a:lnTo>
                    <a:pt x="132" y="76"/>
                  </a:lnTo>
                  <a:lnTo>
                    <a:pt x="140" y="72"/>
                  </a:lnTo>
                  <a:lnTo>
                    <a:pt x="144" y="68"/>
                  </a:lnTo>
                  <a:lnTo>
                    <a:pt x="148" y="68"/>
                  </a:lnTo>
                  <a:lnTo>
                    <a:pt x="152" y="68"/>
                  </a:lnTo>
                  <a:lnTo>
                    <a:pt x="152" y="68"/>
                  </a:lnTo>
                  <a:lnTo>
                    <a:pt x="156" y="72"/>
                  </a:lnTo>
                  <a:lnTo>
                    <a:pt x="156" y="76"/>
                  </a:lnTo>
                  <a:lnTo>
                    <a:pt x="156" y="84"/>
                  </a:lnTo>
                  <a:lnTo>
                    <a:pt x="156" y="92"/>
                  </a:lnTo>
                  <a:lnTo>
                    <a:pt x="160" y="100"/>
                  </a:lnTo>
                  <a:lnTo>
                    <a:pt x="160" y="108"/>
                  </a:lnTo>
                  <a:lnTo>
                    <a:pt x="160" y="116"/>
                  </a:lnTo>
                  <a:lnTo>
                    <a:pt x="156" y="124"/>
                  </a:lnTo>
                  <a:lnTo>
                    <a:pt x="156" y="132"/>
                  </a:lnTo>
                  <a:lnTo>
                    <a:pt x="160" y="144"/>
                  </a:lnTo>
                  <a:lnTo>
                    <a:pt x="160" y="152"/>
                  </a:lnTo>
                  <a:lnTo>
                    <a:pt x="160" y="160"/>
                  </a:lnTo>
                  <a:lnTo>
                    <a:pt x="160" y="168"/>
                  </a:lnTo>
                  <a:lnTo>
                    <a:pt x="160" y="176"/>
                  </a:lnTo>
                  <a:lnTo>
                    <a:pt x="164" y="184"/>
                  </a:lnTo>
                  <a:lnTo>
                    <a:pt x="168" y="196"/>
                  </a:lnTo>
                  <a:lnTo>
                    <a:pt x="176" y="200"/>
                  </a:lnTo>
                  <a:lnTo>
                    <a:pt x="180" y="204"/>
                  </a:lnTo>
                  <a:lnTo>
                    <a:pt x="188" y="208"/>
                  </a:lnTo>
                  <a:lnTo>
                    <a:pt x="196" y="208"/>
                  </a:lnTo>
                  <a:lnTo>
                    <a:pt x="208" y="208"/>
                  </a:lnTo>
                  <a:lnTo>
                    <a:pt x="216" y="208"/>
                  </a:lnTo>
                  <a:lnTo>
                    <a:pt x="228" y="204"/>
                  </a:lnTo>
                  <a:lnTo>
                    <a:pt x="240" y="200"/>
                  </a:lnTo>
                  <a:lnTo>
                    <a:pt x="252" y="196"/>
                  </a:lnTo>
                  <a:lnTo>
                    <a:pt x="264" y="188"/>
                  </a:lnTo>
                  <a:lnTo>
                    <a:pt x="276" y="180"/>
                  </a:lnTo>
                  <a:lnTo>
                    <a:pt x="296" y="164"/>
                  </a:lnTo>
                  <a:lnTo>
                    <a:pt x="320" y="148"/>
                  </a:lnTo>
                  <a:lnTo>
                    <a:pt x="340" y="128"/>
                  </a:lnTo>
                  <a:lnTo>
                    <a:pt x="360" y="104"/>
                  </a:lnTo>
                  <a:lnTo>
                    <a:pt x="380" y="80"/>
                  </a:lnTo>
                  <a:lnTo>
                    <a:pt x="404" y="56"/>
                  </a:lnTo>
                  <a:lnTo>
                    <a:pt x="420" y="28"/>
                  </a:lnTo>
                  <a:lnTo>
                    <a:pt x="44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785560" y="5025960"/>
              <a:ext cx="158400" cy="259920"/>
            </a:xfrm>
            <a:custGeom>
              <a:avLst/>
              <a:gdLst/>
              <a:ahLst/>
              <a:rect l="l" t="t" r="r" b="b"/>
              <a:pathLst>
                <a:path w="120" h="144">
                  <a:moveTo>
                    <a:pt x="120" y="48"/>
                  </a:moveTo>
                  <a:lnTo>
                    <a:pt x="12" y="144"/>
                  </a:lnTo>
                  <a:lnTo>
                    <a:pt x="0" y="0"/>
                  </a:lnTo>
                  <a:lnTo>
                    <a:pt x="12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2018160" y="5300280"/>
              <a:ext cx="57960" cy="187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2113200" y="4996800"/>
              <a:ext cx="63360" cy="187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2214000" y="4678920"/>
              <a:ext cx="57960" cy="195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2314800" y="4367880"/>
              <a:ext cx="57960" cy="1947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2390040" y="4183920"/>
              <a:ext cx="63360" cy="187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2510280" y="3872880"/>
              <a:ext cx="57960" cy="1875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2605680" y="3569400"/>
              <a:ext cx="63000" cy="1875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2706480" y="3251520"/>
              <a:ext cx="57960" cy="1947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2806920" y="3065400"/>
              <a:ext cx="57960" cy="195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2902320" y="2755080"/>
              <a:ext cx="63000" cy="187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2982960" y="2444040"/>
              <a:ext cx="57960" cy="1875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3097800" y="2313720"/>
              <a:ext cx="5400" cy="140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012840" y="614160"/>
              <a:ext cx="558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ffset yield strength: Límite elástico convencional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050280" y="1076400"/>
              <a:ext cx="391680" cy="1233720"/>
            </a:xfrm>
            <a:custGeom>
              <a:avLst/>
              <a:gdLst/>
              <a:ahLst/>
              <a:rect l="l" t="t" r="r" b="b"/>
              <a:pathLst>
                <a:path w="296" h="683">
                  <a:moveTo>
                    <a:pt x="296" y="0"/>
                  </a:moveTo>
                  <a:lnTo>
                    <a:pt x="212" y="124"/>
                  </a:lnTo>
                  <a:lnTo>
                    <a:pt x="140" y="256"/>
                  </a:lnTo>
                  <a:lnTo>
                    <a:pt x="80" y="392"/>
                  </a:lnTo>
                  <a:lnTo>
                    <a:pt x="32" y="535"/>
                  </a:lnTo>
                  <a:lnTo>
                    <a:pt x="0" y="68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965680" y="2135160"/>
              <a:ext cx="169560" cy="253080"/>
            </a:xfrm>
            <a:custGeom>
              <a:avLst/>
              <a:gdLst/>
              <a:ahLst/>
              <a:rect l="l" t="t" r="r" b="b"/>
              <a:pathLst>
                <a:path w="128" h="140">
                  <a:moveTo>
                    <a:pt x="128" y="20"/>
                  </a:moveTo>
                  <a:lnTo>
                    <a:pt x="48" y="140"/>
                  </a:lnTo>
                  <a:lnTo>
                    <a:pt x="0" y="0"/>
                  </a:lnTo>
                  <a:lnTo>
                    <a:pt x="12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502080" y="2812680"/>
              <a:ext cx="1727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Deformación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755880" y="3208680"/>
              <a:ext cx="1163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uniforme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192560" y="1976400"/>
              <a:ext cx="108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745520" y="1407240"/>
              <a:ext cx="2774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Resistencia tensil o UTS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56720" y="1609560"/>
              <a:ext cx="359640" cy="222120"/>
            </a:xfrm>
            <a:custGeom>
              <a:avLst/>
              <a:gdLst/>
              <a:ahLst/>
              <a:rect l="l" t="t" r="r" b="b"/>
              <a:pathLst>
                <a:path w="272" h="123">
                  <a:moveTo>
                    <a:pt x="0" y="56"/>
                  </a:moveTo>
                  <a:lnTo>
                    <a:pt x="8" y="52"/>
                  </a:lnTo>
                  <a:lnTo>
                    <a:pt x="16" y="44"/>
                  </a:lnTo>
                  <a:lnTo>
                    <a:pt x="24" y="40"/>
                  </a:lnTo>
                  <a:lnTo>
                    <a:pt x="36" y="32"/>
                  </a:lnTo>
                  <a:lnTo>
                    <a:pt x="44" y="28"/>
                  </a:lnTo>
                  <a:lnTo>
                    <a:pt x="52" y="20"/>
                  </a:lnTo>
                  <a:lnTo>
                    <a:pt x="60" y="16"/>
                  </a:lnTo>
                  <a:lnTo>
                    <a:pt x="68" y="12"/>
                  </a:lnTo>
                  <a:lnTo>
                    <a:pt x="72" y="8"/>
                  </a:lnTo>
                  <a:lnTo>
                    <a:pt x="80" y="4"/>
                  </a:lnTo>
                  <a:lnTo>
                    <a:pt x="88" y="4"/>
                  </a:lnTo>
                  <a:lnTo>
                    <a:pt x="92" y="0"/>
                  </a:lnTo>
                  <a:lnTo>
                    <a:pt x="100" y="0"/>
                  </a:lnTo>
                  <a:lnTo>
                    <a:pt x="104" y="0"/>
                  </a:lnTo>
                  <a:lnTo>
                    <a:pt x="108" y="0"/>
                  </a:lnTo>
                  <a:lnTo>
                    <a:pt x="112" y="0"/>
                  </a:lnTo>
                  <a:lnTo>
                    <a:pt x="112" y="4"/>
                  </a:lnTo>
                  <a:lnTo>
                    <a:pt x="116" y="8"/>
                  </a:lnTo>
                  <a:lnTo>
                    <a:pt x="116" y="12"/>
                  </a:lnTo>
                  <a:lnTo>
                    <a:pt x="116" y="20"/>
                  </a:lnTo>
                  <a:lnTo>
                    <a:pt x="116" y="28"/>
                  </a:lnTo>
                  <a:lnTo>
                    <a:pt x="112" y="36"/>
                  </a:lnTo>
                  <a:lnTo>
                    <a:pt x="112" y="40"/>
                  </a:lnTo>
                  <a:lnTo>
                    <a:pt x="112" y="52"/>
                  </a:lnTo>
                  <a:lnTo>
                    <a:pt x="108" y="60"/>
                  </a:lnTo>
                  <a:lnTo>
                    <a:pt x="108" y="68"/>
                  </a:lnTo>
                  <a:lnTo>
                    <a:pt x="108" y="76"/>
                  </a:lnTo>
                  <a:lnTo>
                    <a:pt x="108" y="84"/>
                  </a:lnTo>
                  <a:lnTo>
                    <a:pt x="104" y="88"/>
                  </a:lnTo>
                  <a:lnTo>
                    <a:pt x="108" y="96"/>
                  </a:lnTo>
                  <a:lnTo>
                    <a:pt x="112" y="104"/>
                  </a:lnTo>
                  <a:lnTo>
                    <a:pt x="116" y="112"/>
                  </a:lnTo>
                  <a:lnTo>
                    <a:pt x="128" y="119"/>
                  </a:lnTo>
                  <a:lnTo>
                    <a:pt x="136" y="119"/>
                  </a:lnTo>
                  <a:lnTo>
                    <a:pt x="152" y="123"/>
                  </a:lnTo>
                  <a:lnTo>
                    <a:pt x="164" y="119"/>
                  </a:lnTo>
                  <a:lnTo>
                    <a:pt x="180" y="119"/>
                  </a:lnTo>
                  <a:lnTo>
                    <a:pt x="196" y="115"/>
                  </a:lnTo>
                  <a:lnTo>
                    <a:pt x="212" y="112"/>
                  </a:lnTo>
                  <a:lnTo>
                    <a:pt x="228" y="108"/>
                  </a:lnTo>
                  <a:lnTo>
                    <a:pt x="244" y="100"/>
                  </a:lnTo>
                  <a:lnTo>
                    <a:pt x="256" y="96"/>
                  </a:lnTo>
                  <a:lnTo>
                    <a:pt x="272" y="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266720" y="1616760"/>
              <a:ext cx="169200" cy="257760"/>
            </a:xfrm>
            <a:custGeom>
              <a:avLst/>
              <a:gdLst/>
              <a:ahLst/>
              <a:rect l="l" t="t" r="r" b="b"/>
              <a:pathLst>
                <a:path w="128" h="143">
                  <a:moveTo>
                    <a:pt x="128" y="80"/>
                  </a:moveTo>
                  <a:lnTo>
                    <a:pt x="0" y="143"/>
                  </a:lnTo>
                  <a:lnTo>
                    <a:pt x="28" y="0"/>
                  </a:lnTo>
                  <a:lnTo>
                    <a:pt x="128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4" name=""/>
                <p:cNvSpPr txBox="1"/>
                <p:nvPr/>
              </p:nvSpPr>
              <p:spPr>
                <a:xfrm>
                  <a:off x="684360" y="260280"/>
                  <a:ext cx="1136520" cy="122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P</m:t>
                          </m:r>
                        </m:num>
                        <m:den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5" name=""/>
                <p:cNvSpPr txBox="1"/>
                <p:nvPr/>
              </p:nvSpPr>
              <p:spPr>
                <a:xfrm>
                  <a:off x="6782400" y="5224680"/>
                  <a:ext cx="1058760" cy="122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ε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Δl</m:t>
                          </m:r>
                        </m:num>
                        <m:den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56" name=""/>
            <p:cNvSpPr/>
            <p:nvPr/>
          </p:nvSpPr>
          <p:spPr>
            <a:xfrm rot="14726400">
              <a:off x="3314880" y="1697040"/>
              <a:ext cx="419400" cy="1454040"/>
            </a:xfrm>
            <a:custGeom>
              <a:avLst/>
              <a:gdLst>
                <a:gd name="textAreaLeft" fmla="*/ 267840 w 419400"/>
                <a:gd name="textAreaRight" fmla="*/ 419760 w 419400"/>
                <a:gd name="textAreaTop" fmla="*/ 37800 h 1454040"/>
                <a:gd name="textAreaBottom" fmla="*/ 1416240 h 145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9900"/>
                </a:solidFill>
                <a:latin typeface="Arial"/>
              </a:rPr>
              <a:t>Ensayo de Durez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1258920" y="907920"/>
            <a:ext cx="7273800" cy="58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779480" y="272880"/>
            <a:ext cx="5577120" cy="58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2077920" y="272880"/>
            <a:ext cx="4980240" cy="58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-1260720" y="259920"/>
            <a:ext cx="671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9900"/>
                </a:solidFill>
                <a:latin typeface="Arial"/>
              </a:rPr>
              <a:t>Ensayo de Charpy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50920" y="2852640"/>
            <a:ext cx="4419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Inventado en la Década de 1920</a:t>
            </a:r>
            <a:br>
              <a:rPr sz="3200"/>
            </a:b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por el Francés George </a:t>
            </a:r>
            <a:br>
              <a:rPr sz="3200"/>
            </a:b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CHARPY</a:t>
            </a:r>
            <a:br>
              <a:rPr sz="3200"/>
            </a:br>
            <a:br>
              <a:rPr sz="3200"/>
            </a:b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Norma</a:t>
            </a:r>
            <a:br>
              <a:rPr sz="4400"/>
            </a:br>
            <a:r>
              <a:rPr b="0" lang="es-MX" sz="4400" spc="-1" strike="noStrike">
                <a:solidFill>
                  <a:srgbClr val="eaeaea"/>
                </a:solidFill>
                <a:latin typeface="Arial"/>
              </a:rPr>
              <a:t>ASTM E-23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4500720" y="189000"/>
            <a:ext cx="46148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70400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8" dur="1" fill="hold"/>
                                        <p:tgtEl>
                                          <p:spTgt spid="3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88360" cy="620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4" dur="1" fill="hold"/>
                                        <p:tgtEl>
                                          <p:spTgt spid="3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9900"/>
                </a:solidFill>
                <a:latin typeface="Arial"/>
              </a:rPr>
              <a:t>Temperatura de Transi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678040" y="2481120"/>
            <a:ext cx="3353040" cy="2349720"/>
          </a:xfrm>
          <a:custGeom>
            <a:avLst/>
            <a:gdLst/>
            <a:ahLst/>
            <a:rect l="l" t="t" r="r" b="b"/>
            <a:pathLst>
              <a:path w="2112" h="1480">
                <a:moveTo>
                  <a:pt x="0" y="1456"/>
                </a:moveTo>
                <a:cubicBezTo>
                  <a:pt x="152" y="1468"/>
                  <a:pt x="304" y="1480"/>
                  <a:pt x="432" y="1456"/>
                </a:cubicBezTo>
                <a:cubicBezTo>
                  <a:pt x="560" y="1432"/>
                  <a:pt x="680" y="1384"/>
                  <a:pt x="768" y="1312"/>
                </a:cubicBezTo>
                <a:cubicBezTo>
                  <a:pt x="856" y="1240"/>
                  <a:pt x="904" y="1144"/>
                  <a:pt x="960" y="1024"/>
                </a:cubicBezTo>
                <a:cubicBezTo>
                  <a:pt x="1016" y="904"/>
                  <a:pt x="1056" y="720"/>
                  <a:pt x="1104" y="592"/>
                </a:cubicBezTo>
                <a:cubicBezTo>
                  <a:pt x="1152" y="464"/>
                  <a:pt x="1192" y="336"/>
                  <a:pt x="1248" y="256"/>
                </a:cubicBezTo>
                <a:cubicBezTo>
                  <a:pt x="1304" y="176"/>
                  <a:pt x="1344" y="152"/>
                  <a:pt x="1440" y="112"/>
                </a:cubicBezTo>
                <a:cubicBezTo>
                  <a:pt x="1536" y="72"/>
                  <a:pt x="1712" y="32"/>
                  <a:pt x="1824" y="16"/>
                </a:cubicBezTo>
                <a:cubicBezTo>
                  <a:pt x="1936" y="0"/>
                  <a:pt x="2024" y="8"/>
                  <a:pt x="2112" y="16"/>
                </a:cubicBezTo>
              </a:path>
            </a:pathLst>
          </a:custGeom>
          <a:noFill/>
          <a:ln w="38160">
            <a:solidFill>
              <a:srgbClr val="65b2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468360" y="2049480"/>
            <a:ext cx="8458200" cy="3431520"/>
            <a:chOff x="468360" y="2049480"/>
            <a:chExt cx="8458200" cy="3431520"/>
          </a:xfrm>
        </p:grpSpPr>
        <p:sp>
          <p:nvSpPr>
            <p:cNvPr id="391" name=""/>
            <p:cNvSpPr/>
            <p:nvPr/>
          </p:nvSpPr>
          <p:spPr>
            <a:xfrm flipV="1">
              <a:off x="2297160" y="2049480"/>
              <a:ext cx="0" cy="274320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468360" y="2201760"/>
              <a:ext cx="8458200" cy="3279240"/>
              <a:chOff x="468360" y="2201760"/>
              <a:chExt cx="8458200" cy="3279240"/>
            </a:xfrm>
          </p:grpSpPr>
          <p:sp>
            <p:nvSpPr>
              <p:cNvPr id="393" name=""/>
              <p:cNvSpPr/>
              <p:nvPr/>
            </p:nvSpPr>
            <p:spPr>
              <a:xfrm>
                <a:off x="2297160" y="4792680"/>
                <a:ext cx="4114800" cy="0"/>
              </a:xfrm>
              <a:prstGeom prst="line">
                <a:avLst/>
              </a:prstGeom>
              <a:ln w="3816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68360" y="2201760"/>
                <a:ext cx="1676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400" spc="-1" strike="noStrike">
                    <a:solidFill>
                      <a:srgbClr val="eaeaea"/>
                    </a:solidFill>
                    <a:latin typeface="Times New Roman"/>
                  </a:rPr>
                  <a:t>ENERGÍA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336000" y="5021280"/>
                <a:ext cx="2590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400" spc="-1" strike="noStrike">
                    <a:solidFill>
                      <a:srgbClr val="eaeaea"/>
                    </a:solidFill>
                    <a:latin typeface="Times New Roman"/>
                  </a:rPr>
                  <a:t>TEMPERATURA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6" name=""/>
          <p:cNvGrpSpPr/>
          <p:nvPr/>
        </p:nvGrpSpPr>
        <p:grpSpPr>
          <a:xfrm>
            <a:off x="468360" y="3573360"/>
            <a:ext cx="4343400" cy="2273400"/>
            <a:chOff x="468360" y="3573360"/>
            <a:chExt cx="4343400" cy="2273400"/>
          </a:xfrm>
        </p:grpSpPr>
        <p:sp>
          <p:nvSpPr>
            <p:cNvPr id="397" name=""/>
            <p:cNvSpPr/>
            <p:nvPr/>
          </p:nvSpPr>
          <p:spPr>
            <a:xfrm>
              <a:off x="4354560" y="3573360"/>
              <a:ext cx="0" cy="1219320"/>
            </a:xfrm>
            <a:prstGeom prst="line">
              <a:avLst/>
            </a:prstGeom>
            <a:ln w="9360">
              <a:solidFill>
                <a:srgbClr val="eaeae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73680" y="50212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eaeaea"/>
                  </a:solidFill>
                  <a:latin typeface="Times New Roman"/>
                </a:rPr>
                <a:t>TT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68360" y="5021280"/>
              <a:ext cx="2752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eaeaea"/>
                  </a:solidFill>
                  <a:latin typeface="Times New Roman"/>
                </a:rPr>
                <a:t>TEMPERATURA  DE TRANSICIÓN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3221280" y="5249520"/>
              <a:ext cx="752400" cy="22860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9900"/>
                </a:solidFill>
                <a:latin typeface="Arial"/>
              </a:rPr>
              <a:t>Curvas de Transi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1981080" y="2286000"/>
            <a:ext cx="0" cy="312408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981080" y="5410080"/>
            <a:ext cx="487692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590920" y="3060720"/>
            <a:ext cx="3352680" cy="2349360"/>
          </a:xfrm>
          <a:custGeom>
            <a:avLst/>
            <a:gdLst/>
            <a:ahLst/>
            <a:rect l="l" t="t" r="r" b="b"/>
            <a:pathLst>
              <a:path w="2112" h="1480">
                <a:moveTo>
                  <a:pt x="0" y="1456"/>
                </a:moveTo>
                <a:cubicBezTo>
                  <a:pt x="152" y="1468"/>
                  <a:pt x="304" y="1480"/>
                  <a:pt x="432" y="1456"/>
                </a:cubicBezTo>
                <a:cubicBezTo>
                  <a:pt x="560" y="1432"/>
                  <a:pt x="680" y="1384"/>
                  <a:pt x="768" y="1312"/>
                </a:cubicBezTo>
                <a:cubicBezTo>
                  <a:pt x="856" y="1240"/>
                  <a:pt x="904" y="1144"/>
                  <a:pt x="960" y="1024"/>
                </a:cubicBezTo>
                <a:cubicBezTo>
                  <a:pt x="1016" y="904"/>
                  <a:pt x="1056" y="720"/>
                  <a:pt x="1104" y="592"/>
                </a:cubicBezTo>
                <a:cubicBezTo>
                  <a:pt x="1152" y="464"/>
                  <a:pt x="1192" y="336"/>
                  <a:pt x="1248" y="256"/>
                </a:cubicBezTo>
                <a:cubicBezTo>
                  <a:pt x="1304" y="176"/>
                  <a:pt x="1344" y="152"/>
                  <a:pt x="1440" y="112"/>
                </a:cubicBezTo>
                <a:cubicBezTo>
                  <a:pt x="1536" y="72"/>
                  <a:pt x="1712" y="32"/>
                  <a:pt x="1824" y="16"/>
                </a:cubicBezTo>
                <a:cubicBezTo>
                  <a:pt x="1936" y="0"/>
                  <a:pt x="2024" y="8"/>
                  <a:pt x="2112" y="16"/>
                </a:cubicBezTo>
              </a:path>
            </a:pathLst>
          </a:custGeom>
          <a:noFill/>
          <a:ln w="38160">
            <a:solidFill>
              <a:srgbClr val="65b2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00400" y="3733920"/>
            <a:ext cx="2590920" cy="1676160"/>
          </a:xfrm>
          <a:custGeom>
            <a:avLst/>
            <a:gdLst/>
            <a:ahLst/>
            <a:rect l="l" t="t" r="r" b="b"/>
            <a:pathLst>
              <a:path w="1632" h="1056">
                <a:moveTo>
                  <a:pt x="0" y="1056"/>
                </a:moveTo>
                <a:cubicBezTo>
                  <a:pt x="100" y="1052"/>
                  <a:pt x="200" y="1048"/>
                  <a:pt x="288" y="1008"/>
                </a:cubicBezTo>
                <a:cubicBezTo>
                  <a:pt x="376" y="968"/>
                  <a:pt x="464" y="896"/>
                  <a:pt x="528" y="816"/>
                </a:cubicBezTo>
                <a:cubicBezTo>
                  <a:pt x="592" y="736"/>
                  <a:pt x="608" y="632"/>
                  <a:pt x="672" y="528"/>
                </a:cubicBezTo>
                <a:cubicBezTo>
                  <a:pt x="736" y="424"/>
                  <a:pt x="848" y="264"/>
                  <a:pt x="912" y="192"/>
                </a:cubicBezTo>
                <a:cubicBezTo>
                  <a:pt x="976" y="120"/>
                  <a:pt x="1000" y="120"/>
                  <a:pt x="1056" y="96"/>
                </a:cubicBezTo>
                <a:cubicBezTo>
                  <a:pt x="1112" y="72"/>
                  <a:pt x="1152" y="64"/>
                  <a:pt x="1248" y="48"/>
                </a:cubicBezTo>
                <a:cubicBezTo>
                  <a:pt x="1344" y="32"/>
                  <a:pt x="1488" y="16"/>
                  <a:pt x="1632" y="0"/>
                </a:cubicBezTo>
              </a:path>
            </a:pathLst>
          </a:custGeom>
          <a:noFill/>
          <a:ln w="381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666880" y="2362320"/>
            <a:ext cx="4114800" cy="1143000"/>
          </a:xfrm>
          <a:custGeom>
            <a:avLst/>
            <a:gdLst/>
            <a:ahLst/>
            <a:rect l="l" t="t" r="r" b="b"/>
            <a:pathLst>
              <a:path w="2592" h="720">
                <a:moveTo>
                  <a:pt x="0" y="720"/>
                </a:moveTo>
                <a:cubicBezTo>
                  <a:pt x="24" y="692"/>
                  <a:pt x="48" y="664"/>
                  <a:pt x="96" y="624"/>
                </a:cubicBezTo>
                <a:cubicBezTo>
                  <a:pt x="144" y="584"/>
                  <a:pt x="208" y="528"/>
                  <a:pt x="288" y="480"/>
                </a:cubicBezTo>
                <a:cubicBezTo>
                  <a:pt x="368" y="432"/>
                  <a:pt x="480" y="376"/>
                  <a:pt x="576" y="336"/>
                </a:cubicBezTo>
                <a:cubicBezTo>
                  <a:pt x="672" y="296"/>
                  <a:pt x="752" y="272"/>
                  <a:pt x="864" y="240"/>
                </a:cubicBezTo>
                <a:cubicBezTo>
                  <a:pt x="976" y="208"/>
                  <a:pt x="1112" y="168"/>
                  <a:pt x="1248" y="144"/>
                </a:cubicBezTo>
                <a:cubicBezTo>
                  <a:pt x="1384" y="120"/>
                  <a:pt x="1552" y="112"/>
                  <a:pt x="1680" y="96"/>
                </a:cubicBezTo>
                <a:cubicBezTo>
                  <a:pt x="1808" y="80"/>
                  <a:pt x="1864" y="64"/>
                  <a:pt x="2016" y="48"/>
                </a:cubicBezTo>
                <a:cubicBezTo>
                  <a:pt x="2168" y="32"/>
                  <a:pt x="2380" y="16"/>
                  <a:pt x="2592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581280" y="4330800"/>
            <a:ext cx="2590920" cy="1079280"/>
          </a:xfrm>
          <a:custGeom>
            <a:avLst/>
            <a:gdLst/>
            <a:ahLst/>
            <a:rect l="l" t="t" r="r" b="b"/>
            <a:pathLst>
              <a:path w="1632" h="680">
                <a:moveTo>
                  <a:pt x="0" y="680"/>
                </a:moveTo>
                <a:cubicBezTo>
                  <a:pt x="52" y="664"/>
                  <a:pt x="104" y="648"/>
                  <a:pt x="192" y="584"/>
                </a:cubicBezTo>
                <a:cubicBezTo>
                  <a:pt x="280" y="520"/>
                  <a:pt x="440" y="368"/>
                  <a:pt x="528" y="296"/>
                </a:cubicBezTo>
                <a:cubicBezTo>
                  <a:pt x="616" y="224"/>
                  <a:pt x="672" y="184"/>
                  <a:pt x="720" y="152"/>
                </a:cubicBezTo>
                <a:cubicBezTo>
                  <a:pt x="768" y="120"/>
                  <a:pt x="784" y="120"/>
                  <a:pt x="816" y="104"/>
                </a:cubicBezTo>
                <a:cubicBezTo>
                  <a:pt x="848" y="88"/>
                  <a:pt x="856" y="72"/>
                  <a:pt x="912" y="56"/>
                </a:cubicBezTo>
                <a:cubicBezTo>
                  <a:pt x="968" y="40"/>
                  <a:pt x="1032" y="16"/>
                  <a:pt x="1152" y="8"/>
                </a:cubicBezTo>
                <a:cubicBezTo>
                  <a:pt x="1272" y="0"/>
                  <a:pt x="1452" y="4"/>
                  <a:pt x="1632" y="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934320" y="2133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9900ff"/>
                </a:solidFill>
                <a:latin typeface="Times New Roman"/>
              </a:rPr>
              <a:t>FC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2895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5b2ff"/>
                </a:solidFill>
                <a:latin typeface="Times New Roman"/>
              </a:rPr>
              <a:t>0,22%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095880" y="3505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Times New Roman"/>
              </a:rPr>
              <a:t>0,31%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400800" y="4114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Times New Roman"/>
              </a:rPr>
              <a:t>0,43%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553080" y="5638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Times New Roman"/>
              </a:rPr>
              <a:t>°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267080" y="541008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581280" y="5638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Times New Roman"/>
              </a:rPr>
              <a:t>100°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57200" y="175248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Times New Roman"/>
              </a:rPr>
              <a:t>ENERGÍA (J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9900"/>
                </a:solidFill>
                <a:latin typeface="Arial"/>
              </a:rPr>
              <a:t>Ensayo de Tenacidad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17" name="johnbrownlibertyship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4530960" cy="233208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539640" y="3860640"/>
            <a:ext cx="48261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Times New Roman"/>
              </a:rPr>
              <a:t>Liberty Ships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Times New Roman"/>
              </a:rPr>
              <a:t>2700 fabricad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Times New Roman"/>
              </a:rPr>
              <a:t>400 fisurad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Times New Roman"/>
              </a:rPr>
              <a:t>20 se partieron en d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4427640" y="1268280"/>
            <a:ext cx="4176720" cy="296892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3"/>
          <a:stretch/>
        </p:blipFill>
        <p:spPr>
          <a:xfrm>
            <a:off x="5724360" y="3068640"/>
            <a:ext cx="2592720" cy="194796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6012000" y="5229360"/>
            <a:ext cx="48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Times New Roman"/>
              </a:rPr>
              <a:t>Titani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99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4172040" y="1484280"/>
            <a:ext cx="4971960" cy="460044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-252360" y="1484280"/>
            <a:ext cx="511164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9900"/>
                </a:solidFill>
                <a:latin typeface="Arial"/>
              </a:rPr>
              <a:t>Deformación Plástic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971640" y="1125360"/>
          <a:ext cx="7561080" cy="548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125360"/>
                    <a:ext cx="7561080" cy="548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94920" y="-53172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ff9900"/>
                </a:solidFill>
                <a:latin typeface="Arial"/>
              </a:rPr>
              <a:t>Fractur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754440" y="303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324000" y="1052640"/>
          <a:ext cx="3813120" cy="53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052640"/>
                    <a:ext cx="3813120" cy="53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9" name=""/>
          <p:cNvSpPr/>
          <p:nvPr/>
        </p:nvSpPr>
        <p:spPr>
          <a:xfrm>
            <a:off x="613728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4427640" y="1341360"/>
                <a:ext cx="4338360" cy="138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πa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rad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31" name=""/>
          <p:cNvSpPr/>
          <p:nvPr/>
        </p:nvSpPr>
        <p:spPr>
          <a:xfrm>
            <a:off x="4427640" y="3573360"/>
            <a:ext cx="424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Arial"/>
              </a:rPr>
              <a:t>Kc : Factor crítico de Intensidad de tension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9900"/>
                </a:solidFill>
                <a:latin typeface="Arial"/>
              </a:rPr>
              <a:t>Modos de Fractu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376880" y="32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144360" y="1341360"/>
          <a:ext cx="8999640" cy="372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360" y="1341360"/>
                    <a:ext cx="8999640" cy="37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6" name=""/>
          <p:cNvSpPr/>
          <p:nvPr/>
        </p:nvSpPr>
        <p:spPr>
          <a:xfrm>
            <a:off x="0" y="5084640"/>
            <a:ext cx="244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9900"/>
                </a:solidFill>
                <a:latin typeface="Arial"/>
              </a:rPr>
              <a:t>Modo I: Tensió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843280" y="5157720"/>
            <a:ext cx="244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9900"/>
                </a:solidFill>
                <a:latin typeface="Arial"/>
              </a:rPr>
              <a:t>Modo II: en Plan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867280" y="5300640"/>
            <a:ext cx="244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9900"/>
                </a:solidFill>
                <a:latin typeface="Arial"/>
              </a:rPr>
              <a:t>Modo III: Cizal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219640" cy="24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aeaea"/>
                </a:solidFill>
                <a:latin typeface="Arial"/>
              </a:rPr>
              <a:t>Dependencia entre Kc y el espesor  del  material</a:t>
            </a:r>
            <a:r>
              <a:rPr b="0" lang="es-MX" sz="4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09096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5219640" y="260280"/>
                <a:ext cx="3456000" cy="18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,5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C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s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>
            <a:off x="0" y="23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1042920" y="2276640"/>
          <a:ext cx="7705800" cy="43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276640"/>
                    <a:ext cx="7705800" cy="43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9900"/>
                </a:solidFill>
                <a:latin typeface="Arial"/>
              </a:rPr>
              <a:t>Como detectar una griet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7280" y="162828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eaeaea"/>
                </a:solidFill>
                <a:latin typeface="Arial"/>
              </a:rPr>
              <a:t>Ultrasonido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eaeaea"/>
                </a:solidFill>
                <a:latin typeface="Arial"/>
              </a:rPr>
              <a:t>Tintas penetrant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eaeaea"/>
                </a:solidFill>
                <a:latin typeface="Arial"/>
              </a:rPr>
              <a:t>Corriente Eddy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eaeaea"/>
                </a:solidFill>
                <a:latin typeface="Arial"/>
              </a:rPr>
              <a:t>Partículas magnética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eaeaea"/>
                </a:solidFill>
                <a:latin typeface="Arial"/>
              </a:rPr>
              <a:t>Rayos X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9900"/>
                </a:solidFill>
                <a:latin typeface="Arial"/>
              </a:rPr>
              <a:t>Tipos de Griet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290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4859280" y="1413000"/>
          <a:ext cx="3456000" cy="208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1413000"/>
                    <a:ext cx="3456000" cy="20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1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1116000" y="1844640"/>
                <a:ext cx="302436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σ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πa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53" name=""/>
          <p:cNvSpPr/>
          <p:nvPr/>
        </p:nvSpPr>
        <p:spPr>
          <a:xfrm>
            <a:off x="3700440" y="470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1332000" y="4581360"/>
                <a:ext cx="331308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σ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πa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55" name=""/>
          <p:cNvSpPr/>
          <p:nvPr/>
        </p:nvSpPr>
        <p:spPr>
          <a:xfrm>
            <a:off x="6792840" y="439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456" name=""/>
          <p:cNvGraphicFramePr/>
          <p:nvPr/>
        </p:nvGraphicFramePr>
        <p:xfrm>
          <a:off x="4716360" y="3933720"/>
          <a:ext cx="3527640" cy="228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3933720"/>
                    <a:ext cx="3527640" cy="22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9900"/>
                </a:solidFill>
                <a:latin typeface="Arial"/>
              </a:rPr>
              <a:t>Fatig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5435640" y="1773000"/>
            <a:ext cx="3457440" cy="2664000"/>
            <a:chOff x="5435640" y="1773000"/>
            <a:chExt cx="3457440" cy="2664000"/>
          </a:xfrm>
        </p:grpSpPr>
        <p:grpSp>
          <p:nvGrpSpPr>
            <p:cNvPr id="460" name=""/>
            <p:cNvGrpSpPr/>
            <p:nvPr/>
          </p:nvGrpSpPr>
          <p:grpSpPr>
            <a:xfrm>
              <a:off x="5435640" y="1773000"/>
              <a:ext cx="3457440" cy="1921680"/>
              <a:chOff x="5435640" y="1773000"/>
              <a:chExt cx="3457440" cy="1921680"/>
            </a:xfrm>
          </p:grpSpPr>
          <p:sp>
            <p:nvSpPr>
              <p:cNvPr id="461" name=""/>
              <p:cNvSpPr/>
              <p:nvPr/>
            </p:nvSpPr>
            <p:spPr>
              <a:xfrm flipV="1">
                <a:off x="7195680" y="1773000"/>
                <a:ext cx="0" cy="19062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V="1">
                <a:off x="6118920" y="1788480"/>
                <a:ext cx="2109600" cy="19062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697360" y="1788840"/>
                <a:ext cx="311328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779800" y="3668040"/>
                <a:ext cx="311328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7195680" y="2040840"/>
                <a:ext cx="75636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458760" y="3400200"/>
                <a:ext cx="75636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7215120" y="2327760"/>
                <a:ext cx="47988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735240" y="3103920"/>
                <a:ext cx="47988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210080" y="1788840"/>
                <a:ext cx="98928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206400" y="3668040"/>
                <a:ext cx="98928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435640" y="1978200"/>
                <a:ext cx="1032840" cy="488160"/>
              </a:xfrm>
              <a:prstGeom prst="rect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eaeaea"/>
                    </a:solidFill>
                    <a:latin typeface="Arial"/>
                    <a:ea typeface="Arial"/>
                  </a:rPr>
                  <a:t>tracción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72" name=""/>
            <p:cNvSpPr/>
            <p:nvPr/>
          </p:nvSpPr>
          <p:spPr>
            <a:xfrm>
              <a:off x="5517720" y="3948480"/>
              <a:ext cx="1396440" cy="488520"/>
            </a:xfrm>
            <a:prstGeom prst="rect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eaeaea"/>
                  </a:solidFill>
                  <a:latin typeface="Arial"/>
                  <a:ea typeface="Arial"/>
                </a:rPr>
                <a:t>compresión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216000" y="3111480"/>
            <a:ext cx="9144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0" lang="es-MX" sz="900" spc="-1" strike="noStrike">
                <a:solidFill>
                  <a:srgbClr val="eaeaea"/>
                </a:solidFill>
                <a:latin typeface="Arial"/>
                <a:ea typeface="Arial"/>
              </a:rPr>
              <a:t> 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1206360" y="4106520"/>
            <a:ext cx="4012920" cy="2346480"/>
            <a:chOff x="1206360" y="4106520"/>
            <a:chExt cx="4012920" cy="2346480"/>
          </a:xfrm>
        </p:grpSpPr>
        <p:grpSp>
          <p:nvGrpSpPr>
            <p:cNvPr id="475" name=""/>
            <p:cNvGrpSpPr/>
            <p:nvPr/>
          </p:nvGrpSpPr>
          <p:grpSpPr>
            <a:xfrm>
              <a:off x="1468080" y="4106520"/>
              <a:ext cx="3202560" cy="1635120"/>
              <a:chOff x="1468080" y="4106520"/>
              <a:chExt cx="3202560" cy="1635120"/>
            </a:xfrm>
          </p:grpSpPr>
          <p:sp>
            <p:nvSpPr>
              <p:cNvPr id="476" name=""/>
              <p:cNvSpPr/>
              <p:nvPr/>
            </p:nvSpPr>
            <p:spPr>
              <a:xfrm>
                <a:off x="1480680" y="5741640"/>
                <a:ext cx="3189960" cy="0"/>
              </a:xfrm>
              <a:prstGeom prst="line">
                <a:avLst/>
              </a:prstGeom>
              <a:ln w="38160">
                <a:solidFill>
                  <a:srgbClr val="65b2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V="1">
                <a:off x="1468080" y="4106520"/>
                <a:ext cx="0" cy="1634760"/>
              </a:xfrm>
              <a:prstGeom prst="line">
                <a:avLst/>
              </a:prstGeom>
              <a:ln w="38160">
                <a:solidFill>
                  <a:srgbClr val="65b2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468080" y="5306760"/>
                <a:ext cx="3177000" cy="0"/>
              </a:xfrm>
              <a:prstGeom prst="line">
                <a:avLst/>
              </a:prstGeom>
              <a:ln w="38160">
                <a:solidFill>
                  <a:srgbClr val="65b2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79" name=""/>
            <p:cNvSpPr/>
            <p:nvPr/>
          </p:nvSpPr>
          <p:spPr>
            <a:xfrm>
              <a:off x="1206360" y="4925880"/>
              <a:ext cx="3233520" cy="782280"/>
            </a:xfrm>
            <a:custGeom>
              <a:avLst/>
              <a:gdLst/>
              <a:ahLst/>
              <a:rect l="l" t="t" r="r" b="b"/>
              <a:pathLst>
                <a:path w="3802" h="784">
                  <a:moveTo>
                    <a:pt x="0" y="781"/>
                  </a:moveTo>
                  <a:cubicBezTo>
                    <a:pt x="309" y="398"/>
                    <a:pt x="619" y="16"/>
                    <a:pt x="945" y="16"/>
                  </a:cubicBezTo>
                  <a:cubicBezTo>
                    <a:pt x="1271" y="16"/>
                    <a:pt x="1627" y="784"/>
                    <a:pt x="1957" y="781"/>
                  </a:cubicBezTo>
                  <a:cubicBezTo>
                    <a:pt x="2287" y="778"/>
                    <a:pt x="2618" y="2"/>
                    <a:pt x="2925" y="1"/>
                  </a:cubicBezTo>
                  <a:cubicBezTo>
                    <a:pt x="3232" y="0"/>
                    <a:pt x="3517" y="386"/>
                    <a:pt x="3802" y="773"/>
                  </a:cubicBezTo>
                </a:path>
              </a:pathLst>
            </a:custGeom>
            <a:noFill/>
            <a:ln w="38160">
              <a:solidFill>
                <a:srgbClr val="65b2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531440" y="4434120"/>
              <a:ext cx="983520" cy="79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eaeaea"/>
                  </a:solidFill>
                  <a:latin typeface="Symbol"/>
                  <a:ea typeface="Symbol"/>
                </a:rPr>
                <a:t></a:t>
              </a:r>
              <a:r>
                <a:rPr b="0" lang="es-MX" sz="2400" spc="-1" strike="noStrike" baseline="-25000">
                  <a:solidFill>
                    <a:srgbClr val="eaeaea"/>
                  </a:solidFill>
                  <a:latin typeface="Times New Roman"/>
                  <a:ea typeface="Times New Roman"/>
                </a:rPr>
                <a:t>m</a:t>
              </a:r>
              <a:r>
                <a:rPr b="0" lang="es-ES" sz="2400" spc="-1" strike="noStrike" baseline="-25000">
                  <a:solidFill>
                    <a:srgbClr val="eaeaea"/>
                  </a:solidFill>
                  <a:latin typeface="Times New Roman"/>
                  <a:ea typeface="Times New Roman"/>
                </a:rPr>
                <a:t>á</a:t>
              </a:r>
              <a:r>
                <a:rPr b="0" lang="es-ES" sz="2400" spc="-1" strike="noStrike" baseline="-30000">
                  <a:solidFill>
                    <a:srgbClr val="eaeaea"/>
                  </a:solidFill>
                  <a:latin typeface="Times New Roman"/>
                  <a:ea typeface="Times New Roman"/>
                </a:rPr>
                <a:t>x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540160" y="5798520"/>
              <a:ext cx="934200" cy="65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eaeaea"/>
                  </a:solidFill>
                  <a:latin typeface="Symbol"/>
                  <a:ea typeface="Symbol"/>
                </a:rPr>
                <a:t></a:t>
              </a:r>
              <a:r>
                <a:rPr b="0" lang="es-ES" sz="2400" spc="-1" strike="noStrike" baseline="-30000">
                  <a:solidFill>
                    <a:srgbClr val="eaeaea"/>
                  </a:solidFill>
                  <a:latin typeface="Times New Roman"/>
                  <a:ea typeface="Times New Roman"/>
                </a:rPr>
                <a:t>mín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543560" y="5033880"/>
              <a:ext cx="675720" cy="57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eaeaea"/>
                  </a:solidFill>
                  <a:latin typeface="Symbol"/>
                  <a:ea typeface="Symbol"/>
                </a:rPr>
                <a:t></a:t>
              </a:r>
              <a:r>
                <a:rPr b="0" lang="es-ES" sz="2400" spc="-1" strike="noStrike" baseline="-30000">
                  <a:solidFill>
                    <a:srgbClr val="eaeaea"/>
                  </a:solidFill>
                  <a:latin typeface="Times New Roman"/>
                  <a:ea typeface="Times New Roman"/>
                </a:rPr>
                <a:t>m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483" name=""/>
          <p:cNvSpPr/>
          <p:nvPr/>
        </p:nvSpPr>
        <p:spPr>
          <a:xfrm>
            <a:off x="4140360" y="5734080"/>
            <a:ext cx="105876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</a:t>
            </a:r>
            <a:r>
              <a:rPr b="0" lang="es-MX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° </a:t>
            </a:r>
            <a:r>
              <a:rPr b="0" lang="es-E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icl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16000" y="2546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eaeaea"/>
                </a:solidFill>
                <a:latin typeface="Arial"/>
                <a:ea typeface="Arial"/>
              </a:rPr>
              <a:t> 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971640" y="3645000"/>
            <a:ext cx="3906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216080" y="1652760"/>
            <a:ext cx="158760" cy="295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900000" y="1989000"/>
            <a:ext cx="4176720" cy="1856880"/>
            <a:chOff x="900000" y="1989000"/>
            <a:chExt cx="4176720" cy="1856880"/>
          </a:xfrm>
        </p:grpSpPr>
        <p:sp>
          <p:nvSpPr>
            <p:cNvPr id="488" name=""/>
            <p:cNvSpPr/>
            <p:nvPr/>
          </p:nvSpPr>
          <p:spPr>
            <a:xfrm>
              <a:off x="1216080" y="1989000"/>
              <a:ext cx="3011760" cy="556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228200" y="2236320"/>
              <a:ext cx="0" cy="160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900000" y="2267280"/>
              <a:ext cx="417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16080" y="2545920"/>
              <a:ext cx="158400" cy="295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219320" y="2558520"/>
              <a:ext cx="155160" cy="2826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1219320" y="1658880"/>
            <a:ext cx="155520" cy="282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898640" y="1398600"/>
            <a:ext cx="458640" cy="1114560"/>
          </a:xfrm>
          <a:custGeom>
            <a:avLst/>
            <a:gdLst>
              <a:gd name="textAreaLeft" fmla="*/ 80280 w 458640"/>
              <a:gd name="textAreaRight" fmla="*/ 332640 w 458640"/>
              <a:gd name="textAreaTop" fmla="*/ 149040 h 1114560"/>
              <a:gd name="textAreaBottom" fmla="*/ 965520 h 1114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611280" y="404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9900"/>
                </a:solidFill>
                <a:latin typeface="Arial"/>
              </a:rPr>
              <a:t>CURVAS S-N (Wohler)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2209680" y="2362320"/>
            <a:ext cx="0" cy="3200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209680" y="5562720"/>
            <a:ext cx="419112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654280" y="2590920"/>
            <a:ext cx="2908440" cy="2070000"/>
          </a:xfrm>
          <a:custGeom>
            <a:avLst/>
            <a:gdLst/>
            <a:ahLst/>
            <a:rect l="l" t="t" r="r" b="b"/>
            <a:pathLst>
              <a:path w="1832" h="1304">
                <a:moveTo>
                  <a:pt x="8" y="0"/>
                </a:moveTo>
                <a:cubicBezTo>
                  <a:pt x="4" y="56"/>
                  <a:pt x="0" y="112"/>
                  <a:pt x="8" y="192"/>
                </a:cubicBezTo>
                <a:cubicBezTo>
                  <a:pt x="16" y="272"/>
                  <a:pt x="32" y="400"/>
                  <a:pt x="56" y="480"/>
                </a:cubicBezTo>
                <a:cubicBezTo>
                  <a:pt x="80" y="560"/>
                  <a:pt x="120" y="616"/>
                  <a:pt x="152" y="672"/>
                </a:cubicBezTo>
                <a:cubicBezTo>
                  <a:pt x="184" y="728"/>
                  <a:pt x="208" y="768"/>
                  <a:pt x="248" y="816"/>
                </a:cubicBezTo>
                <a:cubicBezTo>
                  <a:pt x="288" y="864"/>
                  <a:pt x="336" y="912"/>
                  <a:pt x="392" y="960"/>
                </a:cubicBezTo>
                <a:cubicBezTo>
                  <a:pt x="448" y="1008"/>
                  <a:pt x="520" y="1064"/>
                  <a:pt x="584" y="1104"/>
                </a:cubicBezTo>
                <a:cubicBezTo>
                  <a:pt x="648" y="1144"/>
                  <a:pt x="704" y="1176"/>
                  <a:pt x="776" y="1200"/>
                </a:cubicBezTo>
                <a:cubicBezTo>
                  <a:pt x="848" y="1224"/>
                  <a:pt x="912" y="1232"/>
                  <a:pt x="1016" y="1248"/>
                </a:cubicBezTo>
                <a:cubicBezTo>
                  <a:pt x="1120" y="1264"/>
                  <a:pt x="1264" y="1288"/>
                  <a:pt x="1400" y="1296"/>
                </a:cubicBezTo>
                <a:cubicBezTo>
                  <a:pt x="1536" y="1304"/>
                  <a:pt x="1712" y="1296"/>
                  <a:pt x="1832" y="1296"/>
                </a:cubicBezTo>
              </a:path>
            </a:pathLst>
          </a:custGeom>
          <a:noFill/>
          <a:ln w="38160">
            <a:solidFill>
              <a:srgbClr val="65b2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553080" y="518148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Times New Roman"/>
              </a:rPr>
              <a:t>N° de cicl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33520" y="213372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Times New Roman"/>
              </a:rPr>
              <a:t>Esfuerzo Aplicad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9900"/>
                </a:solidFill>
                <a:latin typeface="Arial"/>
              </a:rPr>
              <a:t>Fatig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98448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40268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0876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262480" y="34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81520" y="384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07" name="fig243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4087800" cy="424800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6543720" y="249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09" name="fig 244" descr=""/>
          <p:cNvPicPr/>
          <p:nvPr/>
        </p:nvPicPr>
        <p:blipFill>
          <a:blip r:embed="rId2"/>
          <a:stretch/>
        </p:blipFill>
        <p:spPr>
          <a:xfrm>
            <a:off x="3059280" y="1197000"/>
            <a:ext cx="5760720" cy="2079720"/>
          </a:xfrm>
          <a:prstGeom prst="rect">
            <a:avLst/>
          </a:prstGeom>
          <a:ln w="0">
            <a:noFill/>
          </a:ln>
        </p:spPr>
      </p:pic>
      <p:pic>
        <p:nvPicPr>
          <p:cNvPr id="510" name="fig17b" descr=""/>
          <p:cNvPicPr/>
          <p:nvPr/>
        </p:nvPicPr>
        <p:blipFill>
          <a:blip r:embed="rId3"/>
          <a:stretch/>
        </p:blipFill>
        <p:spPr>
          <a:xfrm>
            <a:off x="4356000" y="3284640"/>
            <a:ext cx="360072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403280" y="981000"/>
            <a:ext cx="597708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011240" y="272880"/>
            <a:ext cx="7113600" cy="58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5760" y="1168560"/>
            <a:ext cx="822636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900000" y="259920"/>
            <a:ext cx="605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9900"/>
                </a:solidFill>
                <a:latin typeface="Arial"/>
              </a:rPr>
              <a:t>Ductilid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23640" y="105264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La ductilidad se mide por la deformación ingenieril de fractura  y por la reducción de áre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389480" y="420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476360" y="2349360"/>
                <a:ext cx="6551640" cy="159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1547640" y="4149720"/>
                <a:ext cx="2374920" cy="13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4859280" y="4076640"/>
                <a:ext cx="338472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l</m:t>
                        </m:r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arlos Amestica</cp:lastModifiedBy>
  <dcterms:modified xsi:type="dcterms:W3CDTF">2005-08-09T16:17:57Z</dcterms:modified>
  <cp:revision>68</cp:revision>
  <dc:subject/>
  <dc:title>PowerPoint Presentation</dc:title>
</cp:coreProperties>
</file>