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C938-A543-414F-A6A9-1327A956D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AB07-8C7E-4815-ACE6-065A6ADF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C5D4-2F28-4E30-87FD-50B516220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EFBC-0418-4EF6-B321-9D87140F8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7A21-2116-4E62-ACC9-45BD0F44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A349-FF60-47F9-A34C-8493259A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384F-E617-44BE-8630-50543F26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A430-C79D-480B-A2B2-D965D774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962D-15A7-44EA-A38F-D7142FAB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5AB4-70E4-4320-B2B8-CEBB4C3C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F028-46CD-477E-B8DB-453DC7E5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E94A-D84F-4971-B7AD-DF55A99F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0864-D935-4BCC-88C1-668FC3CA3D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60920" y="42372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CANISMOS DE ENDURECI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75400" y="1360440"/>
            <a:ext cx="683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n cristal fluye cuando la fuerza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τ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b (por unidad de longitu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Supera a f, resistencia o fuerza que se opone al movimien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e dislocaciones. La resistencia a la fluencia de la dislocación es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780000" y="3357720"/>
                <a:ext cx="140328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960560" y="423720"/>
            <a:ext cx="49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DURECIMIENTO POR SOLUCION SOL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6840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17080" y="620640"/>
            <a:ext cx="63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CIPITACION Y ENDURECIMIENTO POR DISPER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5029200" cy="4276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372360" y="3068640"/>
                <a:ext cx="16192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L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341440" y="836640"/>
            <a:ext cx="39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URECIMIENTO POR TRABA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037200" cy="3617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340000" y="5300640"/>
                <a:ext cx="42116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sub>
                        </m:sSub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h</m:t>
                            </m:r>
                          </m:sub>
                        </m:sSub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702160" y="404640"/>
            <a:ext cx="354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ENCIA EN POLICRIST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050920" y="1197000"/>
            <a:ext cx="512136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5472000" cy="4403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492360" y="5157720"/>
                <a:ext cx="183528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2:43:34Z</dcterms:created>
  <dc:creator>Carlos Amestica</dc:creator>
  <dc:description/>
  <dc:language>en-US</dc:language>
  <cp:lastModifiedBy>Carlos Amestica</cp:lastModifiedBy>
  <dcterms:modified xsi:type="dcterms:W3CDTF">2005-08-17T23:26:06Z</dcterms:modified>
  <cp:revision>2</cp:revision>
  <dc:subject/>
  <dc:title>Diapositiva 1</dc:title>
</cp:coreProperties>
</file>