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E04-61B0-42BC-9E92-4FBBEFC3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9F6-110B-4C90-8785-D2DF0564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B35-9BE7-4E15-B881-2A141C11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F5-64E8-4FF8-B8B7-2E90B620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F5-673D-4C3A-95B1-0A8B0F9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29B-4609-4712-98AC-00A775C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ED3-B406-4221-8840-F975718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8B3-D17C-4618-A4F6-DEA570A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5C0-EBDC-4EFB-928F-DD494C05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ACC-B291-4302-BB89-0F763141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D32-D7EB-40C3-B597-91F3282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91F-DCB7-479F-9509-97BC9AB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EE63-C034-4E1C-903A-F20106161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0920" y="423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ANISMOS DE ENDU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5400" y="1360440"/>
            <a:ext cx="68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ristal fluye cuando la fuerza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 (por unidad de long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pera a f, resistencia o fuerza que se opone al movi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dislocaciones. La resistencia a la fluencia de la dislocación 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357720"/>
                <a:ext cx="1403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0560" y="4237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URECIMIENTO POR SOLUCION SO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84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7080" y="62064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PITACION Y ENDURECIMIENTO POR DISP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029200" cy="427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72360" y="3068640"/>
                <a:ext cx="1619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1440" y="8366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URECIMIENTO POR TRABA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37200" cy="361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40000" y="5300640"/>
                <a:ext cx="4211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02160" y="40464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ENCIA EN POLICRIS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2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472000" cy="440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92360" y="5157720"/>
                <a:ext cx="1835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43:34Z</dcterms:created>
  <dc:creator>Carlos Amestica</dc:creator>
  <dc:description/>
  <dc:language>en-US</dc:language>
  <cp:lastModifiedBy>Carlos Amestica</cp:lastModifiedBy>
  <dcterms:modified xsi:type="dcterms:W3CDTF">2005-08-17T23:26:06Z</dcterms:modified>
  <cp:revision>2</cp:revision>
  <dc:subject/>
  <dc:title>Diapositiva 1</dc:title>
</cp:coreProperties>
</file>