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FEF-6851-4C69-9F4D-8411ADE4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CFC-8A4A-447A-86BE-19949FC8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7F4-13A8-4BC8-B9D5-47B29083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003-BC68-4604-9B51-2DB95918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8C8-7472-4148-B1C5-779D54A1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2D8-0CEC-4637-9896-1E512E3A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681-9A18-4AE6-94B9-A81616F4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37D-C529-4AF0-A9BC-DE184286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3AE-B3E7-4018-9CD4-E062B19C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F09-44C5-4A2D-B8F0-43CD38D2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EDB-3EF4-4AD5-A86F-8E6285E6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DD3-4D7D-4C30-A3A3-455BE264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0FA8-0CF1-4F9F-A28A-4D959665BD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0920" y="42372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CANISMOS DE ENDU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5400" y="1360440"/>
            <a:ext cx="68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ristal fluye cuando la fuerza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 (por unidad de longit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upera a f, resistencia o fuerza que se opone al movi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dislocaciones. La resistencia a la fluencia de la dislocación e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80000" y="3357720"/>
                <a:ext cx="1403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60560" y="42372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DURECIMIENTO POR SOLUCION SO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84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7080" y="620640"/>
            <a:ext cx="63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PITACION Y ENDURECIMIENTO POR DISP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029200" cy="427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372360" y="3068640"/>
                <a:ext cx="1619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1440" y="83664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URECIMIENTO POR TRABA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037200" cy="361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340000" y="5300640"/>
                <a:ext cx="42116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h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02160" y="404640"/>
            <a:ext cx="35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ENCIA EN POLICRIS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121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472000" cy="440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92360" y="5157720"/>
                <a:ext cx="18352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2:43:34Z</dcterms:created>
  <dc:creator>Carlos Amestica</dc:creator>
  <dc:description/>
  <dc:language>en-US</dc:language>
  <cp:lastModifiedBy>Carlos Amestica</cp:lastModifiedBy>
  <dcterms:modified xsi:type="dcterms:W3CDTF">2005-08-17T23:26:06Z</dcterms:modified>
  <cp:revision>2</cp:revision>
  <dc:subject/>
  <dc:title>Diapositiva 1</dc:title>
</cp:coreProperties>
</file>