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ED16-BF29-4419-A744-915EAECB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ED4-1031-40B0-A120-033AED81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871-5188-482A-B196-9F5EA81F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C91-8A02-46AF-908E-5E11FAAF7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275-4550-45CA-A473-6BA0B25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87E-62FB-4410-9A6D-EB46938F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1EC-6DB6-46B4-B8D0-7FDA1ED5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296-638B-4B39-BEA3-D0DFB7FF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2B4-F70D-4AEF-AA76-F18E9895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D9CE-BB32-4E58-9746-CAA181D4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B342-CFFE-4157-84F0-017A762A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87A-F74A-452F-B06F-6CDF9A99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32FF-4ECC-4D30-A53B-5BD4717BB6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60920" y="42372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CANISMOS DE ENDU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5400" y="1360440"/>
            <a:ext cx="68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 cristal fluye cuando la fuerza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b (por unidad de longitu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Supera a f, resistencia o fuerza que se opone al movi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dislocaciones. La resistencia a la fluencia de la dislocación e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80000" y="3357720"/>
                <a:ext cx="14032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960560" y="423720"/>
            <a:ext cx="49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DURECIMIENTO POR SOLUCION SO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84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7080" y="620640"/>
            <a:ext cx="63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CIPITACION Y ENDURECIMIENTO POR DISP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029200" cy="4276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372360" y="3068640"/>
                <a:ext cx="1619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41440" y="836640"/>
            <a:ext cx="39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URECIMIENTO POR TRABA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037200" cy="361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340000" y="5300640"/>
                <a:ext cx="42116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h</m:t>
                            </m:r>
                          </m:sub>
                        </m:sSub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702160" y="404640"/>
            <a:ext cx="35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ENCIA EN POLICRIS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121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5472000" cy="440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492360" y="5157720"/>
                <a:ext cx="18352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2:43:34Z</dcterms:created>
  <dc:creator>Carlos Amestica</dc:creator>
  <dc:description/>
  <dc:language>en-US</dc:language>
  <cp:lastModifiedBy>Carlos Amestica</cp:lastModifiedBy>
  <dcterms:modified xsi:type="dcterms:W3CDTF">2005-08-17T23:26:06Z</dcterms:modified>
  <cp:revision>2</cp:revision>
  <dc:subject/>
  <dc:title>Diapositiva 1</dc:title>
</cp:coreProperties>
</file>