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E71-4AA0-4E63-A95B-CE78191E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BC2-64CA-423A-8F33-B90C5618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9B4-6382-449C-B4BE-F59BE27A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918-F3AD-4FA2-91B8-91F07225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06DC-D731-469F-ABD4-39FE7C48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2C28-D915-4BE3-840D-45B56D6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D8B5-5A80-4203-8D7F-736673B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B9E-D2A7-46F8-A08A-25D0D27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27AD-C164-4538-8305-C13A318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6FE-7847-4A57-806C-86E4BE02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FA7-FF20-4749-947E-7364671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3BE-360F-48C3-A00E-2A145458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74CD-7BA8-44C9-A50D-683DE98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CA7-3BEC-495F-9AF0-1BC4389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F657-84DD-4A29-AC49-D9596D9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8023-AE0C-4BDA-9D0D-CBE0B861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B6B3-CC95-475C-92F1-0565213F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DE0-95A8-45D7-A792-247346DB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B3D-E47E-40E7-8554-AB466DE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3A8-7A8B-4E58-A9A8-43D3778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AA1-9507-4A26-B2DC-65C8FA4B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E3E-5CE7-4EA4-B5B1-D1B656E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9E4-BBFD-466D-8517-8BF60C4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AF3-F260-49AD-BFA5-ABEBA6D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1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SzPct val="100000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SzPct val="100000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SzPct val="100000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SzPct val="100000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SzPct val="100000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78ABE06-3C0A-42B8-86AC-70319C846B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82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131560"/>
            <a:ext cx="10960200" cy="243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E9EF293-9662-4718-9D1E-28A7A1F915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217520" algn="ctr">
              <a:spcBef>
                <a:spcPts val="7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27360" algn="ctr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35400" algn="ctr">
              <a:spcBef>
                <a:spcPts val="675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71320" y="539640"/>
            <a:ext cx="377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ONES DE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y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57480" y="1785960"/>
            <a:ext cx="8342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7000" y="103824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ódulo de Young es enton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343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5400" y="822240"/>
                <a:ext cx="11210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38440" y="247968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del enlace iónico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la energía del enlace está dada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05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242120" y="2190600"/>
                <a:ext cx="306540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tract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puls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64080" y="4081320"/>
            <a:ext cx="667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derivar con respecto a r, se ob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uerza entre  los átomos, que, debe s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o en r =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e aquí se obtiene la constant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034480" y="4206960"/>
                <a:ext cx="19126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n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60840" y="63864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29400" y="6151680"/>
                <a:ext cx="18414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298120" y="78073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= (n –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45920" y="40968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ARQUIA DE LA 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6680" y="1562040"/>
            <a:ext cx="100512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 de enla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N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 (GPa) con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2.5 x 10-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valente (ej. C – 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0 – 18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-1000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tálico (ej. Cu – Cu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5 – 7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60 –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Na- Cl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8 – 24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32 –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H2O-H2O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2 – 3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8 –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n der Waal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0.5 – 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2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9400" y="2695680"/>
            <a:ext cx="986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6320" y="6654960"/>
            <a:ext cx="1000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20680" y="1614600"/>
            <a:ext cx="97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86120" y="1471680"/>
            <a:ext cx="8151480" cy="6761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472120" y="40968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EN G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994120" y="606600"/>
            <a:ext cx="59832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9400" y="1614600"/>
            <a:ext cx="1029168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6040" y="887400"/>
            <a:ext cx="782172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54200" y="887400"/>
            <a:ext cx="9331200" cy="71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05040" y="2550960"/>
            <a:ext cx="103647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6320" y="2263680"/>
            <a:ext cx="10576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6840" y="125424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 DE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3400" y="3559320"/>
                <a:ext cx="295272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937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7760" y="3516480"/>
                <a:ext cx="324000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54840" y="534960"/>
            <a:ext cx="528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DE TENSION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09760" y="1398600"/>
            <a:ext cx="551052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993400" y="606600"/>
            <a:ext cx="59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CION DE DEFORMACION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37040" y="1758960"/>
            <a:ext cx="5760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07560" y="5349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Y DE HO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145040" y="1542960"/>
                <a:ext cx="313668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145040" y="3127320"/>
                <a:ext cx="3168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G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45040" y="4782960"/>
                <a:ext cx="3382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73400" y="6434280"/>
                <a:ext cx="7777080" cy="17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≈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87760" y="55404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CION D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0320" y="1614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23920" y="723096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ra en vibración con una masa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149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105760" y="1974960"/>
                <a:ext cx="37450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43578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105760" y="4062240"/>
                <a:ext cx="36417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43196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177040" y="6151680"/>
                <a:ext cx="3384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83560" y="39060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OS PARA 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94120" y="1182600"/>
            <a:ext cx="640872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30840" y="6066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ENTRE A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81400" y="1471680"/>
            <a:ext cx="532908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6320" y="3487680"/>
            <a:ext cx="1029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97400" y="4351320"/>
            <a:ext cx="6475680" cy="423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178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86120" y="534960"/>
                <a:ext cx="191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520" y="4682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5520" y="67932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05520" y="770040"/>
            <a:ext cx="367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constante del res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989520" y="2046240"/>
                <a:ext cx="251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69600" y="1994040"/>
            <a:ext cx="241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rza entre 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 de á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86120" y="3198960"/>
                <a:ext cx="2560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63920" y="32716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76840" y="30020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número de enlace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dad de á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840" y="4638600"/>
            <a:ext cx="4667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eformació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ob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dividir (r –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por el espaci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o tan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243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625760" y="6583320"/>
                <a:ext cx="1697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3:52:58Z</dcterms:created>
  <dc:creator>Oscar Bustos</dc:creator>
  <dc:description/>
  <dc:language>en-US</dc:language>
  <cp:lastModifiedBy>Carlos Amestica</cp:lastModifiedBy>
  <dcterms:modified xsi:type="dcterms:W3CDTF">2005-08-04T00:08:26Z</dcterms:modified>
  <cp:revision>7</cp:revision>
  <dc:subject/>
  <dc:title>Diapositiva 1</dc:title>
</cp:coreProperties>
</file>