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8.jpeg" ContentType="image/jpeg"/>
  <Override PartName="/ppt/media/image10.jpeg" ContentType="image/jpeg"/>
  <Override PartName="/ppt/media/image1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79300" cy="9132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AB98-F91A-413B-B52F-76CD67F2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AC3-8E46-46F4-B6C0-A127CA12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5131-CE93-4745-ADA6-9E8FEB160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0AF-DA97-4264-A9F1-0928FFCE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6147E-CE43-4335-9947-1737126AF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9C68-AA4A-4804-8CB1-79859093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A736F-5D9A-47BA-8746-E16893EA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C59B-FA12-45E1-AC12-84F006EFD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39B1-FB92-43C4-A0B2-956275EB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6A61-44A4-4D93-9750-5DA8A641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0A78E-3148-468B-BE4E-2310FBDD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E928-F790-4748-978F-78B16D35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E82A5-3C6A-4AE9-AD4D-F2771A4F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5AB9-1C1F-4B23-8661-3C3A1866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7D34-C775-4DE9-8C7D-FBD62615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C2F3-2F23-4AC2-9E51-11BB7A498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1496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8020800" y="213192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60912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31496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8020800" y="5284080"/>
            <a:ext cx="352908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3CB62-535E-455C-AF19-7237F0DD8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7C78-EFAF-4A58-A3CE-8D7D9403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87B-B71C-4C91-A174-0B4CF676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17E1-37E7-4992-B61A-44D0EF90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69360"/>
            <a:ext cx="109602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AF7-25F1-463B-BAB1-FEEF2FA7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DFDC-FB61-4C4C-9781-A4C1C835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5480" y="528408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1FC5-D0FB-4B18-BAA7-5805F597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5480" y="2131920"/>
            <a:ext cx="534852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5284080"/>
            <a:ext cx="10960200" cy="28782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8F6-F2FA-43AD-9A65-CE69F266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1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369360"/>
            <a:ext cx="10960200" cy="15224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09120" y="2131920"/>
            <a:ext cx="10960200" cy="603432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t">
            <a:normAutofit/>
          </a:bodyPr>
          <a:p>
            <a:pPr marL="457200" indent="-457200">
              <a:spcBef>
                <a:spcPts val="1074"/>
              </a:spcBef>
              <a:buSzPct val="100000"/>
              <a:buBlip>
                <a:blip r:embed="rId2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1" marL="988920" indent="-37944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2" marL="1522440" indent="-304920">
              <a:spcBef>
                <a:spcPts val="1074"/>
              </a:spcBef>
              <a:buSzPct val="100000"/>
              <a:buBlip>
                <a:blip r:embed="rId3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3" marL="2131920" indent="-304560">
              <a:spcBef>
                <a:spcPts val="1074"/>
              </a:spcBef>
              <a:buClr>
                <a:srgbClr val="ffffff"/>
              </a:buClr>
              <a:buFont typeface="Arial"/>
              <a:buChar char="–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4" marL="2739960" indent="-304560">
              <a:spcBef>
                <a:spcPts val="1074"/>
              </a:spcBef>
              <a:buSzPct val="100000"/>
              <a:buBlip>
                <a:blip r:embed="rId4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5" marL="2739960" indent="-304560">
              <a:spcBef>
                <a:spcPts val="1074"/>
              </a:spcBef>
              <a:buSzPct val="100000"/>
              <a:buBlip>
                <a:blip r:embed="rId5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  <a:p>
            <a:pPr lvl="6" marL="2739960" indent="-304560">
              <a:spcBef>
                <a:spcPts val="1074"/>
              </a:spcBef>
              <a:buSzPct val="100000"/>
              <a:buBlip>
                <a:blip r:embed="rId6"/>
              </a:buBlip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B4111E24-9C2C-4BE8-BE9D-0101C15AD3F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12178800" cy="9132480"/>
            <a:chOff x="0" y="0"/>
            <a:chExt cx="12178800" cy="9132480"/>
          </a:xfrm>
        </p:grpSpPr>
        <p:sp>
          <p:nvSpPr>
            <p:cNvPr id="82" name=""/>
            <p:cNvSpPr/>
            <p:nvPr/>
          </p:nvSpPr>
          <p:spPr>
            <a:xfrm>
              <a:off x="0" y="25200"/>
              <a:ext cx="12174480" cy="692064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000" y="0"/>
              <a:ext cx="11859480" cy="685728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7259040"/>
              <a:ext cx="8537760" cy="40356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537760" y="7563600"/>
              <a:ext cx="3636720" cy="13680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7878600"/>
              <a:ext cx="10115280" cy="69516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15280" y="7827840"/>
              <a:ext cx="2059200" cy="21312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52160" y="8066520"/>
              <a:ext cx="4522320" cy="41832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8396640"/>
              <a:ext cx="7652160" cy="73584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433760" y="8548920"/>
              <a:ext cx="5315400" cy="58356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205920" y="8180640"/>
              <a:ext cx="2968200" cy="79920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35480" y="6662520"/>
              <a:ext cx="1539000" cy="50724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3142080"/>
              <a:ext cx="10635480" cy="35326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635480" y="6446880"/>
              <a:ext cx="1539000" cy="6724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936440"/>
              <a:ext cx="10635480" cy="462420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0280" y="0"/>
              <a:ext cx="6679080" cy="576144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491920" y="5713200"/>
              <a:ext cx="682560" cy="63216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580480" y="5472000"/>
              <a:ext cx="594000" cy="7084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188320" y="0"/>
              <a:ext cx="6594840" cy="56624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1895480" y="5357880"/>
              <a:ext cx="279000" cy="2790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579720" y="0"/>
              <a:ext cx="5315400" cy="535788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374960" y="0"/>
              <a:ext cx="4647600" cy="52437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1997000" y="5231160"/>
              <a:ext cx="177120" cy="2026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1846880" y="1797120"/>
              <a:ext cx="327240" cy="10911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0797840" y="0"/>
              <a:ext cx="1211400" cy="2203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1440800" y="0"/>
              <a:ext cx="721080" cy="16830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048120" y="1380960"/>
              <a:ext cx="126360" cy="6573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60" y="3385080"/>
              <a:ext cx="12162240" cy="394128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66560" y="7364520"/>
              <a:ext cx="12240" cy="1260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60" y="4550400"/>
              <a:ext cx="12162240" cy="282708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960" y="6717600"/>
              <a:ext cx="12162240" cy="8748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42120" y="0"/>
              <a:ext cx="9424080" cy="6717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21800" y="0"/>
              <a:ext cx="5144400" cy="552708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51640" y="0"/>
              <a:ext cx="3814560" cy="521028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555120" y="0"/>
              <a:ext cx="2611080" cy="438552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4840" y="0"/>
              <a:ext cx="2241360" cy="409356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531800" y="0"/>
              <a:ext cx="1634400" cy="314388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3450960"/>
              <a:ext cx="12173760" cy="3927960"/>
              <a:chOff x="0" y="3450960"/>
              <a:chExt cx="12173760" cy="392796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3450960"/>
                <a:ext cx="7759800" cy="277596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708680" y="5909400"/>
                <a:ext cx="4465080" cy="146952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2131560"/>
            <a:ext cx="10960200" cy="243540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ctr">
            <a:noAutofit/>
          </a:bodyPr>
          <a:p>
            <a:pPr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609480" y="8317080"/>
            <a:ext cx="284184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4160880" y="8322840"/>
            <a:ext cx="3857760" cy="60804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8727840" y="8317080"/>
            <a:ext cx="2841480" cy="607680"/>
          </a:xfrm>
          <a:prstGeom prst="rect">
            <a:avLst/>
          </a:prstGeom>
          <a:noFill/>
          <a:ln w="0">
            <a:noFill/>
          </a:ln>
        </p:spPr>
        <p:txBody>
          <a:bodyPr lIns="121680" rIns="121680" tIns="60840" bIns="60840" anchor="b">
            <a:noAutofit/>
          </a:bodyPr>
          <a:lstStyle>
            <a:lvl1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fld id="{E53F5F26-3B94-49E1-AC9A-1EB0079DCCF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608760" y="2136960"/>
            <a:ext cx="10960560" cy="52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609480" indent="0" algn="ctr">
              <a:spcBef>
                <a:spcPts val="924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 marL="1217520" algn="ctr">
              <a:spcBef>
                <a:spcPts val="7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827360" algn="ctr"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35400" algn="ctr">
              <a:spcBef>
                <a:spcPts val="675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35400">
              <a:spcBef>
                <a:spcPts val="675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171320" y="539640"/>
            <a:ext cx="377208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EFINICIONES DE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 y </a:t>
            </a:r>
            <a:r>
              <a:rPr b="1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157480" y="1785960"/>
            <a:ext cx="834228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37000" y="1038240"/>
            <a:ext cx="48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módulo de Young es enton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4343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6305400" y="822240"/>
                <a:ext cx="11210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838440" y="2479680"/>
            <a:ext cx="563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el caso del enlace iónico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e la energía del enlace está dada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205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242120" y="2190600"/>
                <a:ext cx="3065400" cy="138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r</m:t>
                        </m:r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ttract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underbracealignl</m:t>
                    </m:r>
                    <m:limLow>
                      <m:e>
                        <m:groupChr>
                          <m:groupChrPr>
                            <m:chr m:val="⏟"/>
                            <m:pos m:val="bot"/>
                            <m:vertJc m:val="top"/>
                          </m:groupChrPr>
                          <m:e>
                            <m:eqAr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epulsive</m:t>
                                </m:r>
                              </m:e>
                            </m:eqArr>
                          </m:e>
                        </m:groupCh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part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64080" y="4081320"/>
            <a:ext cx="667872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derivar con respecto a r, se obtien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fuerza entre  los átomos, que, debe s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ro en r =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De aquí se obtiene la constante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8034480" y="4206960"/>
                <a:ext cx="1912680" cy="11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t xml:space="preserve">πnε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960840" y="63864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3387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5729400" y="6151680"/>
                <a:ext cx="18414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πε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298120" y="7807320"/>
            <a:ext cx="25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onde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= (n – 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545920" y="409680"/>
            <a:ext cx="61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ERARQUIA DE LA 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76680" y="1562040"/>
            <a:ext cx="1005120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ipo de enlac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(Nm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-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 (GPa) con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=2.5 x 10-</a:t>
            </a:r>
            <a:r>
              <a:rPr b="0" lang="es-ES" sz="2400" spc="-1" strike="noStrike" baseline="30000">
                <a:solidFill>
                  <a:srgbClr val="ffffff"/>
                </a:solidFill>
                <a:latin typeface="Arial"/>
              </a:rPr>
              <a:t>1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valente (ej. C – C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50 – 18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00-1000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etálico (ej. Cu – Cu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15 – 75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60 – 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Na- Cl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8 – 24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32 –9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ónico (ej. H2O-H2O)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2 – 3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8 – 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Van der Waal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0.5 – 1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   2-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49400" y="2695680"/>
            <a:ext cx="986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76320" y="6654960"/>
            <a:ext cx="1000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20680" y="1614600"/>
            <a:ext cx="972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986120" y="1471680"/>
            <a:ext cx="8151480" cy="6761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472120" y="409680"/>
            <a:ext cx="667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ERATURA DE TRANSICIÓN EN GO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2994120" y="606600"/>
            <a:ext cx="5983200" cy="78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049400" y="1614600"/>
            <a:ext cx="1029168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2516040" y="887400"/>
            <a:ext cx="7821720" cy="74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654200" y="887400"/>
            <a:ext cx="9331200" cy="71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905040" y="2550960"/>
            <a:ext cx="10364760" cy="34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976320" y="2263680"/>
            <a:ext cx="1057608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146840" y="1254240"/>
            <a:ext cx="38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 DE TEN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1814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3400" y="3559320"/>
                <a:ext cx="2952720" cy="25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19376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7097760" y="3516480"/>
                <a:ext cx="3240000" cy="25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354840" y="534960"/>
            <a:ext cx="52855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1680" rIns="121680" tIns="60840" bIns="6084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S DE TENSION COMU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09760" y="1398600"/>
            <a:ext cx="5510520" cy="71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993400" y="606600"/>
            <a:ext cx="59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FINICION DE DEFORMACION: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γ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137040" y="1758960"/>
            <a:ext cx="5760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507560" y="534960"/>
            <a:ext cx="24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Y DE HOO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145040" y="1542960"/>
                <a:ext cx="3136680" cy="12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ε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4145040" y="3127320"/>
                <a:ext cx="31687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r>
                      <m:t xml:space="preserve">Gγ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0" y="44672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145040" y="4782960"/>
                <a:ext cx="338292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Δ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371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2273400" y="6434280"/>
                <a:ext cx="7777080" cy="17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≈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G</m:t>
                    </m:r>
                    <m:r>
                      <m:t xml:space="preserve">≈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nd</m:t>
                    </m:r>
                    <m:r>
                      <m:t xml:space="preserve"> </m:t>
                    </m:r>
                    <m:r>
                      <m:t xml:space="preserve">ν</m:t>
                    </m:r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687760" y="554040"/>
            <a:ext cx="65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CION D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0320" y="1614600"/>
            <a:ext cx="6624720" cy="50418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123920" y="7230960"/>
            <a:ext cx="499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rra en vibración con una masa 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3149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8105760" y="1974960"/>
                <a:ext cx="374508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{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π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d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sSup>
                                  <m:e>
                                    <m:r>
                                      <m:t xml:space="preserve">l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M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0" y="435780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8105760" y="4062240"/>
                <a:ext cx="3641760" cy="155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π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l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"/>
          <p:cNvSpPr/>
          <p:nvPr/>
        </p:nvSpPr>
        <p:spPr>
          <a:xfrm>
            <a:off x="0" y="43196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8177040" y="6151680"/>
                <a:ext cx="338472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ρ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3283560" y="390600"/>
            <a:ext cx="573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OS PARA EL MODULO DE YOU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994120" y="1182600"/>
            <a:ext cx="6408720" cy="73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30840" y="606600"/>
            <a:ext cx="36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ON ENTRE A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81400" y="1471680"/>
            <a:ext cx="5329080" cy="14396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976320" y="3487680"/>
            <a:ext cx="102963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297400" y="4351320"/>
            <a:ext cx="6475680" cy="42307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0" y="417816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3786120" y="534960"/>
                <a:ext cx="1913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U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r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r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2520" y="468252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5520" y="67932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gidez del enl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005520" y="770040"/>
            <a:ext cx="367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constante del res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3989520" y="2046240"/>
                <a:ext cx="251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669600" y="1994040"/>
            <a:ext cx="241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rza entre u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 de átom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445284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3786120" y="3198960"/>
                <a:ext cx="25606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r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1" name=""/>
          <p:cNvSpPr/>
          <p:nvPr/>
        </p:nvSpPr>
        <p:spPr>
          <a:xfrm>
            <a:off x="763920" y="327168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s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76840" y="3002040"/>
            <a:ext cx="386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número de enlaces p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dad de á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11840" y="4638600"/>
            <a:ext cx="4667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deformación </a:t>
            </a:r>
            <a:r>
              <a:rPr b="0" lang="el-GR" sz="2400" spc="-1" strike="noStrike">
                <a:solidFill>
                  <a:srgbClr val="ffffff"/>
                </a:solidFill>
                <a:latin typeface="Arial"/>
              </a:rPr>
              <a:t>ε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e ob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Al dividir (r –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) por el espaciad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Inicial r</a:t>
            </a:r>
            <a:r>
              <a:rPr b="0" lang="es-ES" sz="2400" spc="-1" strike="noStrike" baseline="-25000">
                <a:solidFill>
                  <a:srgbClr val="ffffff"/>
                </a:solidFill>
                <a:latin typeface="Arial"/>
              </a:rPr>
              <a:t>0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por lo tanto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324320"/>
            <a:ext cx="12179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625760" y="6583320"/>
                <a:ext cx="169704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3:52:58Z</dcterms:created>
  <dc:creator>Oscar Bustos</dc:creator>
  <dc:description/>
  <dc:language>en-US</dc:language>
  <cp:lastModifiedBy>Carlos Amestica</cp:lastModifiedBy>
  <dcterms:modified xsi:type="dcterms:W3CDTF">2005-08-04T00:08:26Z</dcterms:modified>
  <cp:revision>7</cp:revision>
  <dc:subject/>
  <dc:title>Diapositiva 1</dc:title>
</cp:coreProperties>
</file>