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79300" cy="9132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3C8-E714-40AE-87D1-9C3EC475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120" y="5284080"/>
            <a:ext cx="1096020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1BBA-EFFD-45B4-ABB7-E5BD3A91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548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D4A-AA1C-4F20-B5DE-D6717D99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120" y="528408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4960" y="528408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0800" y="528408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2B35-22DE-4FE0-9B2E-C7A47F90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6D64-34C0-48B4-BF90-1A79F1D2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417D-BB3E-4419-A615-84FF4753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7267-EC51-427F-A046-29701E39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AFB2-EACF-43F9-9BB0-A92FE34D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AD36-DD26-4773-BD76-75174891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09120" y="36936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D354-BB17-4933-BF0D-843289C7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12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69E5-F7E7-49F3-85BF-E9517991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C0E5-701E-4365-A4CE-27D6157E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2548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136E-62E1-4740-A2E7-124DB7E2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9120" y="5284080"/>
            <a:ext cx="1096020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90CD-29D6-41F0-8CC7-DE5C8DE4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09120" y="5284080"/>
            <a:ext cx="1096020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A8CF-A4C6-43C2-89F7-906295DD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12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22548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EECC-2021-4F9C-AF7A-7655910B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09120" y="528408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314960" y="528408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8020800" y="528408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2623-F6AE-46AE-A052-8B11B99D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C4F0-0303-4ED7-954E-B0669F2E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C4D0-2DBD-435C-B243-BB72EED2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E72E-4665-48FC-9237-ADA50BBB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36936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E66C-EF11-4426-9892-6317AFD1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12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00F5-1AEF-4AB4-94F4-8FE70816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2548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6B4D-45ED-482A-A594-2BD797AF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120" y="5284080"/>
            <a:ext cx="1096020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6B3B-ADFC-4F6A-A71D-B2623661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2178800" cy="9132480"/>
            <a:chOff x="0" y="0"/>
            <a:chExt cx="12178800" cy="9132480"/>
          </a:xfrm>
        </p:grpSpPr>
        <p:sp>
          <p:nvSpPr>
            <p:cNvPr id="1" name=""/>
            <p:cNvSpPr/>
            <p:nvPr/>
          </p:nvSpPr>
          <p:spPr>
            <a:xfrm>
              <a:off x="0" y="25200"/>
              <a:ext cx="12174480" cy="692064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5000" y="0"/>
              <a:ext cx="11859480" cy="685728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259040"/>
              <a:ext cx="8537760" cy="40356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37760" y="7563600"/>
              <a:ext cx="3636720" cy="13680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7878600"/>
              <a:ext cx="10115280" cy="69516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115280" y="7827840"/>
              <a:ext cx="2059200" cy="21312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52160" y="8066520"/>
              <a:ext cx="4522320" cy="41832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8396640"/>
              <a:ext cx="7652160" cy="73584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433760" y="8548920"/>
              <a:ext cx="5315400" cy="58356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205920" y="8180640"/>
              <a:ext cx="2968200" cy="79920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0635480" y="6662520"/>
              <a:ext cx="1539000" cy="50724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3142080"/>
              <a:ext cx="10635480" cy="35326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635480" y="6446880"/>
              <a:ext cx="1539000" cy="6724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936440"/>
              <a:ext cx="10635480" cy="462420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0280" y="0"/>
              <a:ext cx="6679080" cy="576144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491920" y="5713200"/>
              <a:ext cx="682560" cy="63216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1580480" y="5472000"/>
              <a:ext cx="594000" cy="7084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188320" y="0"/>
              <a:ext cx="6594840" cy="56624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895480" y="5357880"/>
              <a:ext cx="279000" cy="27900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579720" y="0"/>
              <a:ext cx="5315400" cy="535788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374960" y="0"/>
              <a:ext cx="4647600" cy="52437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997000" y="5231160"/>
              <a:ext cx="177120" cy="2026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1846880" y="1797120"/>
              <a:ext cx="327240" cy="10911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0797840" y="0"/>
              <a:ext cx="1211400" cy="2203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1440800" y="0"/>
              <a:ext cx="721080" cy="16830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2048120" y="1380960"/>
              <a:ext cx="126360" cy="6573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0" y="3385080"/>
              <a:ext cx="12162240" cy="394128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2166560" y="7364520"/>
              <a:ext cx="12240" cy="126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0" y="4550400"/>
              <a:ext cx="12162240" cy="282708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960" y="6717600"/>
              <a:ext cx="12162240" cy="8748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742120" y="0"/>
              <a:ext cx="9424080" cy="6717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021800" y="0"/>
              <a:ext cx="5144400" cy="552708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51640" y="0"/>
              <a:ext cx="3814560" cy="521028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9555120" y="0"/>
              <a:ext cx="2611080" cy="438552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924840" y="0"/>
              <a:ext cx="2241360" cy="409356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0531800" y="0"/>
              <a:ext cx="1634400" cy="314388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3450960"/>
              <a:ext cx="12173760" cy="3927960"/>
              <a:chOff x="0" y="3450960"/>
              <a:chExt cx="12173760" cy="392796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3450960"/>
                <a:ext cx="7759800" cy="277596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708680" y="5909400"/>
                <a:ext cx="4465080" cy="146952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SzPct val="100000"/>
              <a:buBlip>
                <a:blip r:embed="rId2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1" marL="988920" indent="-379440">
              <a:spcBef>
                <a:spcPts val="1074"/>
              </a:spcBef>
              <a:buClr>
                <a:srgbClr val="ffffff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2" marL="1522440" indent="-304920">
              <a:spcBef>
                <a:spcPts val="1074"/>
              </a:spcBef>
              <a:buSzPct val="100000"/>
              <a:buBlip>
                <a:blip r:embed="rId3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3" marL="2131920" indent="-304560">
              <a:spcBef>
                <a:spcPts val="1074"/>
              </a:spcBef>
              <a:buClr>
                <a:srgbClr val="ffffff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4" marL="2739960" indent="-304560">
              <a:spcBef>
                <a:spcPts val="1074"/>
              </a:spcBef>
              <a:buSzPct val="100000"/>
              <a:buBlip>
                <a:blip r:embed="rId4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5" marL="2739960" indent="-304560">
              <a:spcBef>
                <a:spcPts val="1074"/>
              </a:spcBef>
              <a:buSzPct val="100000"/>
              <a:buBlip>
                <a:blip r:embed="rId5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6" marL="2739960" indent="-304560">
              <a:spcBef>
                <a:spcPts val="1074"/>
              </a:spcBef>
              <a:buSzPct val="100000"/>
              <a:buBlip>
                <a:blip r:embed="rId6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09480" y="8317080"/>
            <a:ext cx="2841840" cy="6076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4160880" y="8322840"/>
            <a:ext cx="3857760" cy="608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8727840" y="8317080"/>
            <a:ext cx="2841480" cy="6076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1DD075C2-E350-4127-8A29-9E7C54B35DE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12178800" cy="9132480"/>
            <a:chOff x="0" y="0"/>
            <a:chExt cx="12178800" cy="9132480"/>
          </a:xfrm>
        </p:grpSpPr>
        <p:sp>
          <p:nvSpPr>
            <p:cNvPr id="82" name=""/>
            <p:cNvSpPr/>
            <p:nvPr/>
          </p:nvSpPr>
          <p:spPr>
            <a:xfrm>
              <a:off x="0" y="25200"/>
              <a:ext cx="12174480" cy="692064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000" y="0"/>
              <a:ext cx="11859480" cy="685728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7259040"/>
              <a:ext cx="8537760" cy="40356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537760" y="7563600"/>
              <a:ext cx="3636720" cy="13680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7878600"/>
              <a:ext cx="10115280" cy="69516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115280" y="7827840"/>
              <a:ext cx="2059200" cy="21312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52160" y="8066520"/>
              <a:ext cx="4522320" cy="41832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8396640"/>
              <a:ext cx="7652160" cy="73584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33760" y="8548920"/>
              <a:ext cx="5315400" cy="58356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205920" y="8180640"/>
              <a:ext cx="2968200" cy="79920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635480" y="6662520"/>
              <a:ext cx="1539000" cy="50724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3142080"/>
              <a:ext cx="10635480" cy="35326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635480" y="6446880"/>
              <a:ext cx="1539000" cy="6724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936440"/>
              <a:ext cx="10635480" cy="462420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0280" y="0"/>
              <a:ext cx="6679080" cy="576144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91920" y="5713200"/>
              <a:ext cx="682560" cy="63216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580480" y="5472000"/>
              <a:ext cx="594000" cy="7084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88320" y="0"/>
              <a:ext cx="6594840" cy="56624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895480" y="5357880"/>
              <a:ext cx="279000" cy="27900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79720" y="0"/>
              <a:ext cx="5315400" cy="535788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74960" y="0"/>
              <a:ext cx="4647600" cy="52437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997000" y="5231160"/>
              <a:ext cx="177120" cy="2026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846880" y="1797120"/>
              <a:ext cx="327240" cy="10911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797840" y="0"/>
              <a:ext cx="1211400" cy="2203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440800" y="0"/>
              <a:ext cx="721080" cy="16830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048120" y="1380960"/>
              <a:ext cx="126360" cy="6573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60" y="3385080"/>
              <a:ext cx="12162240" cy="394128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66560" y="7364520"/>
              <a:ext cx="12240" cy="126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60" y="4550400"/>
              <a:ext cx="12162240" cy="282708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60" y="6717600"/>
              <a:ext cx="12162240" cy="8748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42120" y="0"/>
              <a:ext cx="9424080" cy="6717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21800" y="0"/>
              <a:ext cx="5144400" cy="552708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51640" y="0"/>
              <a:ext cx="3814560" cy="521028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555120" y="0"/>
              <a:ext cx="2611080" cy="438552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24840" y="0"/>
              <a:ext cx="2241360" cy="409356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531800" y="0"/>
              <a:ext cx="1634400" cy="314388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3450960"/>
              <a:ext cx="12173760" cy="3927960"/>
              <a:chOff x="0" y="3450960"/>
              <a:chExt cx="12173760" cy="392796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3450960"/>
                <a:ext cx="7759800" cy="277596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08680" y="5909400"/>
                <a:ext cx="4465080" cy="146952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2131560"/>
            <a:ext cx="10960200" cy="24354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609480" y="8317080"/>
            <a:ext cx="2841840" cy="6076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4160880" y="8322840"/>
            <a:ext cx="3857760" cy="608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8727840" y="8317080"/>
            <a:ext cx="2841480" cy="6076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587BBB37-4B5B-4856-8FB3-DEE1D77784B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0" algn="ctr">
              <a:spcBef>
                <a:spcPts val="9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2" marL="1217520" algn="ctr">
              <a:spcBef>
                <a:spcPts val="799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27360" algn="ctr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35400" algn="ctr">
              <a:spcBef>
                <a:spcPts val="675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35400">
              <a:spcBef>
                <a:spcPts val="675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35400">
              <a:spcBef>
                <a:spcPts val="675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171320" y="539640"/>
            <a:ext cx="3772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FINICIONES DE 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 y 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157480" y="1785960"/>
            <a:ext cx="834228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37000" y="1038240"/>
            <a:ext cx="48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módulo de Young es enton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34340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305400" y="822240"/>
                <a:ext cx="11210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838440" y="2479680"/>
            <a:ext cx="563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el caso del enlace iónico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 la energía del enlace está dada p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20516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7242120" y="2190600"/>
                <a:ext cx="3065400" cy="138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r</m:t>
                        </m:r>
                      </m:den>
                    </m:f>
                    <m:r>
                      <m:t xml:space="preserve">underbracealignl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ttractive</m:t>
                                </m:r>
                              </m:e>
                            </m:eqAr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part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underbracealignl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pulsive</m:t>
                                </m:r>
                              </m:e>
                            </m:eqAr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part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964080" y="4081320"/>
            <a:ext cx="6678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derivar con respecto a r, se obtie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fuerza entre  los átomos, que, debe s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o en r =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De aquí se obtiene la constante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433872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8034480" y="4206960"/>
                <a:ext cx="1912680" cy="11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n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960840" y="638640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m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433872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729400" y="6151680"/>
                <a:ext cx="18414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α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5298120" y="780732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= (n – 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545920" y="409680"/>
            <a:ext cx="61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RARQUIA DE LA RIGIDEZ DEL EN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76680" y="1562040"/>
            <a:ext cx="1005120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ipo de enlac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Nm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 (GPa) con r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=2.5 x 10-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valente (ej. C – C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50 – 180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-1000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tálico (ej. Cu – Cu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5 – 75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60 – 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ónico (ej. Na- Cl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8 – 24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32 –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ónico (ej. H2O-H2O)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2 – 3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8 –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n der Waal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0.5 – 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2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49400" y="2695680"/>
            <a:ext cx="986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6320" y="6654960"/>
            <a:ext cx="1000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20680" y="1614600"/>
            <a:ext cx="972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986120" y="1471680"/>
            <a:ext cx="8151480" cy="6761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472120" y="409680"/>
            <a:ext cx="66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A DE TRANSICIÓN EN GO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994120" y="606600"/>
            <a:ext cx="5983200" cy="78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49400" y="1614600"/>
            <a:ext cx="10291680" cy="57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516040" y="887400"/>
            <a:ext cx="7821720" cy="74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654200" y="887400"/>
            <a:ext cx="9331200" cy="71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905040" y="2550960"/>
            <a:ext cx="10364760" cy="34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76320" y="2263680"/>
            <a:ext cx="1057608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146840" y="1254240"/>
            <a:ext cx="38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 DE 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371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371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18140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18140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73400" y="3559320"/>
                <a:ext cx="2952720" cy="25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1193760" y="431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097760" y="3516480"/>
                <a:ext cx="3240000" cy="25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354840" y="534960"/>
            <a:ext cx="5285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S DE TENSION COMU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209760" y="1398600"/>
            <a:ext cx="5510520" cy="71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993400" y="606600"/>
            <a:ext cx="59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FINICION DE DEFORMACION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n,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137040" y="1758960"/>
            <a:ext cx="5760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07560" y="53496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Y DE HOO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452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145040" y="1542960"/>
                <a:ext cx="313668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ε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44672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145040" y="3127320"/>
                <a:ext cx="31687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Gγ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0" y="44672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145040" y="4782960"/>
                <a:ext cx="33829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Δ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0" y="4371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371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273400" y="6434280"/>
                <a:ext cx="7777080" cy="17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≈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ν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687760" y="554040"/>
            <a:ext cx="65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CION DEL MODULO DE YO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0320" y="1614600"/>
            <a:ext cx="6624720" cy="5041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123920" y="7230960"/>
            <a:ext cx="49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ra en vibración con una masa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31496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8105760" y="1974960"/>
                <a:ext cx="374508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π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d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435780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8105760" y="4062240"/>
                <a:ext cx="364176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0" y="43196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8177040" y="6151680"/>
                <a:ext cx="338472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ρ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83560" y="390600"/>
            <a:ext cx="57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OS PARA EL MODULO DE YO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994120" y="1182600"/>
            <a:ext cx="640872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30840" y="60660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ON ENTRE ATO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81400" y="1471680"/>
            <a:ext cx="5329080" cy="1439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976320" y="3487680"/>
            <a:ext cx="10296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297400" y="4351320"/>
            <a:ext cx="6475680" cy="4230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417816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786120" y="534960"/>
                <a:ext cx="19130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U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2520" y="46825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5520" y="67932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idez del en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05520" y="770040"/>
            <a:ext cx="367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constante del resor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452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989520" y="2046240"/>
                <a:ext cx="25128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69600" y="1994040"/>
            <a:ext cx="241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erza entre u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 de áto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452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786120" y="3198960"/>
                <a:ext cx="25606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763920" y="327168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76840" y="3002040"/>
            <a:ext cx="386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 = número de enlaces p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dad de á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1840" y="4638600"/>
            <a:ext cx="46674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deformación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ε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e ob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 dividir (r – r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 por el espacia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icial r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por lo tant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32432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625760" y="6583320"/>
                <a:ext cx="16970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23:52:58Z</dcterms:created>
  <dc:creator>Oscar Bustos</dc:creator>
  <dc:description/>
  <dc:language>en-US</dc:language>
  <cp:lastModifiedBy>Carlos Amestica</cp:lastModifiedBy>
  <dcterms:modified xsi:type="dcterms:W3CDTF">2005-08-04T00:08:26Z</dcterms:modified>
  <cp:revision>7</cp:revision>
  <dc:subject/>
  <dc:title>Diapositiva 1</dc:title>
</cp:coreProperties>
</file>