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A63-37E8-4BD6-B47E-DB17BAC3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61C-BA40-4B7D-8E6E-2026AE13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EF0-D546-40CA-A3F6-513276D3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12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496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080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B93-2DD4-4084-81EA-CA48F324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57F8-0573-4B69-A012-6B375016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BF95-40B5-4839-928F-D719DA33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B507-892C-4212-BFED-D99BFAE2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A352-E073-4F74-B791-667E0176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5D70-D295-43E0-85D2-065912B7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120" y="36936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444B-429A-4023-A4ED-894412A6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383C-2B7B-4E3E-8A8A-31EDEEB0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111-66A7-4975-833B-DAE294E9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E41A-456C-4F2A-86A9-36AED8D2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7E14-53AC-481F-8E75-A8D8C6CA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5E29-9D8C-49DB-BB38-A8A068B3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A12E-240B-4AEE-9712-57375208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0912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1496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02080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A61C-DDD4-4C1B-8E8C-C41A4815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9FC-807E-4746-8267-E63C36F0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AEB-CE7C-4DBC-8629-F6B2F692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667-E511-44AC-811A-9C7036A4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6936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731-1E31-4502-BCD5-12462EBB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E95-EFD6-431E-B2B3-A065A059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AC4-588B-4042-BCD1-A1492186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C94-4EC3-4051-B0C3-2769868A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2178800" cy="9132480"/>
            <a:chOff x="0" y="0"/>
            <a:chExt cx="12178800" cy="9132480"/>
          </a:xfrm>
        </p:grpSpPr>
        <p:sp>
          <p:nvSpPr>
            <p:cNvPr id="1" name=""/>
            <p:cNvSpPr/>
            <p:nvPr/>
          </p:nvSpPr>
          <p:spPr>
            <a:xfrm>
              <a:off x="0" y="25200"/>
              <a:ext cx="12174480" cy="692064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5000" y="0"/>
              <a:ext cx="11859480" cy="685728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259040"/>
              <a:ext cx="8537760" cy="40356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7760" y="7563600"/>
              <a:ext cx="3636720" cy="13680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7878600"/>
              <a:ext cx="10115280" cy="69516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115280" y="7827840"/>
              <a:ext cx="2059200" cy="21312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52160" y="8066520"/>
              <a:ext cx="4522320" cy="41832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8396640"/>
              <a:ext cx="7652160" cy="73584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433760" y="8548920"/>
              <a:ext cx="5315400" cy="58356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5920" y="8180640"/>
              <a:ext cx="2968200" cy="79920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635480" y="6662520"/>
              <a:ext cx="1539000" cy="50724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3142080"/>
              <a:ext cx="10635480" cy="35326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635480" y="6446880"/>
              <a:ext cx="1539000" cy="6724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936440"/>
              <a:ext cx="10635480" cy="462420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0280" y="0"/>
              <a:ext cx="6679080" cy="576144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491920" y="5713200"/>
              <a:ext cx="682560" cy="63216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1580480" y="5472000"/>
              <a:ext cx="594000" cy="7084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188320" y="0"/>
              <a:ext cx="6594840" cy="56624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895480" y="5357880"/>
              <a:ext cx="279000" cy="2790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579720" y="0"/>
              <a:ext cx="5315400" cy="535788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374960" y="0"/>
              <a:ext cx="4647600" cy="52437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997000" y="5231160"/>
              <a:ext cx="177120" cy="2026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1846880" y="1797120"/>
              <a:ext cx="327240" cy="10911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0797840" y="0"/>
              <a:ext cx="1211400" cy="2203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40800" y="0"/>
              <a:ext cx="721080" cy="16830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2048120" y="1380960"/>
              <a:ext cx="126360" cy="6573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0" y="3385080"/>
              <a:ext cx="12162240" cy="394128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166560" y="7364520"/>
              <a:ext cx="12240" cy="12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0" y="4550400"/>
              <a:ext cx="12162240" cy="282708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960" y="6717600"/>
              <a:ext cx="12162240" cy="8748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742120" y="0"/>
              <a:ext cx="9424080" cy="6717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021800" y="0"/>
              <a:ext cx="5144400" cy="552708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51640" y="0"/>
              <a:ext cx="3814560" cy="52102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555120" y="0"/>
              <a:ext cx="2611080" cy="43855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924840" y="0"/>
              <a:ext cx="2241360" cy="409356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531800" y="0"/>
              <a:ext cx="1634400" cy="3143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3450960"/>
              <a:ext cx="12173760" cy="3927960"/>
              <a:chOff x="0" y="3450960"/>
              <a:chExt cx="12173760" cy="392796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3450960"/>
                <a:ext cx="7759800" cy="277596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708680" y="5909400"/>
                <a:ext cx="4465080" cy="146952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SzPct val="100000"/>
              <a:buBlip>
                <a:blip r:embed="rId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ffffff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SzPct val="100000"/>
              <a:buBlip>
                <a:blip r:embed="rId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ffffff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SzPct val="100000"/>
              <a:buBlip>
                <a:blip r:embed="rId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SzPct val="100000"/>
              <a:buBlip>
                <a:blip r:embed="rId5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SzPct val="100000"/>
              <a:buBlip>
                <a:blip r:embed="rId6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09480" y="8317080"/>
            <a:ext cx="284184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7080"/>
            <a:ext cx="284148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B032CA9-86EA-428A-A535-E6CEA1926B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12178800" cy="9132480"/>
            <a:chOff x="0" y="0"/>
            <a:chExt cx="12178800" cy="9132480"/>
          </a:xfrm>
        </p:grpSpPr>
        <p:sp>
          <p:nvSpPr>
            <p:cNvPr id="82" name=""/>
            <p:cNvSpPr/>
            <p:nvPr/>
          </p:nvSpPr>
          <p:spPr>
            <a:xfrm>
              <a:off x="0" y="25200"/>
              <a:ext cx="12174480" cy="692064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000" y="0"/>
              <a:ext cx="11859480" cy="685728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7259040"/>
              <a:ext cx="8537760" cy="40356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537760" y="7563600"/>
              <a:ext cx="3636720" cy="13680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7878600"/>
              <a:ext cx="10115280" cy="69516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115280" y="7827840"/>
              <a:ext cx="2059200" cy="21312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52160" y="8066520"/>
              <a:ext cx="4522320" cy="41832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8396640"/>
              <a:ext cx="7652160" cy="73584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3760" y="8548920"/>
              <a:ext cx="5315400" cy="58356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205920" y="8180640"/>
              <a:ext cx="2968200" cy="79920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635480" y="6662520"/>
              <a:ext cx="1539000" cy="50724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3142080"/>
              <a:ext cx="10635480" cy="35326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35480" y="6446880"/>
              <a:ext cx="1539000" cy="6724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36440"/>
              <a:ext cx="10635480" cy="462420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0280" y="0"/>
              <a:ext cx="6679080" cy="576144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91920" y="5713200"/>
              <a:ext cx="682560" cy="63216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580480" y="5472000"/>
              <a:ext cx="594000" cy="7084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88320" y="0"/>
              <a:ext cx="6594840" cy="56624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895480" y="5357880"/>
              <a:ext cx="279000" cy="2790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79720" y="0"/>
              <a:ext cx="5315400" cy="535788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74960" y="0"/>
              <a:ext cx="4647600" cy="52437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997000" y="5231160"/>
              <a:ext cx="177120" cy="2026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846880" y="1797120"/>
              <a:ext cx="327240" cy="10911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797840" y="0"/>
              <a:ext cx="1211400" cy="2203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40800" y="0"/>
              <a:ext cx="721080" cy="16830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8120" y="1380960"/>
              <a:ext cx="126360" cy="6573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60" y="3385080"/>
              <a:ext cx="12162240" cy="394128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66560" y="7364520"/>
              <a:ext cx="12240" cy="12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0" y="4550400"/>
              <a:ext cx="12162240" cy="282708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0" y="6717600"/>
              <a:ext cx="12162240" cy="8748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2120" y="0"/>
              <a:ext cx="9424080" cy="6717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21800" y="0"/>
              <a:ext cx="5144400" cy="552708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51640" y="0"/>
              <a:ext cx="3814560" cy="52102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555120" y="0"/>
              <a:ext cx="2611080" cy="43855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4840" y="0"/>
              <a:ext cx="2241360" cy="409356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531800" y="0"/>
              <a:ext cx="1634400" cy="3143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3450960"/>
              <a:ext cx="12173760" cy="3927960"/>
              <a:chOff x="0" y="3450960"/>
              <a:chExt cx="12173760" cy="392796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3450960"/>
                <a:ext cx="7759800" cy="277596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08680" y="5909400"/>
                <a:ext cx="4465080" cy="146952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131560"/>
            <a:ext cx="10960200" cy="243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609480" y="8317080"/>
            <a:ext cx="284184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8727840" y="8317080"/>
            <a:ext cx="284148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2D40D018-16DA-4CB3-A381-AEA1677D38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 algn="ctr">
              <a:spcBef>
                <a:spcPts val="9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 marL="1217520" algn="ctr">
              <a:spcBef>
                <a:spcPts val="799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27360" algn="ctr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35400" algn="ctr">
              <a:spcBef>
                <a:spcPts val="675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35400"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35400"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171320" y="539640"/>
            <a:ext cx="377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FINICIONES DE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y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57480" y="1785960"/>
            <a:ext cx="83422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37000" y="103824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ódulo de Young es enton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3434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05400" y="822240"/>
                <a:ext cx="11210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838440" y="2479680"/>
            <a:ext cx="56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l caso del enlace iónico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la energía del enlace está dada p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20516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242120" y="2190600"/>
                <a:ext cx="3065400" cy="13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tractive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pulsive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964080" y="4081320"/>
            <a:ext cx="667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derivar con respecto a r, se obt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fuerza entre  los átomos, que, debe s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o en r =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De aquí se obtiene la constante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33872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034480" y="4206960"/>
                <a:ext cx="191268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n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960840" y="63864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33872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729400" y="6151680"/>
                <a:ext cx="18414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298120" y="780732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= (n –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45920" y="40968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ARQUIA DE LA RIGIDEZ DEL EN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6680" y="1562040"/>
            <a:ext cx="100512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 de enlac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N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 (GPa) con r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=2.5 x 10-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valente (ej. C – C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50 – 18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-1000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tálico (ej. Cu – Cu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5 – 7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60 – 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ónico (ej. Na- Cl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8 – 24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32 –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ónico (ej. H2O-H2O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2 – 3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8 –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n der Waal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0.5 – 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2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9400" y="2695680"/>
            <a:ext cx="986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6320" y="6654960"/>
            <a:ext cx="1000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20680" y="1614600"/>
            <a:ext cx="972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986120" y="1471680"/>
            <a:ext cx="8151480" cy="6761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472120" y="409680"/>
            <a:ext cx="66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A DE TRANSICIÓN EN GO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994120" y="606600"/>
            <a:ext cx="5983200" cy="78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49400" y="1614600"/>
            <a:ext cx="1029168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16040" y="887400"/>
            <a:ext cx="782172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654200" y="887400"/>
            <a:ext cx="9331200" cy="71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05040" y="2550960"/>
            <a:ext cx="1036476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76320" y="2263680"/>
            <a:ext cx="105760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146840" y="125424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 DE 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814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1814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73400" y="3559320"/>
                <a:ext cx="295272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19376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097760" y="3516480"/>
                <a:ext cx="3240000" cy="25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354840" y="534960"/>
            <a:ext cx="5285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S DE TENSION COMU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09760" y="1398600"/>
            <a:ext cx="5510520" cy="71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993400" y="606600"/>
            <a:ext cx="59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FINICION DE DEFORMACION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137040" y="1758960"/>
            <a:ext cx="5760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07560" y="53496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Y DE HOO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52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145040" y="1542960"/>
                <a:ext cx="313668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44672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145040" y="3127320"/>
                <a:ext cx="3168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Gγ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44672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145040" y="4782960"/>
                <a:ext cx="33829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Δ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273400" y="6434280"/>
                <a:ext cx="7777080" cy="17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≈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687760" y="55404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CION DEL MODULO DE YO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0320" y="1614600"/>
            <a:ext cx="6624720" cy="5041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23920" y="723096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ra en vibración con una masa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1496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105760" y="1974960"/>
                <a:ext cx="374508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d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43578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8105760" y="4062240"/>
                <a:ext cx="364176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43196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8177040" y="6151680"/>
                <a:ext cx="33847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83560" y="39060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OS PARA EL MODULO DE YO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994120" y="1182600"/>
            <a:ext cx="640872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30840" y="6066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ON ENTRE ATO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81400" y="1471680"/>
            <a:ext cx="5329080" cy="1439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76320" y="3487680"/>
            <a:ext cx="10296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297400" y="4351320"/>
            <a:ext cx="6475680" cy="423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417816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786120" y="534960"/>
                <a:ext cx="1913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2520" y="46825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5520" y="67932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idez del en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05520" y="770040"/>
            <a:ext cx="367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constante del reso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452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989520" y="2046240"/>
                <a:ext cx="2512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69600" y="1994040"/>
            <a:ext cx="241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erza entre u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 de áto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452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786120" y="3198960"/>
                <a:ext cx="2560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763920" y="327168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76840" y="3002040"/>
            <a:ext cx="38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= número de enlaces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dad de á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1840" y="4638600"/>
            <a:ext cx="46674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deformación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e ob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dividir (r – r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por el espaci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icial r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por lo tant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32432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625760" y="6583320"/>
                <a:ext cx="16970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23:52:58Z</dcterms:created>
  <dc:creator>Oscar Bustos</dc:creator>
  <dc:description/>
  <dc:language>en-US</dc:language>
  <cp:lastModifiedBy>Carlos Amestica</cp:lastModifiedBy>
  <dcterms:modified xsi:type="dcterms:W3CDTF">2005-08-04T00:08:26Z</dcterms:modified>
  <cp:revision>7</cp:revision>
  <dc:subject/>
  <dc:title>Diapositiva 1</dc:title>
</cp:coreProperties>
</file>