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20C5-5C57-4597-BFCF-E216DE35B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D9DF-2EE3-4509-9FEB-3DB4DB44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E554-0E19-4CB3-B380-54EE164AF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7938-24AE-45F3-B904-BBDC043D7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98A5-99AE-45F2-AF02-41E9B6EA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8F4D-43AC-4106-BE41-6CB8C359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4178-CF27-48E2-ADDD-7F4756A2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1F0A-747F-46DD-B6D7-AD64A450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E9F7-C581-4CCD-AB8B-31692B6C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FBA2-EE1D-4833-A486-D41F9C88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128E-F8BA-440B-93E5-416B90B4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50CD-FAD3-4E79-9F53-FD9B4EA4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461B-E71C-4DEE-8A03-FF7CD6FA3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F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 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lc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I Resultados ( y Discus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V Disc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C Concl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91520" y="3429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1219320"/>
            <a:ext cx="15238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br>
              <a:rPr sz="32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1-18-25/ 08.2005 y 01.09.2005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4:30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3-20-27.10.2005 14:30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2400"/>
            </a:br>
            <a:br>
              <a:rPr sz="2400"/>
            </a:b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9.12.2005 (Aproximadamente)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lc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jar límites al proyecto, se define la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ofund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Final BT-IQ 69F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ULTIMO DIA DE EXAMEN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Patrocinante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66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ueves 11 de Agosto 14:30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Cintolesi Ang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cuaciones Diferenciales lineales  aplicadas a regulación génica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Morales Gabrie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Determinación de las poblaciones microbianas en procesos de biolixiviación mediante análisis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ubilar Osval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Modelo Discreto para la integración de redes de regulación génica y flujos metabólic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GIAVERINI VARGAS, OSCAR ANDRES  (Industr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Optimización de un extremo polipeptídico para la purificación de proteína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AMPOS MANRIQUEZ, DANIELA PA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plicación de técnicas moleculares en la operación de plantas de  tratamiento de aguas residu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54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ueves 18 de Agosto 14:30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ESPEDES VIÑUELA, GABRIELA MA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etodologías para el manejo de riego en la industria quí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FARAH GONZALEZ, MARIA LU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Evaluación técnica y económica de una nueva tecnología para el desaguado de lodos biológic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VALDIVIA AVILEZ, BARBARA CECIL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Fundamentos de una Tecnología de Tratamiento de Metales Pesados por Biosor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EDINA RAMOS, JAVIERA ISAB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Toxicidad de Metales Pesados en algas de alto valor en la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ndustria alimentic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62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ueves 25 de Agosto 14:30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LAPUENTE FUENTES, CARMINA LOR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AZ GAJARDO, CRISTIAN GONZA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Optimización de la Generación y Distribución de Vapor en la Planta Productiva de Härting S.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ONTES LOPEZ, HECTOR OSVAL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seño de requerimientos de energía para calefacción hospitalar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ROQUE VARGAS, ANDRES FELI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Estudio de las dificultades operativas de reactores experimentales de lodos activad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ueves 1 de Septiembre  14:30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ARQUEZ LEHRMANN, CRISTIAN IV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eterminación de compuestos reducidos de azufre en soluciones de biolixiviación con microorganismos mesófil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PARRA PIZARRO, ALEJANDRA LORE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Efecto de la temperatura y del caudal de circulación sobre la corrosión de ánodos de plomo en electro-obtención de cobr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RECART BRUGERE, FELIPE ESTEB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nfluencia de la concentración de soluciones lixiviantes sobre la difusión de ión cúpri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Maria Elena Lienqueo C.</cp:lastModifiedBy>
  <dcterms:modified xsi:type="dcterms:W3CDTF">2005-07-28T16:53:31Z</dcterms:modified>
  <cp:revision>119</cp:revision>
  <dc:subject/>
  <dc:title>El ingeniero, etica y sociedad</dc:title>
</cp:coreProperties>
</file>