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D3F7-F797-45B1-93C5-1AF6D9D1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6E2-10CF-40D8-BD3A-953031A08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0F4F-C5DD-4154-9B12-2E334E2B0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9FF-7105-4268-B3CC-32B45A3F6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712-E616-4FA6-944C-6D4067F44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E572-15DD-4FD6-80E3-2BFB4C02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21B0-5103-4D52-B38C-39C6EB3C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4E21-DFED-46F0-B579-02877703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262D-39E8-4C24-8FF9-29903CF2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37FC-BFC7-4F58-B75E-D74397A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468B-AD52-40D8-AF00-44E2F754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022F-3EFF-43F0-A9C0-49250F13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89AA-AD68-4DDA-88CE-40DF859AE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F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lcan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II Resultados ( y Discusion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IV Disc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C Conclus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3429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1219320"/>
            <a:ext cx="152388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18-25/ 08.2005 y 01.09.200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:30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3-20-27.10.2005 14:3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</a:t>
            </a:r>
            <a:br>
              <a:rPr sz="2400"/>
            </a:br>
            <a:br>
              <a:rPr sz="2400"/>
            </a:br>
            <a:r>
              <a:rPr b="1" lang="es-ES_tradnl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9.12.2005 (Aproximadamente)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lca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ijar límites al proyecto, se define la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profund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I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Final BT-IQ 69F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ULTIMO DIA DE EXAMEN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Patrocinante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66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1 de Agosto 14:30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Cintolesi Ang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Ecuaciones Diferenciales lineales  aplicadas a regulación génic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rales Gabrie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Determinación de las poblaciones microbianas en procesos de biolixiviación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Rubilar Osval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Arial Unicode MS"/>
              </a:rPr>
              <a:t>Modelo Discreto para la integración de redes de regulación génica y flujos metaból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GIAVERINI VARGAS, OSCAR ANDRES  (Indust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un extremo polipeptídico para la purificación de proteín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AMPOS MANRIQUEZ, DANIELA PA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plicación de técnicas moleculares en la operación de plantas de  tratamiento de aguas residu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54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8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CESPEDES VIÑUELA, GABRIELA MA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todologías para el manejo de riego en la industri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ARAH GONZALEZ, MARIA LUZ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valuación técnica y económica de una nueva tecnología para el desaguado de lodos biológic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ALDIVIA AVILEZ, BARBAR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Fundamentos de una Tecnología de Tratamiento de Metales Pesados por Biosor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EDINA RAMOS, JAVIERA ISAB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oxicidad de Metales Pesados en algas de alto valor en l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dustria alimentic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25 de Agosto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APUENTE FUENTES, CARMINA LOR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AZ GAJARDO, CRISTIAN GONZA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Optimización de la Generación y Distribución de Vapor en la Planta Productiva de Härting S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ONTES LOPEZ, HECTOR OSV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iseño de requerimientos de energía para calefacción hospitalar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OQUE VARGAS, ANDRES FELI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studio de las dificultades operativas de reactores experimentales de lodos activad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7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Jueves 1 de Septiembre  14:30 Sala por Fij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RQUEZ LEHRMANN, CRISTIAN IV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Determinación de compuestos reducidos de azufre en soluciones de biolixiviación con microorganismos mesófil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PARRA PIZARRO, ALEJANDRA LOR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ecto de la temperatura y del caudal de circulación sobre la corrosión de ánodos de plomo en electro-obtención de cobre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ECART BRUGERE, FELIPE ESTEB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fluencia de la concentración de soluciones lixiviantes sobre la difusión de ión cúpri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 C.</cp:lastModifiedBy>
  <dcterms:modified xsi:type="dcterms:W3CDTF">2005-07-28T16:53:31Z</dcterms:modified>
  <cp:revision>119</cp:revision>
  <dc:subject/>
  <dc:title>El ingeniero, etica y sociedad</dc:title>
</cp:coreProperties>
</file>