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C50C2-8A2A-41D2-BB22-FD28F0307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401C9-5355-49F5-A807-4827D0F90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9F2C7-87E9-4966-9C5E-4236D0D3A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9EE5A-5D85-4B5D-AC19-72FD69264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1A1F0-86D0-4645-8775-8897CC042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417E8-392C-49B2-AE85-F70970ED9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AD137-AD8B-4C47-B7FF-B30CB5930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6CC08-389A-48A2-B19E-F0D517F8E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372E6-EC5E-49C6-A01A-4C0592B1D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5E94D-323F-4C5C-B0C9-32BD74FF8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D5240-4592-48A3-A500-74D1D9E7F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1BA3B-4A49-4163-9E95-2BB9C3BFB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F1639-D44A-44EA-9724-45CA58AFB5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onama.cl/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rabajo de Título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T-IQ69F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04560" y="2895120"/>
            <a:ext cx="80010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PAUTA DE REDACCION DEL BORRADOR DE MEMOR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PAUTA DE PRESENTACION 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571320" y="609120"/>
            <a:ext cx="80010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La presentación se debe centrar en los siguientes punt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Introducción (</a:t>
            </a:r>
            <a:r>
              <a:rPr b="1" lang="es-ES" sz="24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BREVE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Objetivos generales y específicos de la memo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Metodolog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Resultados obteni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Discusión y Conclusiones PAR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Actividades pend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52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Arial"/>
                <a:ea typeface="Times New Roman"/>
              </a:rPr>
              <a:t>PAUTA DE REDACCION DEL BORRADOR DE MEMORIA </a:t>
            </a:r>
            <a:r>
              <a:rPr b="0" lang="es-E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Memor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451"/>
              </a:spcBef>
              <a:buClr>
                <a:srgbClr val="ffff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99"/>
                </a:solidFill>
                <a:latin typeface="Arial Unicode MS"/>
              </a:rPr>
              <a:t>Títul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451"/>
              </a:spcBef>
              <a:buClr>
                <a:srgbClr val="ffff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99"/>
                </a:solidFill>
                <a:latin typeface="Arial Unicode MS"/>
              </a:rPr>
              <a:t>Resum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Capítulo I Introduc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400"/>
              </a:spcBef>
              <a:buClr>
                <a:srgbClr val="ffff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Antecedentes Bibliográfic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400"/>
              </a:spcBef>
              <a:buClr>
                <a:srgbClr val="ffff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Objetiv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400"/>
              </a:spcBef>
              <a:buClr>
                <a:srgbClr val="ffff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Alcan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Capítulo II Metodolog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400"/>
              </a:spcBef>
              <a:buClr>
                <a:srgbClr val="ffff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Materi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400"/>
              </a:spcBef>
              <a:buClr>
                <a:srgbClr val="ffff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Método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Capítulo III Resultados ( y Discusion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Capítulo IV Discus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Capítulo C Conclus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ffff00"/>
                </a:solidFill>
                <a:uFillTx/>
                <a:latin typeface="Arial Unicode MS"/>
                <a:ea typeface="Arial"/>
              </a:rPr>
              <a:t>Bibliograf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 Unicode MS"/>
                <a:ea typeface="Arial"/>
              </a:rPr>
              <a:t>Anex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391520" y="34290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Times New Roman"/>
              </a:rPr>
              <a:t>50 pági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562720" y="1219320"/>
            <a:ext cx="152388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}</a:t>
            </a:r>
            <a:endParaRPr b="0" lang="en-US" sz="2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Títul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Representativo, pero brev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Debe dar una </a:t>
            </a:r>
            <a:r>
              <a:rPr b="1" lang="es-ES_tradnl" sz="32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idea concreta del tema</a:t>
            </a:r>
            <a:r>
              <a:rPr b="1" lang="es-ES_tradnl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del tema en estudi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ffffff"/>
                </a:solidFill>
                <a:uFillTx/>
                <a:latin typeface="Times New Roman"/>
              </a:rPr>
              <a:t>DEBE ESTAR LIS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Resum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s una de las partes más crucial del Infor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ebe ser de la menor extensión posible (1 a 1 1/2 página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ebe entregar una visión completa (autocontenido), de modo que los lectores puedan decidir si leen otras secc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ontiene antecedentes que justifiquen la realización de la memoria, la metodologías utilizada, los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principales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resultados  y las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principales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conclus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99"/>
                </a:solidFill>
                <a:latin typeface="Times New Roman"/>
              </a:rPr>
              <a:t>Capitulo 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Introduc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s la presentación del tema de estudio, permite ubicar al lector indicando bajo que área se encuentra contenido el estudio específic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e debe mostrar los principales aspectos que dan relevancia al estudio específico que se propone desarrolla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Antecedentes Bibliográfic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s una recopilación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y análisi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de las  experiencias o publicaciones recientes sobre el tema en estudi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e deben incluir en forma oportuna las referenci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!! Es básico investigar sobre el tema del proyecto, adecuada y profunda búsqueda bibliográfica 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Se realizó el semestre pasado (IQ-BT69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Ejemplo de entrega de anteceden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Referencia por orden alfabé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lrededor de 30 años atrás y, especialmente en los últimos 10 años, comenzó un amplio uso comercial de algunas aplicaciones de la inteligencia artificial, tales como la robótica y los sistemas expertos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 (Charniak y Mc Dermot, 1985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Referencia por orden de apari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lrededor de 30 años atrás y, especialmente en los últimos 10 años, comenzó un amplio uso comercial de algunas aplicaciones de la inteligencia artificial, tales como la robótica y los sistemas expertos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 [1]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Referenc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240" y="1142640"/>
            <a:ext cx="8458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 algn="just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Citar las que se usarán en el trabaj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Libr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Belter PA, Cussler  E.L., Hu W. (1988) “ Bioseparations:  Processing for Biotechnology",John Wiley &amp; Sons, New York, 368pp.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Capítulos en Libr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Hagel L(1998) “ Gel Filtration" en "Protein Purification: Principles, High-Resolution Methods, and Applications”, Editado por J-C Janson and L. Ryden,2 Edition, Wiley-Liss, New York, 79-144.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Pap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Eriksson H, Sandahl K, Brewer J, Osterlund B (1991b). “Reactive planning for chromatography”, Chemometrics and Intelligent laboratory Systems: Laboratory Information Management 13: 185-194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Memori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Muñoz D (1989) "Metodologías de Adquisición de conocimiento para la construcción de sistemas computacionales basados en el conocimiento (Sistemas Expertos) y aplicación a la ingeniería de procesos", Memoria de Magister en Cs. de la Ingeniería mención Química, Univeridad de Chile.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Manu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NeuroData (1991) "Nexpert Object - Reference manual", Neuron Data Inc.,Palo Alto, USA, 284pp.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Comunicación Direct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Righetti P.G (1999) Comunicación personal.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Páginas we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 u="sng">
                <a:solidFill>
                  <a:srgbClr val="ccccff"/>
                </a:solidFill>
                <a:uFillTx/>
                <a:latin typeface="Arial"/>
                <a:ea typeface="Times New Roman"/>
                <a:hlinkClick r:id="rId1"/>
              </a:rPr>
              <a:t>www.conama.cl</a:t>
            </a:r>
            <a:r>
              <a:rPr b="1" lang="es-ES_trad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: Página Comisión Nacional Medio Ambiente, 20/mayo/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2666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Fechas Importantes</a:t>
            </a:r>
            <a:br>
              <a:rPr sz="4400"/>
            </a:br>
            <a:br>
              <a:rPr sz="32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11-18-25/ 08.2005 y 01.09.2005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14:30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8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esentaciones I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1" lang="es-ES_tradnl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13-20-27.10.2005 14:30</a:t>
            </a:r>
            <a:br>
              <a:rPr sz="32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esentaciones II</a:t>
            </a:r>
            <a:br>
              <a:rPr sz="2400"/>
            </a:br>
            <a:br>
              <a:rPr sz="2400"/>
            </a:br>
            <a:r>
              <a:rPr b="1" lang="es-ES_tradnl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09.12.2005 (Aproximadamente)</a:t>
            </a:r>
            <a:br>
              <a:rPr sz="32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Informe Final</a:t>
            </a:r>
            <a:br>
              <a:rPr sz="2400"/>
            </a:br>
            <a:br>
              <a:rPr sz="2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Por Fijar</a:t>
            </a:r>
            <a:br>
              <a:rPr sz="32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de Evaluación del Informe Final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Objetivo Gener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09480" y="46483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just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Son un desglose detallado del objetivo general, se relacionan con los resultados parciales que deberán obteners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just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Son los logros intermedios que, en conjunto, posibilitan o alcanzar el objetivo genera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85800" y="3429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Objetivos Específicos</a:t>
            </a:r>
            <a:r>
              <a:rPr b="1" lang="es-ES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62120" y="129528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e presenta en forma breve y precisa lo más relevante que se pretende lograr con el proyect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Debe ser coherente con la justificación previa y con los resultados posteriores que se planteará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Los objetivos se deben correlacionar directamente con las conclusio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1760" y="27432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ffff99"/>
                </a:solidFill>
                <a:uFillTx/>
                <a:latin typeface="Times New Roman"/>
              </a:rPr>
              <a:t>Objetiv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99"/>
                </a:solidFill>
                <a:latin typeface="Times New Roman"/>
              </a:rPr>
              <a:t>O. Gene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99"/>
                </a:solidFill>
                <a:latin typeface="Times New Roman"/>
              </a:rPr>
              <a:t>O. Específ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1640" y="25909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ccffff"/>
                </a:solidFill>
                <a:uFillTx/>
                <a:latin typeface="Times New Roman"/>
              </a:rPr>
              <a:t>Conclus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ffff"/>
                </a:solidFill>
                <a:latin typeface="Times New Roman"/>
              </a:rPr>
              <a:t>Conclusión Princip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ffff"/>
                </a:solidFill>
                <a:latin typeface="Times New Roman"/>
              </a:rPr>
              <a:t>Conclusiones de cada activ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895480" y="3429000"/>
            <a:ext cx="1676520" cy="0"/>
          </a:xfrm>
          <a:prstGeom prst="line">
            <a:avLst/>
          </a:prstGeom>
          <a:ln w="76320">
            <a:solidFill>
              <a:srgbClr val="ffff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505320" y="4038480"/>
            <a:ext cx="1066680" cy="0"/>
          </a:xfrm>
          <a:prstGeom prst="line">
            <a:avLst/>
          </a:prstGeom>
          <a:ln w="76320">
            <a:solidFill>
              <a:srgbClr val="ffff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Alcan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Fijar límites al proyecto, se define la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profundidad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del proyec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99"/>
                </a:solidFill>
                <a:latin typeface="Times New Roman"/>
              </a:rPr>
              <a:t>Capitulo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Metodologí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Materi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Méto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2895480"/>
            <a:ext cx="777240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Deben ser breves y si necesita extenderse más use anex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99"/>
                </a:solidFill>
                <a:latin typeface="Times New Roman"/>
              </a:rPr>
              <a:t>Capitulo I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Resultados (y Discusione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Indica los productos concretos obtenid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Recomend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e recomienda dividir el capítulo por objetivos específic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No usar tablas y gráficos en forma simultánea. Si piensa que lo necesita colocar uno de ellos en apéndic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e recomienda ir discutiendo inmediatamente los resultados, resulta más fácil para el lecto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99"/>
                </a:solidFill>
                <a:latin typeface="Times New Roman"/>
              </a:rPr>
              <a:t>Capitulo IV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Discusi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Es una de las partes más importantes de la memori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e debe mostrar todo lo aprendido, junto a la </a:t>
            </a:r>
            <a:r>
              <a:rPr b="0" lang="en-US" sz="20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capacidad de análisis y síntesi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Debe estar relacionada y comentar lo presentado tanto en resultados como en los antecedentes bibliográficos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(apoyarlos o refutarlos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99"/>
                </a:solidFill>
                <a:latin typeface="Times New Roman"/>
              </a:rPr>
              <a:t>Capitulo V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00"/>
                </a:solidFill>
                <a:latin typeface="Times New Roman"/>
              </a:rPr>
              <a:t>Calendar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Conclus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s la parte más importantes de la memor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Debe responder a los objetivos propuest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  <a:ea typeface="Times New Roman"/>
              </a:rPr>
              <a:t>Se ha logrado establecer ..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No puede contener nada que no tenga respaldo con lo antes expuesto en la memor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  <a:ea typeface="Times New Roman"/>
              </a:rPr>
              <a:t>No deben aparecer nuevos result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ome tiempo en escribir este capítulo, COMENTELO CON SU PROFESOR GU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0" spc="-1" strike="noStrike" u="sng">
                <a:solidFill>
                  <a:srgbClr val="ffff99"/>
                </a:solidFill>
                <a:uFillTx/>
                <a:latin typeface="Arial"/>
                <a:ea typeface="Times New Roman"/>
              </a:rPr>
              <a:t>Forma de redacció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 u="sng">
                <a:solidFill>
                  <a:srgbClr val="ffff99"/>
                </a:solidFill>
                <a:uFillTx/>
                <a:latin typeface="Arial"/>
                <a:ea typeface="Times New Roman"/>
              </a:rPr>
              <a:t>Forma de redac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enga cuidado en la forma de redacción, pues se confunden los resultados con </a:t>
            </a: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las conclusion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El pH óptimo para la reacción en estudio es 7.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 algn="just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  <a:ea typeface="Times New Roman"/>
              </a:rPr>
              <a:t>¿ Resultado o Conclusió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 algn="just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  <a:ea typeface="Times New Roman"/>
              </a:rPr>
              <a:t>¿ Cómo debería ser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scriba todo en términos positiv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No se logró detectar la presencia de orgánicos en la solució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 algn="just">
              <a:lnSpc>
                <a:spcPct val="90000"/>
              </a:lnSpc>
              <a:spcBef>
                <a:spcPts val="451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Arial"/>
                <a:ea typeface="Times New Roman"/>
              </a:rPr>
              <a:t>¿Correcto o no?, ¿Cómo debería ser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just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  <a:ea typeface="Times New Roman"/>
              </a:rPr>
              <a:t>La cantidad de orgánicos en la solución se encontraba bajo los niveles de detección. Se recomienda utilizar otros métodos de análisi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Fecha de entrega del Borrador de Memoria</a:t>
            </a:r>
            <a:br>
              <a:rPr sz="4400"/>
            </a:br>
            <a:br>
              <a:rPr sz="4400"/>
            </a:b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 Final BT-IQ 69F</a:t>
            </a:r>
            <a:br>
              <a:rPr sz="4400"/>
            </a:br>
            <a:br>
              <a:rPr sz="4400"/>
            </a:br>
            <a:r>
              <a:rPr b="1" lang="es-ES" sz="4400" spc="-1" strike="noStrike">
                <a:solidFill>
                  <a:srgbClr val="ffff00"/>
                </a:solidFill>
                <a:latin typeface="Times New Roman"/>
              </a:rPr>
              <a:t>ULTIMO DIA DE EXAMENES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1 Copia </a:t>
            </a:r>
            <a:r>
              <a:rPr b="0" lang="es-ES" sz="4400" spc="-1" strike="noStrike" u="sng">
                <a:solidFill>
                  <a:srgbClr val="ffff00"/>
                </a:solidFill>
                <a:uFillTx/>
                <a:latin typeface="Times New Roman"/>
              </a:rPr>
              <a:t>para cada miembro de la comisión</a:t>
            </a:r>
            <a:br>
              <a:rPr sz="4400"/>
            </a:br>
            <a:br>
              <a:rPr sz="4400"/>
            </a:b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f. Guía</a:t>
            </a:r>
            <a:br>
              <a:rPr sz="3200"/>
            </a:b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f. Co-guía</a:t>
            </a:r>
            <a:br>
              <a:rPr sz="3200"/>
            </a:b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f. Integrante</a:t>
            </a:r>
            <a:br>
              <a:rPr sz="3200"/>
            </a:b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f. Patrocinante (Si lo ha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¿ Consultas  y </a:t>
            </a:r>
            <a:r>
              <a:rPr b="0" lang="es-ES" sz="4400" spc="-1" strike="noStrike" u="sng">
                <a:solidFill>
                  <a:srgbClr val="ffff00"/>
                </a:solidFill>
                <a:uFillTx/>
                <a:latin typeface="Times New Roman"/>
              </a:rPr>
              <a:t>a escribir</a:t>
            </a: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152280"/>
            <a:ext cx="8229600" cy="66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00"/>
                </a:solidFill>
                <a:uFillTx/>
                <a:latin typeface="Comic Sans MS"/>
              </a:rPr>
              <a:t>Programación de Presentaciones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Jueves 11 de Agosto 14:30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Sala por Fij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Cintolesi Ange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Ecuaciones Diferenciales lineales  aplicadas a regulación génica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Morales Gabriel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Determinación de las poblaciones microbianas en procesos de biolixiviación mediante análisis de D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Rubilar Osvaldo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Modelo Discreto para la integración de redes de regulación génica y flujos metabólico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GIAVERINI VARGAS, OSCAR ANDRES  (Industri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Optimización de un extremo polipeptídico para la purificación de proteínas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CAMPOS MANRIQUEZ, DANIELA PAZ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Aplicación de técnicas moleculares en la operación de plantas de  tratamiento de aguas residual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152280"/>
            <a:ext cx="8229600" cy="54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00"/>
                </a:solidFill>
                <a:uFillTx/>
                <a:latin typeface="Comic Sans MS"/>
              </a:rPr>
              <a:t>Programación de Presentaciones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Jueves 18 de Agosto 14:30 Sala por Fij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CESPEDES VIÑUELA, GABRIELA MARI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Metodologías para el manejo de riego en la industria quím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FARAH GONZALEZ, MARIA LUZ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Evaluación técnica y económica de una nueva tecnología para el desaguado de lodos biológicos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VALDIVIA AVILEZ, BARBARA CECILI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Fundamentos de una Tecnología de Tratamiento de Metales Pesados por Biosorció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MEDINA RAMOS, JAVIERA ISABE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Toxicidad de Metales Pesados en algas de alto valor en la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 </a:t>
            </a:r>
            <a:r>
              <a:rPr b="1" lang="es-ES" sz="16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industria alimentici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152280"/>
            <a:ext cx="8229600" cy="629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00"/>
                </a:solidFill>
                <a:uFillTx/>
                <a:latin typeface="Comic Sans MS"/>
              </a:rPr>
              <a:t>Programación de Presentaciones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Jueves 25 de Agosto 14:30 Sala por Fij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LAPUENTE FUENTES, CARMINA LORE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DIAZ GAJARDO, CRISTIAN GONZAL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Optimización de la Generación y Distribución de Vapor en la Planta Productiva de Härting S.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MONTES LOPEZ, HECTOR OSVALD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Diseño de requerimientos de energía para calefacción hospitalari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ROQUE VARGAS, ANDRES FELIP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Estudio de las dificultades operativas de reactores experimentales de lodos activado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57200" y="152280"/>
            <a:ext cx="8229600" cy="570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00"/>
                </a:solidFill>
                <a:uFillTx/>
                <a:latin typeface="Comic Sans MS"/>
              </a:rPr>
              <a:t>Programación de Presentaciones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Jueves 1 de Septiembre  14:30 Sala por Fij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MARQUEZ LEHRMANN, CRISTIAN IVA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Determinación de compuestos reducidos de azufre en soluciones de biolixiviación con microorganismos mesófilo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PARRA PIZARRO, ALEJANDRA LORET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Efecto de la temperatura y del caudal de circulación sobre la corrosión de ánodos de plomo en electro-obtención de cobre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RECART BRUGERE, FELIPE ESTEBA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Influencia de la concentración de soluciones lixiviantes sobre la difusión de ión cúpric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304560" y="1676520"/>
            <a:ext cx="8001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PAUTA DE PRESENTAC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Asistencia Obligatoria a TODAS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 las presentac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571320" y="380520"/>
            <a:ext cx="80010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Datos Práct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La presentación no debe durar más de </a:t>
            </a:r>
            <a:r>
              <a:rPr b="1" lang="es-ES" sz="24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20 min con preguntas (5 mi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Logís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Se cuenta con PC y Datash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Revisar los diskettes y  llegar antes para instalar y ver que la presentación funci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Debe entregar algún tipo de material escrito a los profesores de la comis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499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Ver Pauta de Presentaciones Ora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21T21:44:03Z</dcterms:created>
  <dc:creator>Ignacio Badilla</dc:creator>
  <dc:description/>
  <dc:language>en-US</dc:language>
  <cp:lastModifiedBy>Maria Elena Lienqueo C.</cp:lastModifiedBy>
  <dcterms:modified xsi:type="dcterms:W3CDTF">2005-07-28T16:53:31Z</dcterms:modified>
  <cp:revision>119</cp:revision>
  <dc:subject/>
  <dc:title>El ingeniero, etica y sociedad</dc:title>
</cp:coreProperties>
</file>