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649-256F-4265-A43E-EF6B30E8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1DB5-55CA-4790-AC4D-B7322D06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E44-6E65-4CF9-8166-080FA17C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EF1-0E0F-4BFE-B4ED-1A934261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EA7D-2549-4C52-936C-1A8DD7FB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3F2B-DA16-446C-9299-0D47BAA3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733A-986C-4071-A24F-C0AF0DC5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C4A-6676-4D82-B454-1D73856A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D71B-ACF1-4D43-AAA4-DDB74C86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C04-48CB-4C11-8638-1923355C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EB4-554F-4EF9-92B3-4D5CBDA7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3318-0572-4E97-8C68-8FC92782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B421-7F1F-449B-99B4-FEF141DC4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18-25/ 08.2005 y 01.09.200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:3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3-20-27.10.2005 14:3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9.12.2005 (Aproximadament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Patrocinante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66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1 de Agosto 14:30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intolesi Ang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cuaciones Diferenciales lineales  aplicadas a regulación génic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rales Gabri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eterminación de las poblaciones microbianas en procesos de biolixiviación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ubilar Osval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Discreto para la integración de redes de regulación génica y flujos metabólic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GIAVERINI VARGAS, OSCAR ANDRES  (Indust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un extremo polipeptídico para la purificación de proteín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AMPOS MANRIQUEZ, DANIELA P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plicación de técnicas moleculares en la operación de plantas de  tratamiento de aguas residu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8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ESPEDES VIÑUELA, GABRIELA M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todologías para el manejo de riego en la industri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ARAH GONZALEZ, MARIA LU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valuación técnica y económica de una nueva tecnología para el desaguado de lodos biológic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ALDIVIA AVILEZ, BARBAR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undamentos de una Tecnología de Tratamiento de Metales Pesados por Biosor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DINA RAMOS, JAVIERA ISAB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oxicidad de Metales Pesados en algas de alto valor en l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dustria alimenti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25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PUENTE FUENTES, CARMINA LOR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AZ GAJARDO, CRISTIAN GONZA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la Generación y Distribución de Vapor en la Planta Productiva de Härting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NTES LOPEZ, HECTOR OSV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seño de requerimientos de energía para calefacción hospitalar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OQUE VARGAS, ANDRES FELI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studio de las dificultades operativas de reactores experimentales de lodos activa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 de Septiembre 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RQUEZ LEHRMANN, CRISTIAN I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eterminación de compuestos reducidos de azufre en soluciones de biolixiviación con microorganismos mesófi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ARRA PIZARRO, ALEJANDRA LORE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fecto de la temperatura y del caudal de circulación sobre la corrosión de ánodos de plomo en electro-obtención de cobr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ECART BRUGERE, FELIPE ESTEB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fluencia de la concentración de soluciones lixiviantes sobre la difusión de ión cúpr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7-28T16:53:31Z</dcterms:modified>
  <cp:revision>119</cp:revision>
  <dc:subject/>
  <dc:title>El ingeniero, etica y sociedad</dc:title>
</cp:coreProperties>
</file>