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C01-90EA-402B-8DD4-427E195F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EBA-0468-433B-BEC9-E2D5A8F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CFB-C70B-4540-96D8-A51055C9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952-A7A5-479C-B605-DDAAF838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5D3-4B0A-46F5-8FBE-68266F17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F26-2D6C-4FD0-AC58-7736C5CA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75C-3216-4CA5-BFC3-FAA56B5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D74-25D7-4182-BA0D-56780198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554-AEE9-434A-B94E-28A08282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C63-C2C1-4CD2-B12B-A793835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E19-7AAE-4184-8B20-40A6F12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67D-1E54-4FD0-9989-2D3CE9C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17ED-C277-4926-BD56-C2D36308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8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nes 12/8 10:15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Cómo encontrar artículos de revistas  en línea?</a:t>
            </a: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9 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/10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10 semana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11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(Fin de semestr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" Como hacer un buen CV y dar una entrevista de trabajo" Prof. Ames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200"/>
            </a:br>
            <a:r>
              <a:rPr b="0" lang="es-ES_trad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Jesus Casas (email jecasas@ing.uchile.cl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.- Determinación de la especiación del hierro en soluciones procedentes de circuitos hidrometalúrgicos mediante experimentación y la aplicación de modelos geoquímicos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2.- Estudio del proceso de precipitación hidrotermal del hierro a escala de laboratorio. Análisis de experimentos y formulación de modelos fenomenológic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uis Cifuentes  (Dpto. Ingeniería de Minas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3.- Modelación matemática de celdas de EO de cobre con cátodos particulado y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4.- Estudio de la calidad de electro depósitos de cobre sobre cátodos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5. - Efecto de la densidad de corriente de celda sobre la corrosión de anodos de Pb-Ca-Sn en electro 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Tomas Vargas V.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6.- Rol de aditivos en la electrocristalización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7.- Cinética de disolución de minerales oxidados de cobre con soluciones lixiviantes con alta concentración iónica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8.- Influencia de la concentración iónica de soluciones lixiviantes sobre la eficiencia de la extracción por solventes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9.- Determinación de la actividad catalítica de bacterias en circuit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de lixiviación industrial mediante métodos biooelectr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0.- Lixiviación bacteriana de minerales sulfurados de cobre con bacterias termófilas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M.Elena Lienqueo - Oriana Salaz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1.- Efecto de la distribución de aminoácidos superficiales en el comportamiento cromatográfico de las proteín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eandro Herrera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2.- Optimización de una Planta de Tratamiento de Aguas Servidas sujeta a sobrecarga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3.- Energías alternativas: Impacto ambiental del reemplazo de combustibles fósiles por hidrógeno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4.- Residuos Industriales Líquidos: Tratamientos bi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5.- Emisiones de Anhídrido Sulfuroso: Su conversión a productos valios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a Guía: Blanca Escob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6.- </a:t>
            </a: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Cuantificacion de microorganismos en procesos de biolixiviacion mediante CMP-PCR.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Oriana Salazar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7. Caracterización de sistemas celulasa de bacterias de origen 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8. Clonamiento de genes que codifican para celulasas psicrofílicas de origen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9. Optimización de las condiciones de cultivo de bacterias psicrofílicas de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origen antártico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Juan Asenjo y B. Andrew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visitar líneas de investigación en: www.cibyb.uchile.cl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R.Badilla y J. Asenj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en temas de Biotecnología aplicada a la minería con disponibilidad de tiempo completo desde este semestre contactarse con rbadilla@biosigma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81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Septiembre 14:30-18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-IQ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ALVARADO, FELIPE A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jas Kat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su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ellen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7:08:14Z</dcterms:modified>
  <cp:revision>92</cp:revision>
  <dc:subject/>
  <dc:title>El ingeniero, etica y sociedad</dc:title>
</cp:coreProperties>
</file>