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A372-9F71-4A10-B9A9-354F3BAC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A7E1-59B7-450A-A918-A9A975E2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81C1-F0EF-423B-B53B-DD8AD447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BDA7-A97B-47AC-8493-B437A6E3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B71-693B-46CC-843D-551AE991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CF5D-26B5-4804-A7F5-5903A548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0301-F1D0-4214-A1E2-1CFEBEC9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E69A-B767-45C9-A3FF-7FF8CC1D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5865-922C-40B7-B476-1875DF64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DD50-2E37-4B48-9C56-C39839B7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31B8-5CF2-429C-B918-1308E68D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D8E9-8A73-471A-9AF1-9F245F0D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5417-FCAE-4794-BE8C-B882E02C2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ción al Trabajo de Título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T-IQ 69E</a:t>
            </a:r>
            <a:br>
              <a:rPr sz="4400"/>
            </a:br>
            <a:r>
              <a:rPr b="1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tamarugo.cec.uchile.cl/~btcursos/titulo/index_E.html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 y Bio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731880"/>
            <a:ext cx="82296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ben inscribir el curso 69E en las dos especialidad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     BT69E e IQ69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ro sólo deben inscribir un solo 69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BT69 F  o IQ 69F o IN69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228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2 car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731880"/>
            <a:ext cx="82296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 DEBEN  inscribir los cursos 69E ni 69F, éstos se convalidarán automáticamente con los Talleres de Titulo del Ma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Magis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731880"/>
            <a:ext cx="82296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alum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.No haber reprobado ninguna asignatura desde que ingresaron a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.Haber reprobado muy pocas asignaturas pero tener inscrito el curso XX69E en su undécimo semestre de permanencia en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.Haber figurado en los dos años anteriores al que se inscribe el XX69E, en la Lista de Alumnos Destacados de la Escuel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 informe del Profesor Guía debe explicar por qué el tema califica al tratarse de un trabajo experimental, profesionalmente innovativo o de investigación. De manera concisa pero clara hay que describir cómo el tema se inscribe en una de estas categor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457200"/>
            <a:ext cx="822960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al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50%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 + 50% Nota de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7e8f9"/>
                </a:solidFill>
                <a:latin typeface="Comic Sans MS"/>
                <a:ea typeface="Times New Roman"/>
              </a:rPr>
              <a:t>Si la de presentación es igual o superior a 5,5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la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uta para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NTACIONES ORALES</a:t>
            </a: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structura de una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ítulo y datos de los au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ido de la present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ción del problema y su solución- el marc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y su Disc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endacione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 Por qué Presentaciones Oral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comunicación oral es crucial en las actividades de la ingenier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uando se hace bien, se puede comunicar  resultados e ideas más rápidos que en el lenguaje escri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S02064_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bjetivos de las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ñal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cuáles s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resultados más importan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 las conclusion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en el contexto ge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sent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o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talles del trabaj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modo d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vencer a la audiencia de la valide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sus resultados y recomendac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str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planes de acciones a seguir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ados en sus resultados y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581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510552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Claves en una buena presen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6629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7524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y un antes, durante y después de la pres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914400" y="3809880"/>
            <a:ext cx="2438280" cy="914400"/>
            <a:chOff x="914400" y="3809880"/>
            <a:chExt cx="2438280" cy="914400"/>
          </a:xfrm>
        </p:grpSpPr>
        <p:sp>
          <p:nvSpPr>
            <p:cNvPr id="73" name=""/>
            <p:cNvSpPr/>
            <p:nvPr/>
          </p:nvSpPr>
          <p:spPr>
            <a:xfrm>
              <a:off x="914400" y="3809880"/>
              <a:ext cx="2438280" cy="914400"/>
            </a:xfrm>
            <a:prstGeom prst="rightArrowCallout">
              <a:avLst>
                <a:gd name="adj1" fmla="val 25002"/>
                <a:gd name="adj2" fmla="val 25000"/>
                <a:gd name="adj3" fmla="val 44442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14400" y="4038480"/>
              <a:ext cx="1523880" cy="3682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Prep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352680" y="3809880"/>
            <a:ext cx="2742840" cy="914400"/>
            <a:chOff x="3352680" y="3809880"/>
            <a:chExt cx="2742840" cy="914400"/>
          </a:xfrm>
        </p:grpSpPr>
        <p:sp>
          <p:nvSpPr>
            <p:cNvPr id="76" name=""/>
            <p:cNvSpPr/>
            <p:nvPr/>
          </p:nvSpPr>
          <p:spPr>
            <a:xfrm>
              <a:off x="3352680" y="3809880"/>
              <a:ext cx="2742840" cy="914400"/>
            </a:xfrm>
            <a:prstGeom prst="rightArrowCallout">
              <a:avLst>
                <a:gd name="adj1" fmla="val 25002"/>
                <a:gd name="adj2" fmla="val 25000"/>
                <a:gd name="adj3" fmla="val 49993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52680" y="4038480"/>
              <a:ext cx="171432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Pres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248520" y="3733920"/>
            <a:ext cx="2286000" cy="1599840"/>
            <a:chOff x="6248520" y="3733920"/>
            <a:chExt cx="2286000" cy="1599840"/>
          </a:xfrm>
        </p:grpSpPr>
        <p:sp>
          <p:nvSpPr>
            <p:cNvPr id="79" name=""/>
            <p:cNvSpPr/>
            <p:nvPr/>
          </p:nvSpPr>
          <p:spPr>
            <a:xfrm>
              <a:off x="6248520" y="3733920"/>
              <a:ext cx="2209680" cy="1599840"/>
            </a:xfrm>
            <a:prstGeom prst="downArrowCallout">
              <a:avLst>
                <a:gd name="adj1" fmla="val 34533"/>
                <a:gd name="adj2" fmla="val 34530"/>
                <a:gd name="adj3" fmla="val 16667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48520" y="3986280"/>
              <a:ext cx="228600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Retroali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066680" y="4800600"/>
            <a:ext cx="106704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5334120"/>
            <a:ext cx="624852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Ante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057400"/>
            <a:ext cx="761976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todo lo posible para que su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 y Ud. estén confortab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vise la sal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los equipos audiovisuales co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ficiente antela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evitar sorpr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buen análisis previo de las características de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048120" y="5029200"/>
            <a:ext cx="1990440" cy="1631520"/>
            <a:chOff x="3048120" y="5029200"/>
            <a:chExt cx="1990440" cy="1631520"/>
          </a:xfrm>
        </p:grpSpPr>
        <p:grpSp>
          <p:nvGrpSpPr>
            <p:cNvPr id="87" name=""/>
            <p:cNvGrpSpPr/>
            <p:nvPr/>
          </p:nvGrpSpPr>
          <p:grpSpPr>
            <a:xfrm>
              <a:off x="3048120" y="5029200"/>
              <a:ext cx="1990440" cy="1631520"/>
              <a:chOff x="3048120" y="5029200"/>
              <a:chExt cx="1990440" cy="1631520"/>
            </a:xfrm>
          </p:grpSpPr>
          <p:pic>
            <p:nvPicPr>
              <p:cNvPr id="88" name="BD04897_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8120" y="5029200"/>
                <a:ext cx="1990440" cy="148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3505320" y="5105160"/>
                <a:ext cx="1371600" cy="15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3505320" y="5257440"/>
              <a:ext cx="1218960" cy="12952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Lunes 12/8 10:15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¿Cómo encontrar artículos de revistas  en línea?</a:t>
            </a: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/9 </a:t>
            </a:r>
            <a:br>
              <a:rPr sz="32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la selección del Tema y Prof. Guía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de tema seleccionado</a:t>
            </a:r>
            <a:br>
              <a:rPr sz="2400"/>
            </a:br>
            <a:br>
              <a:rPr sz="2400"/>
            </a:b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/10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(10 semana)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licitud de Cambio al 69H</a:t>
            </a:r>
            <a:br>
              <a:rPr sz="2400"/>
            </a:br>
            <a:br>
              <a:rPr sz="2400"/>
            </a:b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4/11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(Fin de semestre)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br>
              <a:rPr sz="2400"/>
            </a:br>
            <a:br>
              <a:rPr sz="2400"/>
            </a:b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" Como hacer un buen CV y dar una entrevista de trabajo" Prof. Ames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aga un detallado análisis de la audiencia antes de su presentación, los antecedentes de los auditores, y las necesidades de información que requieren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E01846_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32004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deben utilizar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ementos visua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ayuden a enfocar la atención de los asistentes en las áreas importa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Informe se pueden volver a leer. En las presentaciones, si los auditores de pierden o se aburr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la información se pierd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mantener la aten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a aud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Poner atención en el tiempo de la exposición</a:t>
            </a: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vite el nerviosism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ga cuidado de no inclui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ha informació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porque no podrá ser leí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nuncie con cuidado y mantenga un tono de voz adecuado al tamaño de la sala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ga paus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nfatice lo important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E01496_" descr=""/>
          <p:cNvPicPr/>
          <p:nvPr/>
        </p:nvPicPr>
        <p:blipFill>
          <a:blip r:embed="rId1"/>
          <a:stretch/>
        </p:blipFill>
        <p:spPr>
          <a:xfrm>
            <a:off x="7162920" y="0"/>
            <a:ext cx="1604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tros detall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uerde, que solo Ud. tiene el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ontrol de la pres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d. 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sponsable del ritmo y conteni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ga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aus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nfatice lo impor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epar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notas escrit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obre sus transparencias.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vite leerl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 corrido, ya que puede dar la impresión de que no domina lo que está present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tregu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aterial escrit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a la audi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el esfuerzo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cuchar bie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a pregunta y contestar lo que le pid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evadiendo la respues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nozca de inmediato qu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sabe la respues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si es el c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Despué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onvers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con amigos en otro lugar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ciba los comentari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gerencias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gunte que estuvo bien, y que </a:t>
            </a: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estuvo m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mejorar sus presentaciones fut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Retroali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2286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EMA PROPUESTOS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200"/>
            </a:br>
            <a:r>
              <a:rPr b="0" lang="es-ES_tradnl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 Guía: Jesus Casas (email jecasas@ing.uchile.cl)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.- Determinación de la especiación del hierro en soluciones procedentes de circuitos hidrometalúrgicos mediante experimentación y la aplicación de modelos geoquímicos.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2.- Estudio del proceso de precipitación hidrotermal del hierro a escala de laboratorio. Análisis de experimentos y formulación de modelos fenomenológicos.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 Guía: Luis Cifuentes  (Dpto. Ingeniería de Minas)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3.- Modelación matemática de celdas de EO de cobre con cátodos particulado y de malla.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4.- Estudio de la calidad de electro depósitos de cobre sobre cátodos de malla.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5. - Efecto de la densidad de corriente de celda sobre la corrosión de anodos de Pb-Ca-Sn en electro obtención de cobr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.</a:t>
            </a:r>
            <a:br>
              <a:rPr sz="20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 Guía: Tomas Vargas V.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6.- Rol de aditivos en la electrocristalización de cobre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7.- Cinética de disolución de minerales oxidados de cobre con soluciones lixiviantes con alta concentración iónica.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8.- Influencia de la concentración iónica de soluciones lixiviantes sobre la eficiencia de la extracción por solventes de cobre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9.- Determinación de la actividad catalítica de bacterias en circuitos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de lixiviación industrial mediante métodos biooelectroquímicos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0.- Lixiviación bacteriana de minerales sulfurados de cobre con bacterias termófilas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 Guía: M.Elena Lienqueo - Oriana Salazar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1.- Efecto de la distribución de aminoácidos superficiales en el comportamiento cromatográfico de las proteínas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 Guía: Leandro Herrera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2.- Optimización de una Planta de Tratamiento de Aguas Servidas sujeta a sobrecarga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3.- Energías alternativas: Impacto ambiental del reemplazo de combustibles fósiles por hidrógeno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4.- Residuos Industriales Líquidos: Tratamientos bioquímicos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5.- Emisiones de Anhídrido Sulfuroso: Su conversión a productos valiosos.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a Guía: Blanca Escobar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6.- </a:t>
            </a: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Cuantificacion de microorganismos en procesos de biolixiviacion mediante CMP-PCR. </a:t>
            </a:r>
            <a:br>
              <a:rPr sz="2200"/>
            </a:b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Prof. Oriana Salazar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17. Caracterización de sistemas celulasa de bacterias de origen antártico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18. Clonamiento de genes que codifican para celulasas psicrofílicas de origen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antártico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19. Optimización de las condiciones de cultivo de bacterias psicrofílicas de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origen antártico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Prof. Juan Asenjo y B. Andrews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Interesados visitar líneas de investigación en: www.cibyb.uchile.cl </a:t>
            </a:r>
            <a:br>
              <a:rPr sz="2200"/>
            </a:b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Prof. R.Badilla y J. Asenjo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Interesados en temas de Biotecnología aplicada a la minería con disponibilidad de tiempo completo desde este semestre contactarse con rbadilla@biosigma.c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8600"/>
            <a:ext cx="899172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empo:    La presentación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NO DEBE DURAR MÁS DE 10 MINUT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 cuenta con PC y Data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a presentación se debe centrar en los siguientes punt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tulo de la memoria y profesor gu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ntroducción a la problemática a abord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bjetivo general de la memo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todología que se aplicará para lograr el obje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ta Gantt de la actividades a realizar durante el BT-IQ 69E (Recuerde que se deben considerar  las  4UD del cur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sultados esper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457200"/>
            <a:ext cx="822960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untos a Considerar en un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TREGUE MATERIAL DE LA PRESENTACIÓN A LA AUDI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ra 10 minutos de presentación no se deben presentar más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7 TRANSPARENCI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el caso dar animación a la presentación siempre control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o que se escribe en las transparencias debe poder ser leído por el públ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su presentación intente no leer lo que está en las transparencias, sino comentar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 exponer diríjase siempre hacia la audi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IEMPRE ENSAYE PREVIAMENTE SU EXPOSICIÓN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81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Septiembre 14:30-18:3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T-IQ69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AZ ALVARADO, FELIPE AND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jas Kate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nsue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ellen 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5-07-28T17:08:14Z</dcterms:modified>
  <cp:revision>92</cp:revision>
  <dc:subject/>
  <dc:title>El ingeniero, etica y sociedad</dc:title>
</cp:coreProperties>
</file>