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B62-F72E-44FF-B6F1-B5489F72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C18-CE8B-4093-A8AE-185533A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346-3F78-4ECE-B3BB-414D3281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7C2-ED4E-4549-AF7D-7428DF03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5B3-2ED0-410F-B0C4-C40DE43A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2BD-783F-4386-9403-6D9428CD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08F-8377-456A-AA5B-0D5494E5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AC3-5070-45ED-829B-1E587D2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B3A-9844-43B1-95F4-6845524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977-9F67-4F5D-85A1-D1A9078E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CF3-7E38-46E8-BC5B-904DC14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108-F85C-4ACD-B4A5-733D6EF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E05-DA59-439D-A443-7FEFE3D34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8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unes 12/8 10:15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Cómo encontrar artículos de revistas  en línea?</a:t>
            </a: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9 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/10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10 semana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11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(Fin de semestr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" Como hacer un buen CV y dar una entrevista de trabajo" Prof. Ames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200"/>
            </a:br>
            <a:r>
              <a:rPr b="0" lang="es-ES_trad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Jesus Casas (email jecasas@ing.uchile.cl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.- Determinación de la especiación del hierro en soluciones procedentes de circuitos hidrometalúrgicos mediante experimentación y la aplicación de modelos geoquímicos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2.- Estudio del proceso de precipitación hidrotermal del hierro a escala de laboratorio. Análisis de experimentos y formulación de modelos fenomenológic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uis Cifuentes  (Dpto. Ingeniería de Minas)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3.- Modelación matemática de celdas de EO de cobre con cátodos particulado y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4.- Estudio de la calidad de electro depósitos de cobre sobre cátodos de malla.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5. - Efecto de la densidad de corriente de celda sobre la corrosión de anodos de Pb-Ca-Sn en electro 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Tomas Vargas V.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6.- Rol de aditivos en la electrocristalización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7.- Cinética de disolución de minerales oxidados de cobre con soluciones lixiviantes con alta concentración iónica.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8.- Influencia de la concentración iónica de soluciones lixiviantes sobre la eficiencia de la extracción por solventes de cobre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9.- Determinación de la actividad catalítica de bacterias en circuit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de lixiviación industrial mediante métodos biooelectr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0.- Lixiviación bacteriana de minerales sulfurados de cobre con bacterias termófilas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M.Elena Lienqueo - Oriana Salaz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1.- Efecto de la distribución de aminoácidos superficiales en el comportamiento cromatográfico de las proteínas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 Guía: Leandro Herrera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2.- Optimización de una Planta de Tratamiento de Aguas Servidas sujeta a sobrecarga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3.- Energías alternativas: Impacto ambiental del reemplazo de combustibles fósiles por hidrógeno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4.- Residuos Industriales Líquidos: Tratamientos bioquímicos </a:t>
            </a: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5.- Emisiones de Anhídrido Sulfuroso: Su conversión a productos valiosos.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Profesora Guía: Blanca Escobar 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ffff00"/>
                </a:solidFill>
                <a:latin typeface="Comic Sans MS"/>
              </a:rPr>
              <a:t>16.- </a:t>
            </a: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Cuantificacion de microorganismos en procesos de biolixiviacion mediante CMP-PCR.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Oriana Salazar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7. Caracterización de sistemas celulasa de bacterias de origen 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8. Clonamiento de genes que codifican para celulasas psicrofílicas de origen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antártic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19. Optimización de las condiciones de cultivo de bacterias psicrofílicas de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origen antártico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Juan Asenjo y B. Andrew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visitar líneas de investigación en: www.cibyb.uchile.cl 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Prof. R.Badilla y J. Asenjo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Comic Sans MS"/>
              </a:rPr>
              <a:t>Interesados en temas de Biotecnología aplicada a la minería con disponibilidad de tiempo completo desde este semestre contactarse con rbadilla@biosigma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81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Septiembre 14:30-18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-IQ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ALVARADO, FELIPE A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jas Kat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su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ellen 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7:08:14Z</dcterms:modified>
  <cp:revision>92</cp:revision>
  <dc:subject/>
  <dc:title>El ingeniero, etica y sociedad</dc:title>
</cp:coreProperties>
</file>