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8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4.wmf" ContentType="image/x-wmf"/>
  <Override PartName="/ppt/media/image9.png" ContentType="image/png"/>
  <Override PartName="/ppt/media/image37.wmf" ContentType="image/x-wmf"/>
  <Override PartName="/ppt/media/image6.png" ContentType="image/png"/>
  <Override PartName="/ppt/media/image14.wmf" ContentType="image/x-wmf"/>
  <Override PartName="/ppt/media/image35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C0B-C700-4BB3-917A-1F0C8956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E2C-3EAB-461A-9617-CD8776E4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B4D-665D-4BD9-BE3C-20DA40A7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832-B818-4396-A048-0578F31F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C18-DEDE-4118-A314-30192739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E04-C2C5-49A6-BB45-65D6573F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764-27BB-406A-8D41-3850169A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718-F464-4B64-BB1E-9BC5217E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F83-6B91-47CB-95E5-7AB58732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4A8-3043-4F4B-82E1-3F67AEF1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9D5A-BB4A-4E96-826C-22396847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27E-A337-4FAC-8265-AC65400B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24B1-63E9-4CE9-BF65-61AD9F22A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33520" y="7621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Y PROGRAMACION DE PROCESOS DISCONTINUOS (BATC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Chemical Process Structures and Information Flows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R.,S.H. Mah, Butterworths Publishers, USA, 1990</a:t>
            </a:r>
            <a:r>
              <a:rPr b="1" lang="es-ES_tradnl" sz="1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09680" y="3200400"/>
          <a:ext cx="476280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47628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La producción en forma Batch conviene, pero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ogramas de P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 se opera un proceso en forma batch, se debe tener un programa de producción de manera de optimizar el uso de los equ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grama de Producción</a:t>
            </a:r>
            <a:br>
              <a:rPr sz="36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 debe programa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76728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7309080" cy="782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9920" y="60786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SC: Etap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B: Etapa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4599000"/>
          <a:ext cx="4457520" cy="22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599000"/>
                    <a:ext cx="44575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00720" y="4956120"/>
          <a:ext cx="155916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4956120"/>
                    <a:ext cx="15591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70836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LECCION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ujo de Producción (pequeña esca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rzas de Mercado (demanda tempor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Flexible (múltiples produc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s Operacionales (limpieza, síntesis compleja, control estricto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Optimo de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egración de Operaciones y Activ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- Diseñar el Proceso como si fuese Contin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- Identificación de Equipos Discontinu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- Identificación de Equipos Multi-t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- Determinar Etapas Parale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- Cuantificar el Almacenamiento Interme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- Planificar y Programar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EJEMPLO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Sólo operaciones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87280" y="838080"/>
          <a:ext cx="8856720" cy="58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838080"/>
                    <a:ext cx="88567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IFICAR     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 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920" y="0"/>
          <a:ext cx="853416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447920" y="3124080"/>
            <a:ext cx="20574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429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¿ Por qu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Aprovechar las Capacidades Ocio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 Anticipar Cuellos de Bot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 Uso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umplir las Fechas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 Producción Flexible y Optim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2209680"/>
            <a:ext cx="4495680" cy="1752840"/>
          </a:xfrm>
          <a:prstGeom prst="ellipse">
            <a:avLst/>
          </a:prstGeom>
          <a:noFill/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OPERACIONES INDIV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QUIP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SISTEMA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NIFICACION Y PROGRAMAC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</a:t>
            </a:r>
            <a:br>
              <a:rPr sz="3600"/>
            </a:b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Multi-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2819520"/>
            <a:ext cx="5881680" cy="1904760"/>
            <a:chOff x="1219320" y="2819520"/>
            <a:chExt cx="5881680" cy="1904760"/>
          </a:xfrm>
        </p:grpSpPr>
        <p:sp>
          <p:nvSpPr>
            <p:cNvPr id="149" name=""/>
            <p:cNvSpPr/>
            <p:nvPr/>
          </p:nvSpPr>
          <p:spPr>
            <a:xfrm>
              <a:off x="4602240" y="281952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7160" y="281952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3716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02240" y="39909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93160" y="3990960"/>
              <a:ext cx="8078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-152280" y="144792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 estas 6 OOUU, ¿ cuántos productos podría fabric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 Multi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144792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8200" y="144792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4200" y="261936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70000" y="1814400"/>
            <a:ext cx="8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7840" y="1814400"/>
            <a:ext cx="95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4920" y="2619360"/>
            <a:ext cx="6029280" cy="733320"/>
            <a:chOff x="304920" y="2619360"/>
            <a:chExt cx="6029280" cy="733320"/>
          </a:xfrm>
        </p:grpSpPr>
        <p:sp>
          <p:nvSpPr>
            <p:cNvPr id="163" name=""/>
            <p:cNvSpPr/>
            <p:nvPr/>
          </p:nvSpPr>
          <p:spPr>
            <a:xfrm>
              <a:off x="126036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820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43280" y="26193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70000" y="2986200"/>
              <a:ext cx="80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8784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1480" y="2986200"/>
              <a:ext cx="88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142040" y="298620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828800"/>
            <a:ext cx="13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75200" y="1828800"/>
            <a:ext cx="612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t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A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67320" y="4267080"/>
            <a:ext cx="8078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1880" y="4267080"/>
            <a:ext cx="8096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440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0188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67320" y="543888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7880" y="543888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94040" y="580536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1152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94040" y="463392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11520" y="463392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75160" y="5805360"/>
            <a:ext cx="88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66080" y="5805360"/>
            <a:ext cx="154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4800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roduct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SEMAN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ación de Productos y Oper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os Si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las Heurís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lanta Discontinua Multipropós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1090440"/>
            <a:ext cx="8915400" cy="5769000"/>
            <a:chOff x="0" y="1090440"/>
            <a:chExt cx="8915400" cy="5769000"/>
          </a:xfrm>
        </p:grpSpPr>
        <p:sp>
          <p:nvSpPr>
            <p:cNvPr id="193" name=""/>
            <p:cNvSpPr/>
            <p:nvPr/>
          </p:nvSpPr>
          <p:spPr>
            <a:xfrm>
              <a:off x="6934320" y="6338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Producto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0" y="1090440"/>
              <a:ext cx="8458200" cy="5407200"/>
              <a:chOff x="0" y="1090440"/>
              <a:chExt cx="8458200" cy="5407200"/>
            </a:xfrm>
          </p:grpSpPr>
          <p:sp>
            <p:nvSpPr>
              <p:cNvPr id="195" name=""/>
              <p:cNvSpPr/>
              <p:nvPr/>
            </p:nvSpPr>
            <p:spPr>
              <a:xfrm>
                <a:off x="4414680" y="156816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49600" y="156816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3176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4960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14680" y="2790720"/>
                <a:ext cx="80820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05600" y="279072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320" y="317340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1400" y="317340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57800" y="200484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59240" y="19508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22880" y="317340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13440" y="3173400"/>
                <a:ext cx="154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320" y="109044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MANA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38720" y="451008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73280" y="451008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5580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7328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38720" y="5732280"/>
                <a:ext cx="8078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29280" y="573228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5440" y="611496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8292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65440" y="489240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82920" y="489240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46560" y="611496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37480" y="6114960"/>
                <a:ext cx="154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81480" y="4900320"/>
                <a:ext cx="13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03380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SEMANA 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048120" y="2309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4800600" y="3555720"/>
                <a:ext cx="0" cy="55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52880" y="3555720"/>
                <a:ext cx="19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48520" y="132840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77120" y="458928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Producto 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Comic Sans MS"/>
              </a:rPr>
              <a:t>Programación  de la Oper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a de Operación para un Proceso Batch que Requiere Tres Etapas o Procesadores Conectados en S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3885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 Preparación de cada etapa   = 0.5 u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2860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71600" y="2743200"/>
            <a:ext cx="6029280" cy="733320"/>
            <a:chOff x="1371600" y="2743200"/>
            <a:chExt cx="6029280" cy="733320"/>
          </a:xfrm>
        </p:grpSpPr>
        <p:grpSp>
          <p:nvGrpSpPr>
            <p:cNvPr id="235" name=""/>
            <p:cNvGrpSpPr/>
            <p:nvPr/>
          </p:nvGrpSpPr>
          <p:grpSpPr>
            <a:xfrm>
              <a:off x="1371600" y="2743200"/>
              <a:ext cx="6029280" cy="733320"/>
              <a:chOff x="1371600" y="2743200"/>
              <a:chExt cx="6029280" cy="733320"/>
            </a:xfrm>
          </p:grpSpPr>
          <p:sp>
            <p:nvSpPr>
              <p:cNvPr id="236" name=""/>
              <p:cNvSpPr/>
              <p:nvPr/>
            </p:nvSpPr>
            <p:spPr>
              <a:xfrm>
                <a:off x="232704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4488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9960" y="2743200"/>
                <a:ext cx="80820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7160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36680" y="311004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5452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18160" y="311004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362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848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1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9144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¿ Cómo se podrían programar las oper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no se traslapen, ie. se inicia la operación actual cuando se termina la predeces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 con unidades en Paral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. Operación No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1447920"/>
          <a:ext cx="91440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990720" y="5257800"/>
            <a:ext cx="5257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mpo de Residencia (RT): Fin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752480"/>
            <a:ext cx="7467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Tiempo de proceso límite (LCT) : Suma de los tiempos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434340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5943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36.5 ut para procesar 3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547640" y="1125360"/>
            <a:ext cx="5276880" cy="461160"/>
            <a:chOff x="1547640" y="1125360"/>
            <a:chExt cx="5276880" cy="461160"/>
          </a:xfrm>
        </p:grpSpPr>
        <p:grpSp>
          <p:nvGrpSpPr>
            <p:cNvPr id="259" name=""/>
            <p:cNvGrpSpPr/>
            <p:nvPr/>
          </p:nvGrpSpPr>
          <p:grpSpPr>
            <a:xfrm>
              <a:off x="1547640" y="1125360"/>
              <a:ext cx="5276880" cy="398160"/>
              <a:chOff x="1547640" y="1125360"/>
              <a:chExt cx="5276880" cy="398160"/>
            </a:xfrm>
          </p:grpSpPr>
          <p:sp>
            <p:nvSpPr>
              <p:cNvPr id="260" name=""/>
              <p:cNvSpPr/>
              <p:nvPr/>
            </p:nvSpPr>
            <p:spPr>
              <a:xfrm>
                <a:off x="238356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9980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44560" y="1125360"/>
                <a:ext cx="70704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4764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92400" y="1324440"/>
                <a:ext cx="70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0828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51960" y="1324440"/>
                <a:ext cx="77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414520" y="12078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1520" y="12492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6920" y="1207800"/>
              <a:ext cx="59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2764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TCL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895480"/>
            <a:ext cx="86868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*Inicia antes la etapa 1, LCT sería más co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Hacer un traslape de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0"/>
            <a:ext cx="6629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. 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762120"/>
          <a:ext cx="914400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28600" y="5546880"/>
            <a:ext cx="86868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8.5 ut para procesar 3 batch, ahorro del 22%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95640" y="112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TCL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895480"/>
            <a:ext cx="8686800" cy="18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quipos en paralelo, sobre todo en las etapas limitantes, etap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mayor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 Unidades en Paral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19320"/>
          <a:ext cx="9144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0" y="54100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0.5 ut para procesar 3 batch, ahorro del 45%.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141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, ¿COMO? </a:t>
            </a:r>
            <a:r>
              <a:rPr b="0" lang="es-E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Políticas de almacenamiento interme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, puede llegar a ser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olumen de producción &lt; 10-50 Kton/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dinámica (discontinua, intermiten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sos que requieren alto tiempo de resid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utas de síntesis complejas (fármacos, químicos, bioquím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de control estrictas (reactor nucl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TECEDENTES DE UN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S DISCONTIN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ITICA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160020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r la Producción Cuando hay Dependencia de la Cantidad de Insumos Precur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752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657600"/>
            <a:ext cx="6248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as, Indemnizaciones, Garan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upción del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uera de Espec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3505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MORA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55627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trega Anticipada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55627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po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447920"/>
            <a:ext cx="8610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) No hay Almacenamiento Intermedio (NA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) Demora Cero, entre etapas (zero wait, ZW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i) Almacenamiento Interme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limitado (A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ito (AI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xto (AI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2666880"/>
          <a:ext cx="883908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8390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4) con 3 Etapas de Procesamiento en Ser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o hay Almacenamiento Intermedi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NAI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Horas totales de Operación, HO = 24 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30040" y="1676520"/>
          <a:ext cx="891396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676520"/>
                    <a:ext cx="891396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"/>
          <p:cNvGrpSpPr/>
          <p:nvPr/>
        </p:nvGrpSpPr>
        <p:grpSpPr>
          <a:xfrm>
            <a:off x="457200" y="2209320"/>
            <a:ext cx="7162920" cy="4071960"/>
            <a:chOff x="457200" y="2209320"/>
            <a:chExt cx="7162920" cy="4071960"/>
          </a:xfrm>
        </p:grpSpPr>
        <p:sp>
          <p:nvSpPr>
            <p:cNvPr id="324" name=""/>
            <p:cNvSpPr/>
            <p:nvPr/>
          </p:nvSpPr>
          <p:spPr>
            <a:xfrm>
              <a:off x="457200" y="5638680"/>
              <a:ext cx="716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!!!! Equipos Ociosos !!!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038480" y="2209320"/>
              <a:ext cx="1219320" cy="350532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114800" y="3123720"/>
              <a:ext cx="2133720" cy="251460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8480" y="3276360"/>
              <a:ext cx="11430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038480" y="3276360"/>
              <a:ext cx="27432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84360" y="2349360"/>
            <a:ext cx="1150920" cy="1727280"/>
            <a:chOff x="2484360" y="2349360"/>
            <a:chExt cx="1150920" cy="1727280"/>
          </a:xfrm>
        </p:grpSpPr>
        <p:sp>
          <p:nvSpPr>
            <p:cNvPr id="330" name=""/>
            <p:cNvSpPr/>
            <p:nvPr/>
          </p:nvSpPr>
          <p:spPr>
            <a:xfrm>
              <a:off x="2484360" y="2349360"/>
              <a:ext cx="0" cy="6480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35280" y="3429000"/>
              <a:ext cx="0" cy="6476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836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09480" y="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mora Cero entre etapas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ZW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6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44360" y="1752480"/>
          <a:ext cx="899964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752480"/>
                    <a:ext cx="899964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533520" y="5638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Puede ser necesario por el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134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088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lmacenamiento Intermedio Ilimitad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II</a:t>
            </a:r>
            <a:br>
              <a:rPr sz="36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3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0" y="1143000"/>
            <a:ext cx="8869320" cy="4943520"/>
            <a:chOff x="0" y="1143000"/>
            <a:chExt cx="8869320" cy="4943520"/>
          </a:xfrm>
        </p:grpSpPr>
        <p:graphicFrame>
          <p:nvGraphicFramePr>
            <p:cNvPr id="340" name=""/>
            <p:cNvGraphicFramePr/>
            <p:nvPr/>
          </p:nvGraphicFramePr>
          <p:xfrm>
            <a:off x="0" y="1143000"/>
            <a:ext cx="8869320" cy="494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43000"/>
                      <a:ext cx="8869320" cy="49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6781680" y="182880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24680" y="312444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52880" y="1828800"/>
              <a:ext cx="76320" cy="6858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62720" y="3048120"/>
              <a:ext cx="75960" cy="20574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400800" y="4343040"/>
              <a:ext cx="76320" cy="76212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80880" y="62164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Ahorra tiempo, inversión ba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83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Comic Sans MS"/>
              </a:rPr>
              <a:t>Políticas de almacenamiento intermedio, si son factible, dado que las inversiones en estos casos son muy b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, puede llegar a ser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¿ Cómo se realiza la Programación de Productos y Operaci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1600200"/>
            <a:ext cx="86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cursos Principale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Objetivo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Producción Demandada po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ercado en el Tiempo Ind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ROGRAMACIÓN DE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04920" y="1797120"/>
          <a:ext cx="841536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97120"/>
                    <a:ext cx="84153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919080" y="1066680"/>
            <a:ext cx="75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ivel Superior  (Gerencia, Directori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1360" y="4968720"/>
          <a:ext cx="8261280" cy="14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360" y="4968720"/>
                    <a:ext cx="8261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524880" y="4191120"/>
            <a:ext cx="81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ivel Inferior  (Jefe Producción, Operado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57200" y="1219320"/>
            <a:ext cx="8686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ductos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cesadores, Operaciones (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nción Objetivo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Tiempo Procesamiento (Ti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-Restricciones Técnicas (secuencia procesamien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precursores, disponibilidad tecnológica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58400" y="457200"/>
            <a:ext cx="70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Factores que Afectan la Programació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267080"/>
            <a:ext cx="8153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omic Sans MS"/>
              </a:rPr>
              <a:t>Supues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Las tareas no son necesariamente consecu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tos de calidad variable (lote a lo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</a:t>
            </a:r>
            <a:r>
              <a:rPr b="1" lang="es-ES_tradnl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rocesos flexibl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multitarea o multipropósito, multiproduct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BJETIVO TECNICO DE LA PLANIFICACIO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Medidas de Eficienc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rizonte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á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de Producción Fuera de Especificación (cambio de 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209680"/>
            <a:ext cx="35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NIMIZ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lgoritmos de Solución para Minimizar 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Procesador o equipo (programación triv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i) Trabajos en 1 etapa con procesadores o 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paral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de McNaughton (19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LPT (long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) Regla de McNaughton (19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Horizonte Operacional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295280" y="2362320"/>
          <a:ext cx="6096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096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914400" y="3962520"/>
            <a:ext cx="731520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: Número de procesadores o 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) Regla LPT (long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) Regla SPT (short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8) con 1 etapa y 3 Equipos en Paralel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71640" y="544500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operacional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= max { 8, 36/3} = max { 8, 12} = 12 ut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orizonte de operación 12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447920" y="762120"/>
          <a:ext cx="60958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60958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2820960" y="228600"/>
            <a:ext cx="32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gla de McNaughton: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9360" y="2286000"/>
            <a:ext cx="671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628560" y="4786200"/>
          <a:ext cx="162720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560" y="4786200"/>
                    <a:ext cx="162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3708360" y="4653000"/>
          <a:ext cx="495288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4653000"/>
                    <a:ext cx="49528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lternativa 1 (Hay varias otr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9072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Hay que dividir en bloque de 12 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476360" y="2781360"/>
          <a:ext cx="587844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587844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147636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9144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gla LPT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692360" y="2708280"/>
          <a:ext cx="56577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708280"/>
                    <a:ext cx="56577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161928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28600" y="11430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Regla SPT</a:t>
            </a:r>
            <a:br>
              <a:rPr sz="2400"/>
            </a:br>
            <a:br>
              <a:rPr sz="24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403280" y="2565360"/>
          <a:ext cx="636120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6361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1403280" y="22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ii) Dos Procesadores 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Regla de Johnson (1954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ocedimiento para minimizar el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Horizonte Operacio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(se asume Almacenamiento Intermedio Ilimi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a) E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una secuencia el trabajo i antecede al j 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 </a:t>
            </a:r>
            <a:r>
              <a:rPr b="1" lang="es-ES_tradnl" sz="4000" spc="-1" strike="noStrike">
                <a:solidFill>
                  <a:srgbClr val="660066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  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, j = Producto ;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2: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06560" y="692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32000" y="1916280"/>
            <a:ext cx="6648480" cy="1191600"/>
            <a:chOff x="1332000" y="1916280"/>
            <a:chExt cx="6648480" cy="1191600"/>
          </a:xfrm>
        </p:grpSpPr>
        <p:sp>
          <p:nvSpPr>
            <p:cNvPr id="53" name=""/>
            <p:cNvSpPr/>
            <p:nvPr/>
          </p:nvSpPr>
          <p:spPr>
            <a:xfrm>
              <a:off x="2467080" y="215244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6416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6268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9760" y="215244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650960" y="2497680"/>
              <a:ext cx="5986800" cy="11520"/>
              <a:chOff x="1650960" y="2497680"/>
              <a:chExt cx="5986800" cy="11520"/>
            </a:xfrm>
          </p:grpSpPr>
          <p:cxnSp>
            <p:nvCxnSpPr>
              <p:cNvPr id="58" name=""/>
              <p:cNvCxnSpPr>
                <a:stCxn id="53" idx="3"/>
                <a:endCxn id="54" idx="1"/>
              </p:cNvCxnSpPr>
              <p:nvPr/>
            </p:nvCxnSpPr>
            <p:spPr>
              <a:xfrm>
                <a:off x="3115800" y="250740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59" name=""/>
              <p:cNvCxnSpPr>
                <a:stCxn id="54" idx="3"/>
                <a:endCxn id="55" idx="1"/>
              </p:cNvCxnSpPr>
              <p:nvPr/>
            </p:nvCxnSpPr>
            <p:spPr>
              <a:xfrm>
                <a:off x="44132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5" idx="3"/>
                <a:endCxn id="56" idx="1"/>
              </p:cNvCxnSpPr>
              <p:nvPr/>
            </p:nvCxnSpPr>
            <p:spPr>
              <a:xfrm>
                <a:off x="57110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6" idx="3"/>
              </p:cNvCxnSpPr>
              <p:nvPr/>
            </p:nvCxnSpPr>
            <p:spPr>
              <a:xfrm flipV="1">
                <a:off x="7008840" y="2497680"/>
                <a:ext cx="62928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endCxn id="53" idx="1"/>
              </p:cNvCxnSpPr>
              <p:nvPr/>
            </p:nvCxnSpPr>
            <p:spPr>
              <a:xfrm>
                <a:off x="1650960" y="2498040"/>
                <a:ext cx="81684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/>
            <p:nvPr/>
          </p:nvCxnSpPr>
          <p:spPr>
            <a:xfrm>
              <a:off x="3132360" y="225216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4429080" y="2252160"/>
              <a:ext cx="64980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/>
            <p:nvPr/>
          </p:nvCxnSpPr>
          <p:spPr>
            <a:xfrm>
              <a:off x="5726160" y="225216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/>
            <p:nvPr/>
          </p:nvCxnSpPr>
          <p:spPr>
            <a:xfrm flipV="1">
              <a:off x="7025040" y="2244240"/>
              <a:ext cx="6292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/>
            <p:nvPr/>
          </p:nvCxnSpPr>
          <p:spPr>
            <a:xfrm>
              <a:off x="1667160" y="2244240"/>
              <a:ext cx="8164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68" name=""/>
            <p:cNvGrpSpPr/>
            <p:nvPr/>
          </p:nvGrpSpPr>
          <p:grpSpPr>
            <a:xfrm>
              <a:off x="1654200" y="2777400"/>
              <a:ext cx="5986800" cy="9720"/>
              <a:chOff x="1654200" y="2777400"/>
              <a:chExt cx="5986800" cy="9720"/>
            </a:xfrm>
          </p:grpSpPr>
          <p:cxnSp>
            <p:nvCxnSpPr>
              <p:cNvPr id="69" name=""/>
              <p:cNvCxnSpPr/>
              <p:nvPr/>
            </p:nvCxnSpPr>
            <p:spPr>
              <a:xfrm>
                <a:off x="3119040" y="278532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0" name=""/>
              <p:cNvCxnSpPr/>
              <p:nvPr/>
            </p:nvCxnSpPr>
            <p:spPr>
              <a:xfrm>
                <a:off x="44164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1" name=""/>
              <p:cNvCxnSpPr/>
              <p:nvPr/>
            </p:nvCxnSpPr>
            <p:spPr>
              <a:xfrm>
                <a:off x="57142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2" name=""/>
              <p:cNvCxnSpPr/>
              <p:nvPr/>
            </p:nvCxnSpPr>
            <p:spPr>
              <a:xfrm flipV="1">
                <a:off x="7012080" y="2777400"/>
                <a:ext cx="62928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3" name=""/>
              <p:cNvCxnSpPr/>
              <p:nvPr/>
            </p:nvCxnSpPr>
            <p:spPr>
              <a:xfrm>
                <a:off x="1654200" y="2777400"/>
                <a:ext cx="81684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74" name=""/>
            <p:cNvSpPr/>
            <p:nvPr/>
          </p:nvSpPr>
          <p:spPr>
            <a:xfrm>
              <a:off x="1332000" y="1916280"/>
              <a:ext cx="325440" cy="11840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39200" y="1920600"/>
              <a:ext cx="341280" cy="1187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006560" y="335772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pósito (Jobshop plant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32000" y="4941360"/>
            <a:ext cx="5576400" cy="1627560"/>
            <a:chOff x="1332000" y="4941360"/>
            <a:chExt cx="5576400" cy="1627560"/>
          </a:xfrm>
        </p:grpSpPr>
        <p:sp>
          <p:nvSpPr>
            <p:cNvPr id="78" name=""/>
            <p:cNvSpPr/>
            <p:nvPr/>
          </p:nvSpPr>
          <p:spPr>
            <a:xfrm>
              <a:off x="228420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7212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0040" y="539928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4976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/>
            <p:nvPr/>
          </p:nvCxnSpPr>
          <p:spPr>
            <a:xfrm>
              <a:off x="5004360" y="5813640"/>
              <a:ext cx="545400" cy="2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V="1">
              <a:off x="6092640" y="5804280"/>
              <a:ext cx="5281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4" name=""/>
            <p:cNvCxnSpPr/>
            <p:nvPr/>
          </p:nvCxnSpPr>
          <p:spPr>
            <a:xfrm>
              <a:off x="1599480" y="5804640"/>
              <a:ext cx="68544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85" name=""/>
            <p:cNvGrpSpPr/>
            <p:nvPr/>
          </p:nvGrpSpPr>
          <p:grpSpPr>
            <a:xfrm>
              <a:off x="1611720" y="5504400"/>
              <a:ext cx="5022360" cy="10800"/>
              <a:chOff x="1611720" y="5504400"/>
              <a:chExt cx="5022360" cy="10800"/>
            </a:xfrm>
          </p:grpSpPr>
          <p:cxnSp>
            <p:nvCxnSpPr>
              <p:cNvPr id="86" name=""/>
              <p:cNvCxnSpPr/>
              <p:nvPr/>
            </p:nvCxnSpPr>
            <p:spPr>
              <a:xfrm>
                <a:off x="284076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7" name=""/>
              <p:cNvCxnSpPr/>
              <p:nvPr/>
            </p:nvCxnSpPr>
            <p:spPr>
              <a:xfrm>
                <a:off x="3928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8" name=""/>
              <p:cNvCxnSpPr/>
              <p:nvPr/>
            </p:nvCxnSpPr>
            <p:spPr>
              <a:xfrm>
                <a:off x="5017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9" name=""/>
              <p:cNvCxnSpPr/>
              <p:nvPr/>
            </p:nvCxnSpPr>
            <p:spPr>
              <a:xfrm flipV="1">
                <a:off x="6106320" y="5504400"/>
                <a:ext cx="52812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90" name=""/>
              <p:cNvCxnSpPr/>
              <p:nvPr/>
            </p:nvCxnSpPr>
            <p:spPr>
              <a:xfrm>
                <a:off x="1611720" y="5504760"/>
                <a:ext cx="68544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91" name=""/>
            <p:cNvSpPr/>
            <p:nvPr/>
          </p:nvSpPr>
          <p:spPr>
            <a:xfrm>
              <a:off x="1332000" y="5123160"/>
              <a:ext cx="271800" cy="13802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21840" y="5128200"/>
              <a:ext cx="286560" cy="1385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78" idx="3"/>
            </p:cNvCxnSpPr>
            <p:nvPr/>
          </p:nvCxnSpPr>
          <p:spPr>
            <a:xfrm flipV="1">
              <a:off x="2827440" y="5801400"/>
              <a:ext cx="223200" cy="104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endCxn id="80" idx="1"/>
            </p:cNvCxnSpPr>
            <p:nvPr/>
          </p:nvCxnSpPr>
          <p:spPr>
            <a:xfrm>
              <a:off x="4137480" y="5802840"/>
              <a:ext cx="3229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/>
            <p:nvPr/>
          </p:nvCxnSpPr>
          <p:spPr>
            <a:xfrm flipV="1">
              <a:off x="3049560" y="4949280"/>
              <a:ext cx="180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/>
            <p:nvPr/>
          </p:nvCxnSpPr>
          <p:spPr>
            <a:xfrm flipV="1">
              <a:off x="4153320" y="4983480"/>
              <a:ext cx="216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7" name=""/>
            <p:cNvCxnSpPr/>
            <p:nvPr/>
          </p:nvCxnSpPr>
          <p:spPr>
            <a:xfrm>
              <a:off x="3063960" y="4941360"/>
              <a:ext cx="1088280" cy="39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/>
            <p:nvPr/>
          </p:nvCxnSpPr>
          <p:spPr>
            <a:xfrm flipH="1">
              <a:off x="1609560" y="6078600"/>
              <a:ext cx="66204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/>
            <p:nvPr/>
          </p:nvCxnSpPr>
          <p:spPr>
            <a:xfrm flipH="1">
              <a:off x="2802240" y="605664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/>
            <p:nvPr/>
          </p:nvCxnSpPr>
          <p:spPr>
            <a:xfrm flipH="1">
              <a:off x="3897360" y="6058080"/>
              <a:ext cx="25740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/>
            <p:nvPr/>
          </p:nvCxnSpPr>
          <p:spPr>
            <a:xfrm flipH="1">
              <a:off x="6073920" y="609300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/>
            <p:nvPr/>
          </p:nvCxnSpPr>
          <p:spPr>
            <a:xfrm flipH="1">
              <a:off x="5275440" y="6118560"/>
              <a:ext cx="257040" cy="158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/>
            <p:nvPr/>
          </p:nvCxnSpPr>
          <p:spPr>
            <a:xfrm flipH="1">
              <a:off x="4156200" y="6055200"/>
              <a:ext cx="5040" cy="5140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/>
            <p:nvPr/>
          </p:nvCxnSpPr>
          <p:spPr>
            <a:xfrm>
              <a:off x="5289480" y="6159240"/>
              <a:ext cx="11520" cy="3805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/>
            <p:nvPr/>
          </p:nvCxnSpPr>
          <p:spPr>
            <a:xfrm flipH="1">
              <a:off x="4123440" y="6554880"/>
              <a:ext cx="1176840" cy="12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b)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i un trabajo no requiere una de las etapas de procesamiento se le asigna un tiempo de procesamiento </a:t>
            </a:r>
            <a:r>
              <a:rPr b="1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= 0 en es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De todos los trabajos por programar seleccione el que tenga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mov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8991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gramas de Operación en una Planta Multiproducto (5) con 2 Etapas de Procesamiento y 1 Equipo por Etapa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29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533520" y="4038480"/>
            <a:ext cx="784836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- De todos los trabajos por programar seleccione el que tenga 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1905120" y="3733920"/>
          <a:ext cx="5867280" cy="229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58672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0" y="0"/>
            <a:ext cx="8991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7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"/>
          <p:cNvGraphicFramePr/>
          <p:nvPr/>
        </p:nvGraphicFramePr>
        <p:xfrm>
          <a:off x="2057400" y="144792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0" y="0"/>
            <a:ext cx="8686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Remover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1143000" y="3657600"/>
          <a:ext cx="7315200" cy="2857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73152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0" y="1916280"/>
            <a:ext cx="50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00720" y="2205000"/>
            <a:ext cx="576360" cy="4320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67280" y="1773360"/>
            <a:ext cx="576000" cy="43164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187280" y="3789360"/>
          <a:ext cx="687564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6875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1600200" y="60948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914400" y="3429000"/>
          <a:ext cx="6858000" cy="268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68580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826920" y="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Fi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752480" y="6094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grama Optim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80880" y="2286000"/>
          <a:ext cx="7894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7894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684360" y="1916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ues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ud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iseño óptimo de una planta batch multi-propósito: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roducción de proteínas recomb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Montagna J.M., Vecchietti A.R., Iribarren O.A., Pinto J.M., Asenjo J.A (2000) “Optimal design of protein production plants with time and size factor process models” Biotechnol. Prog 2000, 16, 228-23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timo uso de recurs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ateriales, energía, equipos, tiempo y recursos hum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forme Fi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ebe inclu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-Programación de las operaciones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Image2" descr=""/>
          <p:cNvPicPr/>
          <p:nvPr/>
        </p:nvPicPr>
        <p:blipFill>
          <a:blip r:embed="rId1"/>
          <a:stretch/>
        </p:blipFill>
        <p:spPr>
          <a:xfrm>
            <a:off x="609480" y="-252360"/>
            <a:ext cx="75438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"/>
          <p:cNvGraphicFramePr/>
          <p:nvPr/>
        </p:nvGraphicFramePr>
        <p:xfrm>
          <a:off x="1371600" y="990720"/>
          <a:ext cx="6634080" cy="42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6634080" cy="42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</a:rPr>
              <a:t>Comparación entre procesos continuos y discontinu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2516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 CONTIN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57200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Todas las operaciones se realizan en el mismo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2762280"/>
            <a:ext cx="8839080" cy="3744720"/>
            <a:chOff x="304920" y="2762280"/>
            <a:chExt cx="8839080" cy="3744720"/>
          </a:xfrm>
        </p:grpSpPr>
        <p:grpSp>
          <p:nvGrpSpPr>
            <p:cNvPr id="113" name=""/>
            <p:cNvGrpSpPr/>
            <p:nvPr/>
          </p:nvGrpSpPr>
          <p:grpSpPr>
            <a:xfrm>
              <a:off x="304920" y="2762280"/>
              <a:ext cx="8839080" cy="3744720"/>
              <a:chOff x="304920" y="2762280"/>
              <a:chExt cx="8839080" cy="374472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8120" y="2762280"/>
                <a:ext cx="6095880" cy="374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04920" y="3429000"/>
                <a:ext cx="777240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CESO DISCONTINU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16" name=""/>
            <p:cNvGraphicFramePr/>
            <p:nvPr/>
          </p:nvGraphicFramePr>
          <p:xfrm>
            <a:off x="6400800" y="3886200"/>
            <a:ext cx="29052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0800" y="3886200"/>
                      <a:ext cx="2905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imentos (vinos, confites, lácteos, conserv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árma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ímicos finos y espe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límeros, co-polímeros, resinas, fibr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tergentes, artículos de as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méticos, perf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eriales (cerámicos, plástico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itivos (adhesivos, lubricante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Maria Elena Lienqueo C.</cp:lastModifiedBy>
  <cp:lastPrinted>2000-11-24T00:59:13Z</cp:lastPrinted>
  <dcterms:modified xsi:type="dcterms:W3CDTF">2005-11-09T15:56:26Z</dcterms:modified>
  <cp:revision>107</cp:revision>
  <dc:subject/>
  <dc:title>Principios y Metodología de Modelación</dc:title>
</cp:coreProperties>
</file>