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9.png" ContentType="image/png"/>
  <Override PartName="/ppt/media/image37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B4A-D65C-4639-A2CA-DA974281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68D-5262-4F68-B45C-55FD95F1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B0C-868A-43AE-8DCB-D5F38213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6D6-B658-4834-9C08-44121D89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99C-1A49-4113-95A2-9362995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AB3-FF92-4307-89C8-EB04518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135-1531-4029-B818-2EE64395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585-B94A-4533-B733-0660DBAF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9BF-B813-4517-B804-33F56B81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7BE-21E1-4988-9FFD-005938F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09E-60A5-4C12-807E-8EB8583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6B2-CDEB-4F05-8C04-303D8AE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80F-D9E4-4350-B069-83F0C8A9A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0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Las tareas no son necesariamente consec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78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2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7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Image2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371600" y="990720"/>
          <a:ext cx="663408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63408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Maria Elena Lienqueo C.</cp:lastModifiedBy>
  <cp:lastPrinted>2000-11-24T00:59:13Z</cp:lastPrinted>
  <dcterms:modified xsi:type="dcterms:W3CDTF">2005-11-09T15:56:26Z</dcterms:modified>
  <cp:revision>107</cp:revision>
  <dc:subject/>
  <dc:title>Principios y Metodología de Modelación</dc:title>
</cp:coreProperties>
</file>