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EBF89-9521-4DF9-9425-6C879DDBB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C349F-67BD-4DFF-8854-C6609541B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81179-5D63-4F37-B61C-3334A1021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FEB85-F2D5-4946-A7B6-825F6696F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EA8C4-78D8-4A07-8730-1DD95B907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ABE34-78C6-40FB-88BD-E86C7E971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52BF2-09D6-4175-88B9-1D9C62B1B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9BF0C-9CB1-474A-BE62-F9F8D59B8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874AB-0AA4-4360-80C2-0DD5DD380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16EB5-0943-4AF3-95FC-F55C9EF1E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C5633-1EDC-422F-88C5-5CA2BB15F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53C1A-6F71-4D5C-B486-0BE710AB7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2896-9C4A-4E01-B3A2-CC11FCB0A2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GUIA PARA LA PREPARACIÓN DE</a:t>
            </a:r>
            <a:br>
              <a:rPr sz="4400"/>
            </a:br>
            <a:r>
              <a:rPr b="1" lang="es-ES" sz="4400" spc="-1" strike="noStrike">
                <a:solidFill>
                  <a:srgbClr val="ffff00"/>
                </a:solidFill>
                <a:latin typeface="Times New Roman"/>
                <a:ea typeface="Times New Roman"/>
              </a:rPr>
              <a:t>INFORMES DE PROYECTOS </a:t>
            </a:r>
            <a:br>
              <a:rPr sz="4400"/>
            </a:br>
            <a:r>
              <a:rPr b="0" lang="es-ES" sz="4400" spc="-1" strike="noStrike">
                <a:solidFill>
                  <a:srgbClr val="ffff00"/>
                </a:solidFill>
                <a:latin typeface="Times New Roman"/>
                <a:ea typeface="Times New Roman"/>
              </a:rPr>
              <a:t>D</a:t>
            </a:r>
            <a:r>
              <a:rPr b="1" lang="es-ES" sz="4400" spc="-1" strike="noStrike">
                <a:solidFill>
                  <a:srgbClr val="ffff00"/>
                </a:solidFill>
                <a:latin typeface="Times New Roman"/>
                <a:ea typeface="Times New Roman"/>
              </a:rPr>
              <a:t>E INGENIERÍ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28240" y="4419720"/>
            <a:ext cx="800100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ller de Diseño de Proceso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estre Primavera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3. El Resumen Ejecutivo</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218960"/>
            <a:ext cx="81532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la parte crucial del Informe, preparado para responder las inquietudes de la alta gerenci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iene las conclusiones y las recomendacion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ir detalles sólo en el caso de que estos sean significativos para la evaluación del riesgo y la toma de decision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e entregar una visión completa, de modo que los lectores puedan decidir si leen otras sec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3. El Resumen Ejecutivo</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218960"/>
            <a:ext cx="81532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e permitir establecer qué se hizo, cómo se hizo y que se recomienda o concluy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No discuta procedimientos a menos que se hayan obtenidos resultados inesperado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ncluya gráficos de alta calida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e empezarse en página aparte, y ser de la menor extensión posibl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os ingenieros jóvenes deben requerir ayuda para saber que tipo de información contendrá el Resumen Ejecutivo</a:t>
            </a:r>
            <a:r>
              <a:rPr b="0" lang="es-ES_tradnl"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4. Los Índices de Contenido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ólo los informes largos requieren de incluir subsecciones, índices de Tablas y Figuras.</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s páginas del Informe deben estar siempre numeradas, de preferencia al centro o el costado izquierdo superior, y una viñeta descriptiva y el número del documento y revisión al pie de página.</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 introducción debe estar en la página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5. Introducció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be ser un recordatorio y una guía para la lectura del informe complet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be incluir la definición del problema, los antecedentes previos, las limitantes claves que determinan la solución y el cómo el proyecto fue desarrollad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Hasta donde sea posible, entregue información de como el proyecto impacta a la empresa o la organización que lo encarg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6. Resultados....</a:t>
            </a:r>
            <a:endParaRPr b="0" lang="en-US" sz="4400" spc="-1" strike="noStrike">
              <a:solidFill>
                <a:srgbClr val="000000"/>
              </a:solidFill>
              <a:latin typeface="Times New Roman"/>
            </a:endParaRPr>
          </a:p>
        </p:txBody>
      </p:sp>
      <p:sp>
        <p:nvSpPr>
          <p:cNvPr id="71"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forma precisa e ilustrada entre otros:</a:t>
            </a:r>
            <a:endParaRPr b="0" lang="en-US" sz="2600" spc="-1" strike="noStrike">
              <a:solidFill>
                <a:srgbClr val="000000"/>
              </a:solidFill>
              <a:latin typeface="Times New Roman"/>
            </a:endParaRPr>
          </a:p>
          <a:p>
            <a:pPr lvl="1" marL="743040" indent="-28584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iagramas de flujo completos, con identificación y viñetas claramente legibles.</a:t>
            </a:r>
            <a:endParaRPr b="0" lang="en-US" sz="2600" spc="-1" strike="noStrike">
              <a:solidFill>
                <a:srgbClr val="000000"/>
              </a:solidFill>
              <a:latin typeface="Times New Roman"/>
            </a:endParaRPr>
          </a:p>
          <a:p>
            <a:pPr lvl="2" marL="1143000" indent="0" algn="just">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72" name="" descr=""/>
          <p:cNvPicPr/>
          <p:nvPr/>
        </p:nvPicPr>
        <p:blipFill>
          <a:blip r:embed="rId1"/>
          <a:stretch/>
        </p:blipFill>
        <p:spPr>
          <a:xfrm>
            <a:off x="0" y="2521080"/>
            <a:ext cx="9039240" cy="433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6. Resultados....</a:t>
            </a:r>
            <a:endParaRPr b="0" lang="en-US" sz="4400" spc="-1" strike="noStrike">
              <a:solidFill>
                <a:srgbClr val="000000"/>
              </a:solidFill>
              <a:latin typeface="Times New Roman"/>
            </a:endParaRPr>
          </a:p>
        </p:txBody>
      </p:sp>
      <p:sp>
        <p:nvSpPr>
          <p:cNvPr id="74"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forma precisa e ilustrada entre otros:</a:t>
            </a:r>
            <a:endParaRPr b="0" lang="en-US" sz="2600" spc="-1" strike="noStrike">
              <a:solidFill>
                <a:srgbClr val="000000"/>
              </a:solidFill>
              <a:latin typeface="Times New Roman"/>
            </a:endParaRPr>
          </a:p>
          <a:p>
            <a:pPr lvl="1" marL="743040" indent="-28584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alances de masa y energía en forma de tablas asignadas a cada corriente, con indicación de temperatura, presión, fases y flujos totales molares y másicos para cada componente y la corriente tot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6. Resultados ...</a:t>
            </a:r>
            <a:r>
              <a:rPr b="1" lang="es-ES_tradnl" sz="2800" spc="-1" strike="noStrike">
                <a:solidFill>
                  <a:srgbClr val="ffff00"/>
                </a:solidFill>
                <a:latin typeface="Times New Roman"/>
              </a:rPr>
              <a:t>finaliza</a:t>
            </a:r>
            <a:endParaRPr b="0" lang="en-US" sz="2800" spc="-1" strike="noStrike">
              <a:solidFill>
                <a:srgbClr val="000000"/>
              </a:solidFill>
              <a:latin typeface="Times New Roman"/>
            </a:endParaRPr>
          </a:p>
        </p:txBody>
      </p:sp>
      <p:sp>
        <p:nvSpPr>
          <p:cNvPr id="7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7000"/>
          </a:bodyPr>
          <a:p>
            <a:pPr marL="298440" indent="-29844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No es sólo un listado de tablas y figuras</a:t>
            </a:r>
            <a:endParaRPr b="0" lang="en-US" sz="3000" spc="-1" strike="noStrike">
              <a:solidFill>
                <a:srgbClr val="000000"/>
              </a:solidFill>
              <a:latin typeface="Times New Roman"/>
            </a:endParaRPr>
          </a:p>
          <a:p>
            <a:pPr marL="298440" indent="-2984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El texto debe servir de guía al lector</a:t>
            </a:r>
            <a:endParaRPr b="0" lang="en-US" sz="3000" spc="-1" strike="noStrike">
              <a:solidFill>
                <a:srgbClr val="000000"/>
              </a:solidFill>
              <a:latin typeface="Times New Roman"/>
            </a:endParaRPr>
          </a:p>
          <a:p>
            <a:pPr marL="298440" indent="-29844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Los resultados se incluyen en figuras o tablas (que no aparezcan en forma duplicada)</a:t>
            </a:r>
            <a:endParaRPr b="0" lang="en-US" sz="3000" spc="-1" strike="noStrike">
              <a:solidFill>
                <a:srgbClr val="000000"/>
              </a:solidFill>
              <a:latin typeface="Times New Roman"/>
            </a:endParaRPr>
          </a:p>
          <a:p>
            <a:pPr marL="298440" indent="-2984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a consistente con los formatos</a:t>
            </a:r>
            <a:endParaRPr b="0" lang="en-US" sz="3000" spc="-1" strike="noStrike">
              <a:solidFill>
                <a:srgbClr val="000000"/>
              </a:solidFill>
              <a:latin typeface="Times New Roman"/>
            </a:endParaRPr>
          </a:p>
          <a:p>
            <a:pPr marL="298440" indent="-29844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Utilice con cuidado el color (las copias son hechas normalmente mediante fotocopia monocolor) y buena calidad de figuras.</a:t>
            </a:r>
            <a:endParaRPr b="0" lang="en-US" sz="3000" spc="-1" strike="noStrike">
              <a:solidFill>
                <a:srgbClr val="000000"/>
              </a:solidFill>
              <a:latin typeface="Times New Roman"/>
            </a:endParaRPr>
          </a:p>
          <a:p>
            <a:pPr marL="298440" indent="-29844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Utilice los Anexos para las memorias de cálculo y no entregue detalles innecesarios</a:t>
            </a:r>
            <a:r>
              <a:rPr b="0"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7. Discusió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tregue mas detalles sobre la forma en que obtuvo los resultados, incluyendo las razones del porqué de la selección de los procedimientos y el descarte de alternativa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iscuta los métodos específicos y las limitaciones de cualquier tipo (falta de datos, dificultades en los algoritmo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8. Conclusiones</a:t>
            </a:r>
            <a:endParaRPr b="0" lang="en-US" sz="4400" spc="-1" strike="noStrike">
              <a:solidFill>
                <a:srgbClr val="000000"/>
              </a:solidFill>
              <a:latin typeface="Times New Roman"/>
            </a:endParaRPr>
          </a:p>
        </p:txBody>
      </p:sp>
      <p:sp>
        <p:nvSpPr>
          <p:cNvPr id="80"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incluya nunca nuevos resultados</a:t>
            </a:r>
            <a:endParaRPr b="0" lang="en-US" sz="2800" spc="-1" strike="noStrike">
              <a:solidFill>
                <a:srgbClr val="000000"/>
              </a:solidFill>
              <a:latin typeface="Times New Roman"/>
            </a:endParaRPr>
          </a:p>
          <a:p>
            <a:pPr marL="288000" indent="-28800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ntes de escribirla, discuta seriamente los resultados con los co-autores (ayuda que uno de los miembros prepare previamente una pauta de discusión).</a:t>
            </a:r>
            <a:endParaRPr b="0" lang="en-US" sz="2800" spc="-1" strike="noStrike">
              <a:solidFill>
                <a:srgbClr val="000000"/>
              </a:solidFill>
              <a:latin typeface="Times New Roman"/>
            </a:endParaRPr>
          </a:p>
          <a:p>
            <a:pPr marL="288000" indent="-28800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 los informes de evaluación de proyectos, las conclusiones involucran los resultados de la evaluación económica (valor presente, tasa interna de retorno, tiempo de recuperación de la inversión, IVAN, etc.), modificaciones de procesos, factores críticos, análisis de los riesgos, etc.</a:t>
            </a:r>
            <a:endParaRPr b="0" lang="en-US" sz="2800" spc="-1" strike="noStrike">
              <a:solidFill>
                <a:srgbClr val="000000"/>
              </a:solidFill>
              <a:latin typeface="Times New Roman"/>
            </a:endParaRPr>
          </a:p>
          <a:p>
            <a:pPr marL="288000" indent="-28800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n resumen completo de las conclusiones debe aparecer en el Informe Ejecu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9. Recomendacione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s acciones a seguir a partir de los resultado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forma separada, la necesidad de continuar los estudios, si procede, con el alcance de estos estudi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Hay muchas formas de hacer estos informes ésta es una de ellas.</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62120" y="3352320"/>
            <a:ext cx="7162560" cy="175284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Recomendaciones generales:</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Ortografía</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Redacción</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No usar lenguaje coloquial</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0. Referencias bibliográfica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i se ponen antes de los Anexos, estos deben tener una bibliografía separad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haga referencias a materiales que no ha utilizad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 software no se cita, a  menos que contenga datos utilizados en los cálcul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tilice (nombre, año) en el texto, y Nombre, año, “titulo del artículo”, fuente o revista, pagi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1. Otras seccion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En el caso de Informes extensos, incluir secciones separadas sobre seguridad industrial, estudios ambientales, los supuestos del estudio, evaluación del riesgo y los aspectos comerciales y de merc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2. Anexo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Incluya todos los anexos necesarios con los detalles del cálculo, los programas computacionales, etc.</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títulos auto explicativos deben ser incluidos en el Índice de los Conten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Carta Gantt</a:t>
            </a:r>
            <a:endParaRPr b="0" lang="en-US" sz="4400" spc="-1" strike="noStrike">
              <a:solidFill>
                <a:srgbClr val="000000"/>
              </a:solidFill>
              <a:latin typeface="Times New Roman"/>
            </a:endParaRPr>
          </a:p>
        </p:txBody>
      </p:sp>
      <p:pic>
        <p:nvPicPr>
          <p:cNvPr id="90" name="Image14" descr=""/>
          <p:cNvPicPr/>
          <p:nvPr/>
        </p:nvPicPr>
        <p:blipFill>
          <a:blip r:embed="rId1"/>
          <a:stretch/>
        </p:blipFill>
        <p:spPr>
          <a:xfrm>
            <a:off x="-271440" y="2043000"/>
            <a:ext cx="9686880" cy="277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91" name="Image11" descr=""/>
          <p:cNvPicPr/>
          <p:nvPr/>
        </p:nvPicPr>
        <p:blipFill>
          <a:blip r:embed="rId1"/>
          <a:stretch/>
        </p:blipFill>
        <p:spPr>
          <a:xfrm>
            <a:off x="657360" y="433440"/>
            <a:ext cx="7829280" cy="59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Times New Roman"/>
              </a:rPr>
              <a:t>Estructura de un Informe Técnico e Informes parciales (Tareas)</a:t>
            </a:r>
            <a:endParaRPr b="0" lang="en-US" sz="4000" spc="-1" strike="noStrike">
              <a:solidFill>
                <a:srgbClr val="000000"/>
              </a:solidFill>
              <a:latin typeface="Times New Roman"/>
            </a:endParaRPr>
          </a:p>
        </p:txBody>
      </p:sp>
      <p:sp>
        <p:nvSpPr>
          <p:cNvPr id="46" name="PlaceHolder 2"/>
          <p:cNvSpPr>
            <a:spLocks noGrp="1"/>
          </p:cNvSpPr>
          <p:nvPr>
            <p:ph/>
          </p:nvPr>
        </p:nvSpPr>
        <p:spPr>
          <a:xfrm>
            <a:off x="1752480" y="1828800"/>
            <a:ext cx="5639040" cy="4495680"/>
          </a:xfrm>
          <a:prstGeom prst="rect">
            <a:avLst/>
          </a:prstGeom>
          <a:noFill/>
          <a:ln w="0">
            <a:noFill/>
          </a:ln>
        </p:spPr>
        <p:txBody>
          <a:bodyPr lIns="90000" rIns="90000" tIns="46800" bIns="46800" anchor="t">
            <a:normAutofit/>
          </a:bodyPr>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rta conductora</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rátula</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sumen Ejecutiv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Índice de los Contenidos </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roducción al Informe</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resultados del estudi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iscusión de los Resultados</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nclusiones del estudi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comendaciones del estudi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ferencias bibliográficas</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tras secciones</a:t>
            </a:r>
            <a:endParaRPr b="0" lang="en-US" sz="2000" spc="-1" strike="noStrike">
              <a:solidFill>
                <a:srgbClr val="000000"/>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nexos</a:t>
            </a:r>
            <a:endParaRPr b="0" lang="en-US" sz="2000" spc="-1" strike="noStrike">
              <a:solidFill>
                <a:srgbClr val="000000"/>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lanos</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 Carta Conductor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odo informe debe ir acompañada de una carta conductora, dirigida a quién corresponda, y con copias a los que corresponda.</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a llamar la atención debe incluirse varias frases claves que entreguen el resumen y sus conclusiones.</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ber estar siempre firmada en señal de que se reconoce la responsabilidad total de la no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49" name="Image11" descr=""/>
          <p:cNvPicPr/>
          <p:nvPr/>
        </p:nvPicPr>
        <p:blipFill>
          <a:blip r:embed="rId1"/>
          <a:stretch/>
        </p:blipFill>
        <p:spPr>
          <a:xfrm>
            <a:off x="2057400" y="0"/>
            <a:ext cx="50007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grpSp>
        <p:nvGrpSpPr>
          <p:cNvPr id="50" name=""/>
          <p:cNvGrpSpPr/>
          <p:nvPr/>
        </p:nvGrpSpPr>
        <p:grpSpPr>
          <a:xfrm>
            <a:off x="685800" y="685800"/>
            <a:ext cx="8457480" cy="1066680"/>
            <a:chOff x="685800" y="685800"/>
            <a:chExt cx="8457480" cy="1066680"/>
          </a:xfrm>
        </p:grpSpPr>
        <p:sp>
          <p:nvSpPr>
            <p:cNvPr id="51" name=""/>
            <p:cNvSpPr/>
            <p:nvPr/>
          </p:nvSpPr>
          <p:spPr>
            <a:xfrm>
              <a:off x="685800" y="685800"/>
              <a:ext cx="415836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Señ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Presen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
            <p:cNvSpPr/>
            <p:nvPr/>
          </p:nvSpPr>
          <p:spPr>
            <a:xfrm>
              <a:off x="4844160" y="685800"/>
              <a:ext cx="4299120" cy="1066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Santiago,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
          <p:cNvSpPr/>
          <p:nvPr/>
        </p:nvSpPr>
        <p:spPr>
          <a:xfrm>
            <a:off x="0" y="1822320"/>
            <a:ext cx="91440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Junto con la presente se adjunta el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Del estudio de mercado efectuado se obtien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El desarrollo de la ingenierí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A partir de las cotizaciones se estim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En vista de todos estos antecedentes se recomienda ........................</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Esperamos que el contenido de este informe le sea útil para la toma de decisiones, estamos prestos a recibir cualquier opinión y/o sugerenci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Lo saludan atentament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Firmas</a:t>
            </a:r>
            <a:r>
              <a:rPr b="0" lang="en-US" sz="1700" spc="-1" strike="noStrike">
                <a:solidFill>
                  <a:srgbClr val="ffff00"/>
                </a:solidFill>
                <a:latin typeface="Times New Roman"/>
              </a:rPr>
              <a:t>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2.  La Carátula del Informe</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ítulo completo y auto explicatorio del Informe.</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mbres completos de los autores.</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mbre de la empresa y dirección.</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iñeta que señale el Número del Informe, la historia de su elaboración, revisión y fechas, junto con las aprobaciones y destinos cuando corresponda.</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eguir los procedimientos establecidos en las empresas junto con las normas de calidad ISO 9000 o 14000 cuando exista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56" name="Image2" descr=""/>
          <p:cNvPicPr/>
          <p:nvPr/>
        </p:nvPicPr>
        <p:blipFill>
          <a:blip r:embed="rId1"/>
          <a:stretch/>
        </p:blipFill>
        <p:spPr>
          <a:xfrm>
            <a:off x="2666880" y="380880"/>
            <a:ext cx="3524400" cy="4362480"/>
          </a:xfrm>
          <a:prstGeom prst="rect">
            <a:avLst/>
          </a:prstGeom>
          <a:ln w="0">
            <a:noFill/>
          </a:ln>
        </p:spPr>
      </p:pic>
      <p:pic>
        <p:nvPicPr>
          <p:cNvPr id="57" name="Image11" descr=""/>
          <p:cNvPicPr/>
          <p:nvPr/>
        </p:nvPicPr>
        <p:blipFill>
          <a:blip r:embed="rId2"/>
          <a:stretch/>
        </p:blipFill>
        <p:spPr>
          <a:xfrm>
            <a:off x="1143000" y="4753080"/>
            <a:ext cx="7095960" cy="210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58" name="Image2" descr=""/>
          <p:cNvPicPr/>
          <p:nvPr/>
        </p:nvPicPr>
        <p:blipFill>
          <a:blip r:embed="rId1"/>
          <a:stretch/>
        </p:blipFill>
        <p:spPr>
          <a:xfrm>
            <a:off x="2971800" y="914400"/>
            <a:ext cx="3067200" cy="4695840"/>
          </a:xfrm>
          <a:prstGeom prst="rect">
            <a:avLst/>
          </a:prstGeom>
          <a:ln w="0">
            <a:noFill/>
          </a:ln>
        </p:spPr>
      </p:pic>
      <p:grpSp>
        <p:nvGrpSpPr>
          <p:cNvPr id="59" name=""/>
          <p:cNvGrpSpPr/>
          <p:nvPr/>
        </p:nvGrpSpPr>
        <p:grpSpPr>
          <a:xfrm>
            <a:off x="399960" y="-152280"/>
            <a:ext cx="8744040" cy="6553080"/>
            <a:chOff x="399960" y="-152280"/>
            <a:chExt cx="8744040" cy="6553080"/>
          </a:xfrm>
        </p:grpSpPr>
        <p:pic>
          <p:nvPicPr>
            <p:cNvPr id="60" name="Image2" descr=""/>
            <p:cNvPicPr/>
            <p:nvPr/>
          </p:nvPicPr>
          <p:blipFill>
            <a:blip r:embed="rId2"/>
            <a:stretch/>
          </p:blipFill>
          <p:spPr>
            <a:xfrm>
              <a:off x="447840" y="5638680"/>
              <a:ext cx="8696160" cy="762120"/>
            </a:xfrm>
            <a:prstGeom prst="rect">
              <a:avLst/>
            </a:prstGeom>
            <a:ln w="0">
              <a:noFill/>
            </a:ln>
          </p:spPr>
        </p:pic>
        <p:pic>
          <p:nvPicPr>
            <p:cNvPr id="61" name="Image3" descr=""/>
            <p:cNvPicPr/>
            <p:nvPr/>
          </p:nvPicPr>
          <p:blipFill>
            <a:blip r:embed="rId3"/>
            <a:stretch/>
          </p:blipFill>
          <p:spPr>
            <a:xfrm>
              <a:off x="399960" y="-152280"/>
              <a:ext cx="8744040" cy="10476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1T21:44:03Z</dcterms:created>
  <dc:creator>Ignacio Badilla</dc:creator>
  <dc:description/>
  <dc:language>en-US</dc:language>
  <cp:lastModifiedBy>Maria Elena Lienqueo C.</cp:lastModifiedBy>
  <dcterms:modified xsi:type="dcterms:W3CDTF">2005-09-21T21:52:14Z</dcterms:modified>
  <cp:revision>63</cp:revision>
  <dc:subject/>
  <dc:title>El ingeniero, etica y socieda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84997242</vt:r8>
  </property>
  <property fmtid="{D5CDD505-2E9C-101B-9397-08002B2CF9AE}" pid="3" name="_AuthorEmail">
    <vt:lpwstr>rbadilla@biosigma.cl</vt:lpwstr>
  </property>
  <property fmtid="{D5CDD505-2E9C-101B-9397-08002B2CF9AE}" pid="4" name="_AuthorEmailDisplayName">
    <vt:lpwstr>Ricardo Badilla</vt:lpwstr>
  </property>
  <property fmtid="{D5CDD505-2E9C-101B-9397-08002B2CF9AE}" pid="5" name="_EmailSubject">
    <vt:lpwstr>Guia preparacion de Proyectos.ppt</vt:lpwstr>
  </property>
</Properties>
</file>