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A6280-4A50-4872-AC87-8DFAE5FC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8A038-9FFE-4CEC-8BCD-96E734CC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406C-67A9-4F6E-836A-4AEBD389A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E0DD-064E-4AAF-AED5-41A57489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53B7-7CB6-407F-A8C4-315C17AF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CC3B-FE5A-46BB-BA17-5FDFAE0B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4A60-956B-407B-9C9B-6F8CF3FF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68A9-8634-4268-8252-4C21D7BB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D890-7844-4276-BA51-8DC6A2E5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8CDD-129C-4CFD-A267-46D04A8E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BEEB-0A20-4F83-90AA-998CD7CE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A984-3C38-438E-A186-6A1051B1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7696-5F05-4ABC-893A-47E788E3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86EF-4CEC-4912-99BB-20CD901B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034A-02B3-42B3-8A85-D70FAD49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512D-6F6A-4766-8FD5-92920515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B282-D448-4B29-B15A-E5E9CAA6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401C-EE61-4BC6-9EA7-2CE7651A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2007-65D7-441F-BD1E-866B1A59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4CDE-098E-42AE-BE35-DB6126A0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5C498-899F-494E-93C1-699AD2DA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F3D0-E62D-4A2E-9B46-63D6C1D2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57B0A-1569-48A9-B04E-B705C044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C399-505C-4890-867E-71F1FEEA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33D9-D6FB-458D-B152-4A69930ED6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D829-C5CB-46B0-90BD-3CF9D83657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5e5ff"/>
                </a:solidFill>
                <a:latin typeface="Garamond"/>
              </a:rPr>
              <a:t>Modelamiento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356000" y="5516640"/>
            <a:ext cx="457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echa : 10 de Agosto 20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velocidad de salida, sin embargo depende del balance de energía mecán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16000" y="3068640"/>
                <a:ext cx="71406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39640" y="4437000"/>
            <a:ext cx="83631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pleando la siguiente relación entre áreas y veloc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64000" y="5661000"/>
                <a:ext cx="1739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ego, despejando la velocidad de entr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851280" y="2492280"/>
                <a:ext cx="14540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9640" y="3429000"/>
            <a:ext cx="860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permite dejar la ecuación de balance en función de la velocidad de sal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42920" y="4797360"/>
                <a:ext cx="74167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nos permite dejar la velocidad de salida, dependiente de los parámetros incluidos anteriorme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050920" y="3500280"/>
                <a:ext cx="48960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g</m:t>
                                        </m:r>
                                      </m:den>
                                    </m:f>
                                  </m:e>
                                </m:nary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Δ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lizando una simplificación de not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124000" y="2852640"/>
                <a:ext cx="4451400" cy="19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g</m:t>
                                        </m:r>
                                      </m:den>
                                    </m:f>
                                  </m:e>
                                </m:nary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Δ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e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to nos permite finalmente obtener el modelo del tanque de nivel, considerando las perdidas de carga fricc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332000" y="3645000"/>
                <a:ext cx="611964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g</m:t>
                                        </m:r>
                                      </m:den>
                                    </m:f>
                                  </m:e>
                                </m:nary>
                              </m:num>
                              <m:den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Δx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D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86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sideramos solo el balance de Bernoull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826920" y="2637000"/>
                <a:ext cx="76327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539640" y="4076640"/>
            <a:ext cx="84362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ecuación anterior que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340000" y="5084640"/>
                <a:ext cx="481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velocidad de salida que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771640" y="2852640"/>
                <a:ext cx="3246480" cy="19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 lo cual el modelo simplificado queda como si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0920" y="3141720"/>
                <a:ext cx="489744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  <m:r>
                                      <m:t xml:space="preserve">⋅</m:t>
                                    </m:r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  Velocidad de descenso de liquido del     tanque desprecia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124000" y="2997360"/>
                <a:ext cx="482436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468360" y="4149720"/>
            <a:ext cx="734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mando la velocidad desprec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00360" y="5013360"/>
                <a:ext cx="33987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ipótesis Simplificador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 lo que, se obtiene el modelo tradicional simplificado para el tanque de niv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484360" y="3500280"/>
                <a:ext cx="395460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nque de Niv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arrollar el modelo matemático del tanque de nivel, considerando perdidas de carga friccional y a causa de singularidad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lizar hipótesis simplificador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tener modelo de entrada – sal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lo de Entrada - Sali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o la variable de salida es la altura, la dinámica del tanque debe ser expresada en función de ell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050920" y="3429000"/>
                <a:ext cx="4537080" cy="18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Δ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num>
                              <m:den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g</m:t>
                                    </m:r>
                                  </m:den>
                                </m:f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odelo de Entrada - Sali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nos permite, finalmente encontrar el modelo de entrada – salida del siste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92360" y="3573360"/>
                <a:ext cx="54734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Δ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h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ΔP</m:t>
                                    </m:r>
                                  </m:num>
                                  <m:den>
                                    <m:r>
                                      <m:t xml:space="preserve">γ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se Teór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lance de Ma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700360" y="2637000"/>
                <a:ext cx="3038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539640" y="4076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de Energía Mecá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771640" y="5084640"/>
                <a:ext cx="2757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Ma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 existe reacción dentro del tanq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348000" y="2565360"/>
                <a:ext cx="20988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68360" y="3573360"/>
            <a:ext cx="813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mpleando la propiedad física de que la Densidad es igual a la masa en un volumen 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987640" y="5300640"/>
                <a:ext cx="2998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Mas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do que el liquido empleado es incompresib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03640" y="2924280"/>
                <a:ext cx="298440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468360" y="4005360"/>
            <a:ext cx="8218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mente, simplific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780000" y="4869000"/>
                <a:ext cx="184608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Energía Mecá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ecuación de balance de energí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19640" y="2565360"/>
                <a:ext cx="21812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39640" y="3573360"/>
            <a:ext cx="828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 términos de energía, se descomponen según la ecuación de Bernoull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348000" y="4941720"/>
                <a:ext cx="226692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Energía Mecá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 que nos lleva 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35280" y="2492280"/>
                <a:ext cx="48974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468360" y="3933720"/>
            <a:ext cx="82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perdida de carga friccional, se desglosa en fricción en la tubería y singulari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987640" y="5229360"/>
                <a:ext cx="29736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H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lance de Energía Mecánic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92316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 fricción causada en la tuberí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16360" y="2492280"/>
                <a:ext cx="27367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95280" y="3645000"/>
            <a:ext cx="85694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lmente, el balance de energía mecánica es como si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116000" y="4940280"/>
                <a:ext cx="71056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Δx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arrollo del Model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omando el balance de fluj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492360" y="2421000"/>
                <a:ext cx="1656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11280" y="3357720"/>
            <a:ext cx="835344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s flujos, luego son escritos en función de sus áreas y velocidades correspond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03640" y="4724280"/>
                <a:ext cx="26017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6:44:03Z</dcterms:created>
  <dc:creator>Luis Felipe Salazar</dc:creator>
  <dc:description/>
  <dc:language>en-US</dc:language>
  <cp:lastModifiedBy>Luis Felipe Salazar</cp:lastModifiedBy>
  <dcterms:modified xsi:type="dcterms:W3CDTF">2005-08-11T18:02:19Z</dcterms:modified>
  <cp:revision>14</cp:revision>
  <dc:subject/>
  <dc:title>Modelamiento</dc:title>
</cp:coreProperties>
</file>