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EA1D-85EC-4742-8550-99D996BE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30E6-466A-4D8B-82EC-720D38AE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FAE9-05B5-4E53-B855-36DA04AF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3BE5-1021-40E8-B137-C6FC1857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0E0E-1060-4AAC-9ECE-0C16AEB8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6C4-021B-425E-996C-6FD1D5C7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204E-0977-47E5-978B-DC43D0AF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A805-CA9E-4002-8D16-04F32D9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4C9-04CB-4FAF-99B8-CA97B28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4638-40D5-4179-B23C-386A81AF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E95-6B6D-413E-A2D7-780D09A2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EE58-F80B-4874-AF25-0B946F4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87B-2CA4-45CA-B0A2-2A5CCC7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03D-0AE8-4D88-9F89-309602E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376D-F661-4121-AA7D-485AF59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9B03-3F15-4412-8FDE-5036C720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F98-839A-4C38-ABFD-C69158FD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92067-CD94-4609-9918-03587DE5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0871-315C-4F94-878B-A21094B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6D6C-02D2-4D92-ADAB-DF4AA3A3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7FD4-469E-4E0F-8DE5-9EECF29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08E3-1FAD-45F0-86FB-F50D18EF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8568-9282-499D-B60C-D8600A81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3AAE-0479-4484-AF93-DC6B872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66AC-56AA-471C-8DB6-73B48BCA9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A905-C27C-4E68-8FD3-1E9F3DC68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Modelamiento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56000" y="5516640"/>
            <a:ext cx="457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cha : 10 de Agosto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, sin embargo depende del balance de energía mecán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16000" y="3068640"/>
                <a:ext cx="7140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9640" y="4437000"/>
            <a:ext cx="8363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siguiente relación entre áreas y veloc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64000" y="5661000"/>
                <a:ext cx="1739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ego, despejando la velocidad de entr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51280" y="2492280"/>
                <a:ext cx="1454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9640" y="3429000"/>
            <a:ext cx="860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permite dejar la ecuación de balance en función de la velocidad de sal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4797360"/>
                <a:ext cx="74167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 dejar la velocidad de salida, dependiente de los parámetros incluidos anterior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0920" y="3500280"/>
                <a:ext cx="4896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ndo una simplificación de not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24000" y="2852640"/>
                <a:ext cx="44514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nos permite finalmente obtener el modelo del tanque de nivel, considerando las perdidas de carga fricc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32000" y="3645000"/>
                <a:ext cx="6119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amos solo el balance de Bernoull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26920" y="2637000"/>
                <a:ext cx="763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39640" y="4076640"/>
            <a:ext cx="8436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anterior 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40000" y="5084640"/>
                <a:ext cx="481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 qu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2852640"/>
                <a:ext cx="324648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cual el modelo simplificado queda como s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3141720"/>
                <a:ext cx="489744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  Velocidad de descenso de liquido del     tanque desprec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124000" y="2997360"/>
                <a:ext cx="4824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68360" y="414972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mando la velocidad despre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00360" y="5013360"/>
                <a:ext cx="33987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que, se obtiene el modelo tradicional simplificado para el tanque de ni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3500280"/>
                <a:ext cx="395460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nque de Ni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arrollar el modelo matemático del tanque de nivel, considerando perdidas de carga friccional y a causa de singularida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r hipótesis simplificado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tener modelo de entrada – sal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o la variable de salida es la altura, la dinámica del tanque debe ser expresada en función de ell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050920" y="3429000"/>
                <a:ext cx="453708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, finalmente encontrar el modelo de entrada – salida del sist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92360" y="3573360"/>
                <a:ext cx="54734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e Teó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e de M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637000"/>
                <a:ext cx="303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39640" y="407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de Energía Mecá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71640" y="508464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iste reacción dentro del tan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2565360"/>
                <a:ext cx="2098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8360" y="3573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propiedad física de que la Densidad es igual a la masa en un volumen 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87640" y="5300640"/>
                <a:ext cx="299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do que el liquido empleado es incompre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2924280"/>
                <a:ext cx="29844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8360" y="400536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simplific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80000" y="4869000"/>
                <a:ext cx="1846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de balance de energ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19640" y="2565360"/>
                <a:ext cx="2181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9640" y="35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términos de energía, se descomponen según la ecuación de Bernoul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348000" y="4941720"/>
                <a:ext cx="22669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lleva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5280" y="2492280"/>
                <a:ext cx="4897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68360" y="393372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erdida de carga friccional, se desglosa en fricción en la tubería y singular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5229360"/>
                <a:ext cx="2973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H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fricción causada en la tuber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2492280"/>
                <a:ext cx="273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3645000"/>
            <a:ext cx="85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el balance de energía mecánica es como si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940280"/>
                <a:ext cx="7105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omando el balance de fluj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92360" y="2421000"/>
                <a:ext cx="16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11280" y="3357720"/>
            <a:ext cx="8353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flujos, luego son escritos en función de sus áreas y velocidades correspon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3640" y="4724280"/>
                <a:ext cx="2601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44:03Z</dcterms:created>
  <dc:creator>Luis Felipe Salazar</dc:creator>
  <dc:description/>
  <dc:language>en-US</dc:language>
  <cp:lastModifiedBy>Luis Felipe Salazar</cp:lastModifiedBy>
  <dcterms:modified xsi:type="dcterms:W3CDTF">2005-08-11T18:02:19Z</dcterms:modified>
  <cp:revision>14</cp:revision>
  <dc:subject/>
  <dc:title>Modelamiento</dc:title>
</cp:coreProperties>
</file>