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9B18D-D645-4C2F-B4F9-66EE330D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55020-9951-46B3-B3B8-03E096B5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6046F-3934-49C8-815B-A3E97E6E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53A91-7F1D-4F77-915E-7A2F7C918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AE32-B5B2-4C11-8A81-4B18864D3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A372-A792-4601-A492-9BFF2095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799F-C776-4700-BC26-C541FA78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3D92-01F6-4AB5-A4F3-13029C3A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35B4-995E-4BB6-8517-FDC87A25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C8C6-904A-4868-94C5-7C72AA31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67E0-8733-4B18-B684-1B83D2A1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A94B0-8888-4CC2-9E63-FD405181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2042-EEF3-43F8-A50A-E6926768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022C-837E-4314-8E9B-25E92C30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3B47-BD50-4EB5-865B-04BF091A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3402-20AC-4DE2-9B1B-B4A647815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58DC-70B7-423D-A704-C44DA60E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EE91B-34FD-46B5-9077-90A14330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54D7D-913D-48BF-BCDE-AADCE8F2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0885E-0F1F-4D63-997D-DD6B6207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3A811-E9C8-4877-8C3B-9BB3EB7E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514D3-B013-43B5-B88A-08134006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9A8E1-4C8F-4BF2-B397-4AAFF718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55457-ED0F-4029-B240-A4E52BA2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7DE4-9419-41FC-AEA5-0D6BE27B5E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E67D-5367-4760-9677-29A17F7800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e5e5ff"/>
                </a:solidFill>
                <a:latin typeface="Garamond"/>
              </a:rPr>
              <a:t>Modelamiento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356000" y="5516640"/>
            <a:ext cx="4572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echa : 10 de Agosto 200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arrollo del Model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 velocidad de salida, sin embargo depende del balance de energía mecánic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116000" y="3068640"/>
                <a:ext cx="714060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Δx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539640" y="4437000"/>
            <a:ext cx="83631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mpleando la siguiente relación entre áreas y veloci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564000" y="5661000"/>
                <a:ext cx="1739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arrollo del Model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uego, despejando la velocidad de entra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851280" y="2492280"/>
                <a:ext cx="145404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539640" y="3429000"/>
            <a:ext cx="860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 que permite dejar la ecuación de balance en función de la velocidad de sal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042920" y="4797360"/>
                <a:ext cx="74167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Δx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arrollo del Model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 que nos permite dejar la velocidad de salida, dependiente de los parámetros incluidos anteriormen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050920" y="3500280"/>
                <a:ext cx="489600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γ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γ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g</m:t>
                                        </m:r>
                                      </m:den>
                                    </m:f>
                                  </m:e>
                                </m:nary>
                              </m:num>
                              <m:den>
                                <m:f>
                                  <m:num>
                                    <m:r>
                                      <m:t xml:space="preserve">f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Δx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D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arrollo del Model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alizando una simplificación de not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124000" y="2852640"/>
                <a:ext cx="4451400" cy="19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h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ΔP</m:t>
                                    </m:r>
                                  </m:num>
                                  <m:den>
                                    <m:r>
                                      <m:t xml:space="preserve">γ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g</m:t>
                                        </m:r>
                                      </m:den>
                                    </m:f>
                                  </m:e>
                                </m:nary>
                              </m:num>
                              <m:den>
                                <m:f>
                                  <m:num>
                                    <m:r>
                                      <m:t xml:space="preserve">f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Δx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D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arrollo del Model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to nos permite finalmente obtener el modelo del tanque de nivel, considerando las perdidas de carga friccion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332000" y="3645000"/>
                <a:ext cx="6119640" cy="19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h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ΔP</m:t>
                                    </m:r>
                                  </m:num>
                                  <m:den>
                                    <m:r>
                                      <m:t xml:space="preserve">γ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g</m:t>
                                        </m:r>
                                      </m:den>
                                    </m:f>
                                  </m:e>
                                </m:nary>
                              </m:num>
                              <m:den>
                                <m:f>
                                  <m:num>
                                    <m:r>
                                      <m:t xml:space="preserve">f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Δx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D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  <m:r>
                                      <m:t xml:space="preserve">⋅</m:t>
                                    </m:r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ipótesis Simplificado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6868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ideramos solo el balance de Bernoull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826920" y="2637000"/>
                <a:ext cx="76327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Δx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539640" y="4076640"/>
            <a:ext cx="84362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 ecuación anterior que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340000" y="5084640"/>
                <a:ext cx="481500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ipótesis Simplificado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92316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 velocidad de salida que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771640" y="2852640"/>
                <a:ext cx="3246480" cy="196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h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ΔP</m:t>
                                    </m:r>
                                  </m:num>
                                  <m:den>
                                    <m:r>
                                      <m:t xml:space="preserve">γ</m:t>
                                    </m:r>
                                  </m:den>
                                </m:f>
                              </m:num>
                              <m:den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  <m:r>
                                      <m:t xml:space="preserve">⋅</m:t>
                                    </m:r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ipótesis Simplificado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 lo cual el modelo simplificado queda como sig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050920" y="3141720"/>
                <a:ext cx="4897440" cy="19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h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ΔP</m:t>
                                    </m:r>
                                  </m:num>
                                  <m:den>
                                    <m:r>
                                      <m:t xml:space="preserve">γ</m:t>
                                    </m:r>
                                  </m:den>
                                </m:f>
                              </m:num>
                              <m:den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  <m:r>
                                      <m:t xml:space="preserve">⋅</m:t>
                                    </m:r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ipótesis Simplificado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1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   Velocidad de descenso de liquido del     tanque despreciab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124000" y="2997360"/>
                <a:ext cx="482436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468360" y="4149720"/>
            <a:ext cx="734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mando la velocidad despreci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700360" y="5013360"/>
                <a:ext cx="339876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ipótesis Simplificado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 lo que, se obtiene el modelo tradicional simplificado para el tanque de nive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484360" y="3500280"/>
                <a:ext cx="3954600" cy="179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h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ΔP</m:t>
                                    </m:r>
                                  </m:num>
                                  <m:den>
                                    <m:r>
                                      <m:t xml:space="preserve">γ</m:t>
                                    </m:r>
                                  </m:den>
                                </m:f>
                              </m:num>
                              <m:den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</m:den>
                                </m:f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anque de Niv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sarrollar el modelo matemático del tanque de nivel, considerando perdidas de carga friccional y a causa de singularidad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alizar hipótesis simplificador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tener modelo de entrada – sal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delo de Entrada - Salid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o la variable de salida es la altura, la dinámica del tanque debe ser expresada en función de ell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050920" y="3429000"/>
                <a:ext cx="4537080" cy="18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Δ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h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ΔP</m:t>
                                    </m:r>
                                  </m:num>
                                  <m:den>
                                    <m:r>
                                      <m:t xml:space="preserve">γ</m:t>
                                    </m:r>
                                  </m:den>
                                </m:f>
                              </m:num>
                              <m:den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</m:den>
                                </m:f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delo de Entrada - Salid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 que nos permite, finalmente encontrar el modelo de entrada – salida del siste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692360" y="3573360"/>
                <a:ext cx="547344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Δ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g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h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ΔP</m:t>
                                    </m:r>
                                  </m:num>
                                  <m:den>
                                    <m:r>
                                      <m:t xml:space="preserve">γ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se Teóric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231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lance de Mas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700360" y="2637000"/>
                <a:ext cx="303840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539640" y="407664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de Energía Mecán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771640" y="5084640"/>
                <a:ext cx="27576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lance de Ma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 existe reacción dentro del tanq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348000" y="2565360"/>
                <a:ext cx="20988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468360" y="3573360"/>
            <a:ext cx="8136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mpleando la propiedad física de que la Densidad es igual a la masa en un volumen d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987640" y="5300640"/>
                <a:ext cx="29988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ρ</m:t>
                            </m:r>
                            <m:r>
                              <m:t xml:space="preserve">⋅</m:t>
                            </m:r>
                            <m:r>
                              <m:t xml:space="preserve">V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lance de Ma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do que el liquido empleado es incompresib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203640" y="2924280"/>
                <a:ext cx="298440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ρ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468360" y="4005360"/>
            <a:ext cx="821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almente, simplifica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780000" y="4869000"/>
                <a:ext cx="184608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lance de Energía Mecánic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92316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 ecuación de balance de energí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19640" y="2565360"/>
                <a:ext cx="21812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39640" y="3573360"/>
            <a:ext cx="828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s términos de energía, se descomponen según la ecuación de Bernoull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348000" y="4941720"/>
                <a:ext cx="226692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lance de Energía Mecánic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 que nos lleva 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835280" y="2492280"/>
                <a:ext cx="489744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468360" y="3933720"/>
            <a:ext cx="8280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 perdida de carga friccional, se desglosa en fricción en la tubería y singulari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987640" y="5229360"/>
                <a:ext cx="29736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H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lance de Energía Mecánic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92316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 fricción causada en la tuberí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916360" y="2492280"/>
                <a:ext cx="27367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Δx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95280" y="3645000"/>
            <a:ext cx="8569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almente, el balance de energía mecánica es como sig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116000" y="4940280"/>
                <a:ext cx="710568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Δx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arrollo del Model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5708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tomando el balance de fluj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492360" y="2421000"/>
                <a:ext cx="16560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611280" y="3357720"/>
            <a:ext cx="835344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s flujos, luego son escritos en función de sus áreas y velocidades correspondien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203640" y="4724280"/>
                <a:ext cx="260172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16:44:03Z</dcterms:created>
  <dc:creator>Luis Felipe Salazar</dc:creator>
  <dc:description/>
  <dc:language>en-US</dc:language>
  <cp:lastModifiedBy>Luis Felipe Salazar</cp:lastModifiedBy>
  <dcterms:modified xsi:type="dcterms:W3CDTF">2005-08-11T18:02:19Z</dcterms:modified>
  <cp:revision>14</cp:revision>
  <dc:subject/>
  <dc:title>Modelamiento</dc:title>
</cp:coreProperties>
</file>