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F8321-9DB7-44E3-93F4-15D06A394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E3E7B-A461-47A4-809D-0E6081F5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40385-9825-479B-8B03-6F346DC84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9ED51-4858-4CF2-8E8D-567A227DE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D78D-D0AF-4B72-843A-3386C058F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230A-AF9A-4C6A-9FFF-03ED031D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1EED-F060-45E0-AB5E-0350FF08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EFEE-583B-4D9C-B4E6-654C9C1C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264D-E9FD-4AC0-86AC-18D48F7A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A577-5085-4901-9DCA-1330EAFC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346F-BDA5-4E1E-89AE-6E33B2A2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F4C9A-0EAE-41B5-AF5B-F11556B5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0DAB-5EC3-443C-BFBD-5D013035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7BE1-B835-4783-AE45-8A5E9FD9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3908-3A9A-4FD4-BFBD-8F972A2E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9541-14A0-44E2-89C0-0BD38F250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C5B1-4D37-4A7D-9266-0D888CDD7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B9F86-FFCB-4566-9AF3-6045DCF2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68390-EA5F-401D-94FD-C4A25D26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2918A-6228-48A4-A6C8-92A18F26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5E07F-4821-4385-B824-1F15B9AF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35E9F-AE1E-4DAE-8D1B-A7E718CE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6FB4C-4346-4CDF-8399-CD2C15B6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14F9C-6AFE-47AE-98D4-C14FE2C6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0E56-F93F-444E-80D2-C3773BF6D8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1D87-BA32-489B-A9F3-F1296487ED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2060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e5e5ff"/>
                </a:solidFill>
                <a:latin typeface="Garamond"/>
              </a:rPr>
              <a:t>Modelamiento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356000" y="5516640"/>
            <a:ext cx="4572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echa : 10 de Agosto 200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arrollo del Model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 velocidad de salida, sin embargo depende del balance de energía mecánic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116000" y="3068640"/>
                <a:ext cx="714060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Δx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539640" y="4437000"/>
            <a:ext cx="83631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mpleando la siguiente relación entre áreas y veloci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564000" y="5661000"/>
                <a:ext cx="1739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arrollo del Model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uego, despejando la velocidad de entra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851280" y="2492280"/>
                <a:ext cx="145404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539640" y="3429000"/>
            <a:ext cx="860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 que permite dejar la ecuación de balance en función de la velocidad de sal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042920" y="4797360"/>
                <a:ext cx="741672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Δx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arrollo del Model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 que nos permite dejar la velocidad de salida, dependiente de los parámetros incluidos anteriorment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050920" y="3500280"/>
                <a:ext cx="489600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e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γ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γ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g</m:t>
                                        </m:r>
                                      </m:den>
                                    </m:f>
                                  </m:e>
                                </m:nary>
                              </m:num>
                              <m:den>
                                <m:f>
                                  <m:num>
                                    <m:r>
                                      <m:t xml:space="preserve">f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Δx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D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e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arrollo del Model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alizando una simplificación de not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124000" y="2852640"/>
                <a:ext cx="4451400" cy="19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h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ΔP</m:t>
                                    </m:r>
                                  </m:num>
                                  <m:den>
                                    <m:r>
                                      <m:t xml:space="preserve">γ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g</m:t>
                                        </m:r>
                                      </m:den>
                                    </m:f>
                                  </m:e>
                                </m:nary>
                              </m:num>
                              <m:den>
                                <m:f>
                                  <m:num>
                                    <m:r>
                                      <m:t xml:space="preserve">f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Δx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D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e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arrollo del Model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to nos permite finalmente obtener el modelo del tanque de nivel, considerando las perdidas de carga friccion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332000" y="3645000"/>
                <a:ext cx="6119640" cy="19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h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ΔP</m:t>
                                    </m:r>
                                  </m:num>
                                  <m:den>
                                    <m:r>
                                      <m:t xml:space="preserve">γ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g</m:t>
                                        </m:r>
                                      </m:den>
                                    </m:f>
                                  </m:e>
                                </m:nary>
                              </m:num>
                              <m:den>
                                <m:f>
                                  <m:num>
                                    <m:r>
                                      <m:t xml:space="preserve">f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Δx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D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  <m:r>
                                      <m:t xml:space="preserve">⋅</m:t>
                                    </m:r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ipótesis Simplificado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6868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ideramos solo el balance de Bernoull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826920" y="2637000"/>
                <a:ext cx="76327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Δx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539640" y="4076640"/>
            <a:ext cx="84362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 ecuación anterior que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340000" y="5084640"/>
                <a:ext cx="481500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ipótesis Simplificado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92316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 velocidad de salida que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771640" y="2852640"/>
                <a:ext cx="3246480" cy="196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h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ΔP</m:t>
                                    </m:r>
                                  </m:num>
                                  <m:den>
                                    <m:r>
                                      <m:t xml:space="preserve">γ</m:t>
                                    </m:r>
                                  </m:den>
                                </m:f>
                              </m:num>
                              <m:den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  <m:r>
                                      <m:t xml:space="preserve">⋅</m:t>
                                    </m:r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ipótesis Simplificado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 lo cual el modelo simplificado queda como sigu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050920" y="3141720"/>
                <a:ext cx="4897440" cy="19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h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ΔP</m:t>
                                    </m:r>
                                  </m:num>
                                  <m:den>
                                    <m:r>
                                      <m:t xml:space="preserve">γ</m:t>
                                    </m:r>
                                  </m:den>
                                </m:f>
                              </m:num>
                              <m:den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  <m:r>
                                      <m:t xml:space="preserve">⋅</m:t>
                                    </m:r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ipótesis Simplificado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1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   Velocidad de descenso de liquido del     tanque despreciab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124000" y="2997360"/>
                <a:ext cx="482436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468360" y="4149720"/>
            <a:ext cx="734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mando la velocidad despreci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700360" y="5013360"/>
                <a:ext cx="339876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ipótesis Simplificado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16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 lo que, se obtiene el modelo tradicional simplificado para el tanque de nive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484360" y="3500280"/>
                <a:ext cx="3954600" cy="179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h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ΔP</m:t>
                                    </m:r>
                                  </m:num>
                                  <m:den>
                                    <m:r>
                                      <m:t xml:space="preserve">γ</m:t>
                                    </m:r>
                                  </m:den>
                                </m:f>
                              </m:num>
                              <m:den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</m:den>
                                </m:f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anque de Niv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sarrollar el modelo matemático del tanque de nivel, considerando perdidas de carga friccional y a causa de singularidad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alizar hipótesis simplificador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btener modelo de entrada – sal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delo de Entrada - Salid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o la variable de salida es la altura, la dinámica del tanque debe ser expresada en función de ell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050920" y="3429000"/>
                <a:ext cx="4537080" cy="18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Δ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h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ΔP</m:t>
                                    </m:r>
                                  </m:num>
                                  <m:den>
                                    <m:r>
                                      <m:t xml:space="preserve">γ</m:t>
                                    </m:r>
                                  </m:den>
                                </m:f>
                              </m:num>
                              <m:den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</m:den>
                                </m:f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delo de Entrada - Salid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 que nos permite, finalmente encontrar el modelo de entrada – salida del siste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692360" y="3573360"/>
                <a:ext cx="547344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Δ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g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h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ΔP</m:t>
                                    </m:r>
                                  </m:num>
                                  <m:den>
                                    <m:r>
                                      <m:t xml:space="preserve">γ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se Teóric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92316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lance de Mas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700360" y="2637000"/>
                <a:ext cx="303840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539640" y="407664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de Energía Mecán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771640" y="5084640"/>
                <a:ext cx="27576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lance de Mas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 existe reacción dentro del tanqu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348000" y="2565360"/>
                <a:ext cx="20988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468360" y="3573360"/>
            <a:ext cx="8136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mpleando la propiedad física de que la Densidad es igual a la masa en un volumen d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987640" y="5300640"/>
                <a:ext cx="29988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ρ</m:t>
                            </m:r>
                            <m:r>
                              <m:t xml:space="preserve">⋅</m:t>
                            </m:r>
                            <m:r>
                              <m:t xml:space="preserve">V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lance de Mas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do que el liquido empleado es incompresib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203640" y="2924280"/>
                <a:ext cx="298440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ρ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468360" y="4005360"/>
            <a:ext cx="821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almente, simplifican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780000" y="4869000"/>
                <a:ext cx="184608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lance de Energía Mecánic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92316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 ecuación de balance de energí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419640" y="2565360"/>
                <a:ext cx="21812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39640" y="3573360"/>
            <a:ext cx="828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s términos de energía, se descomponen según la ecuación de Bernoull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348000" y="4941720"/>
                <a:ext cx="226692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lance de Energía Mecánic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 que nos lleva 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835280" y="2492280"/>
                <a:ext cx="489744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468360" y="3933720"/>
            <a:ext cx="8280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 perdida de carga friccional, se desglosa en fricción en la tubería y singulari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987640" y="5229360"/>
                <a:ext cx="29736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H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lance de Energía Mecánic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92316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 fricción causada en la tuberí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916360" y="2492280"/>
                <a:ext cx="27367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Δx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95280" y="3645000"/>
            <a:ext cx="85694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almente, el balance de energía mecánica es como sig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116000" y="4940280"/>
                <a:ext cx="710568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Δx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arrollo del Model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5708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tomando el balance de fluj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492360" y="2421000"/>
                <a:ext cx="16560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611280" y="3357720"/>
            <a:ext cx="835344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s flujos, luego son escritos en función de sus áreas y velocidades correspondien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203640" y="4724280"/>
                <a:ext cx="260172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1T16:44:03Z</dcterms:created>
  <dc:creator>Luis Felipe Salazar</dc:creator>
  <dc:description/>
  <dc:language>en-US</dc:language>
  <cp:lastModifiedBy>Luis Felipe Salazar</cp:lastModifiedBy>
  <dcterms:modified xsi:type="dcterms:W3CDTF">2005-08-11T18:02:19Z</dcterms:modified>
  <cp:revision>14</cp:revision>
  <dc:subject/>
  <dc:title>Modelamiento</dc:title>
</cp:coreProperties>
</file>