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F8A-85F1-4D28-B22F-81D58DA4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D81-2FCD-46BC-8E76-4D3B6CD4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3D50-1B69-403F-B65F-DD9A9A02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ECE-33E8-4B64-8EA2-DA57E3C1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B052-6D25-4607-811C-AB5DD7F6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1B86-D790-4899-8B44-11D4538A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BCEB-F39D-4072-A983-03C27C9A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F6B8-8869-45B7-B4D0-672AEA2D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08BD-6607-4B6F-99EE-672C2811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27A0-0855-4963-B4F9-B401F3C9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F44B-4A0E-4259-A20C-C6833203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EDB-3BD4-491A-9C1F-1E53D36D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BB4B-42D2-4EC9-BAF3-47B24EA6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976F-E96F-46AE-8F80-00FF4597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54B5-E321-4954-8532-EC929691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F26E-104E-4D53-80F0-7C77BBF6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5E69-765F-4DEB-B0BE-16465D50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AEE-C839-4F6B-BC6E-750DFB3D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245-26FB-4AE8-82A2-09FB549A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D32-06E0-4116-A85A-974FDC4E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48E-4C40-4103-B2E0-642295B0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357-40D9-4D19-AFA9-05567603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398-4FF7-4E94-87FA-D264BD11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3B9-279C-4BFB-AFE3-8B9797CF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2CB5-C071-41B8-9E03-33784E205C6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774A-6E05-462F-BE14-DF1B81479CA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cambiadores de Cal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alizar el comportamiento de un Intercambiador de Calor en General, fluido frío, fluido  cali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371600" y="4419720"/>
                <a:ext cx="5562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Δ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1207440" y="358128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ransferencia de Calo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219320" y="2743200"/>
                <a:ext cx="4343400" cy="21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17480" y="190512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eficiente Global de Transferencia de Cal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81080" y="2895480"/>
            <a:ext cx="5334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167652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114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1600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1676520"/>
            <a:ext cx="2209680" cy="1218960"/>
          </a:xfrm>
          <a:custGeom>
            <a:avLst/>
            <a:gdLst/>
            <a:ahLst/>
            <a:rect l="l" t="t" r="r" b="b"/>
            <a:pathLst>
              <a:path w="1392" h="768">
                <a:moveTo>
                  <a:pt x="0" y="768"/>
                </a:moveTo>
                <a:cubicBezTo>
                  <a:pt x="240" y="752"/>
                  <a:pt x="480" y="736"/>
                  <a:pt x="672" y="672"/>
                </a:cubicBezTo>
                <a:cubicBezTo>
                  <a:pt x="864" y="608"/>
                  <a:pt x="1032" y="496"/>
                  <a:pt x="1152" y="384"/>
                </a:cubicBezTo>
                <a:cubicBezTo>
                  <a:pt x="1272" y="272"/>
                  <a:pt x="1332" y="136"/>
                  <a:pt x="13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3200400"/>
            <a:ext cx="1828800" cy="1143000"/>
          </a:xfrm>
          <a:custGeom>
            <a:avLst/>
            <a:gdLst/>
            <a:ahLst/>
            <a:rect l="l" t="t" r="r" b="b"/>
            <a:pathLst>
              <a:path w="1152" h="720">
                <a:moveTo>
                  <a:pt x="1152" y="0"/>
                </a:moveTo>
                <a:cubicBezTo>
                  <a:pt x="1140" y="96"/>
                  <a:pt x="1128" y="192"/>
                  <a:pt x="1056" y="288"/>
                </a:cubicBezTo>
                <a:cubicBezTo>
                  <a:pt x="984" y="384"/>
                  <a:pt x="896" y="504"/>
                  <a:pt x="720" y="576"/>
                </a:cubicBezTo>
                <a:cubicBezTo>
                  <a:pt x="544" y="648"/>
                  <a:pt x="272" y="684"/>
                  <a:pt x="0" y="7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895120"/>
            <a:ext cx="76212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2057400"/>
            <a:ext cx="1143000" cy="9907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78720" y="685800"/>
            <a:ext cx="30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eficientes Loc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4-08-18T18:53:04Z</dcterms:modified>
  <cp:revision>312</cp:revision>
  <dc:subject/>
  <dc:title>Reactor Agitado</dc:title>
</cp:coreProperties>
</file>