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0DBAA-D15E-47D2-B4EB-6F2577670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7FA8C-3917-4A85-BBC2-5A5C6683E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F6E54-CF8B-4A06-87DA-D6AC17541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A3219-7C7E-4EBA-BAD0-D5B6B16A6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21C41-3F93-42F8-8B24-D6842A86B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930B9-3CC7-41CD-AF38-20BCE4354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57AC3-D01C-445C-A12C-AB0CA064C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BF7F-1C9D-4213-83B7-0C93F0682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7D35A-1A89-44A1-80B8-9359B4EF0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E2B3-DA1B-4D52-B5AB-6174E4313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750D4-8D1C-4CA8-9012-9F5D0CDC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26693-1155-4EF2-89C8-0DC6DC9A9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D171-8AB7-4EB1-8D15-B4515B5ED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CION POR SOLVENTE (S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CIÓN</a:t>
            </a:r>
            <a:endParaRPr b="0" lang="en-US" sz="16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 extracción por solvente es un método de purificación de soluciones .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 extracción por solvente consiste al menos en dos etapas, la primera etapa, de carga, se conoce como extracción y la segunda etapa, de descarga, es llamada de reextracción o stripping.</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circuito" descr=""/>
          <p:cNvPicPr/>
          <p:nvPr/>
        </p:nvPicPr>
        <p:blipFill>
          <a:blip r:embed="rId1"/>
          <a:stretch/>
        </p:blipFill>
        <p:spPr>
          <a:xfrm>
            <a:off x="228600" y="762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1963 se fabricó la primera resina capaz de extraer cobre comercialm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Chile la primera la primera aplicación de esta tecnología se hizo en el año 1980, en la Sociedad Minera Pudahuel.</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DELCO incorporó este proceso en el año 1985 en el mineral el Ten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OS INDUSTRIAL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peración de metales desde soluciones de lixiviac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ción de varios metales metales en soluc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ificación de soluciones en que se extraen las impurezas para dejar limpia la solución de parti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Me</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 2RH ===== MeR</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 2H</a:t>
            </a:r>
            <a:r>
              <a:rPr b="0" lang="en-GB" sz="1800" spc="-1" strike="noStrike" baseline="30000">
                <a:solidFill>
                  <a:srgbClr val="000000"/>
                </a:solidFill>
                <a:latin typeface="Times New Roman"/>
                <a:ea typeface="Times New Roman"/>
              </a:rPr>
              <a:t>+</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 name=""/>
          <p:cNvGraphicFramePr/>
          <p:nvPr/>
        </p:nvGraphicFramePr>
        <p:xfrm>
          <a:off x="3252960" y="2541600"/>
          <a:ext cx="2636640" cy="1774800"/>
        </p:xfrm>
        <a:graphic>
          <a:graphicData uri="http://schemas.openxmlformats.org/presentationml/2006/ole">
            <p:oleObj r:id="rId1" spid="">
              <p:embed/>
              <p:pic>
                <p:nvPicPr>
                  <p:cNvPr id="49" name="" descr=""/>
                  <p:cNvPicPr/>
                  <p:nvPr/>
                </p:nvPicPr>
                <p:blipFill>
                  <a:blip r:embed="rId2"/>
                  <a:stretch/>
                </p:blipFill>
                <p:spPr>
                  <a:xfrm>
                    <a:off x="3252960" y="2541600"/>
                    <a:ext cx="263664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diagrama" descr=""/>
          <p:cNvPicPr/>
          <p:nvPr/>
        </p:nvPicPr>
        <p:blipFill>
          <a:blip r:embed="rId1"/>
          <a:stretch/>
        </p:blipFill>
        <p:spPr>
          <a:xfrm>
            <a:off x="2502000" y="2168640"/>
            <a:ext cx="4138560" cy="252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mixer-settler" descr=""/>
          <p:cNvPicPr/>
          <p:nvPr/>
        </p:nvPicPr>
        <p:blipFill>
          <a:blip r:embed="rId1"/>
          <a:stretch/>
        </p:blipFill>
        <p:spPr>
          <a:xfrm>
            <a:off x="762120" y="1109520"/>
            <a:ext cx="7619760" cy="463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0T13:14:46Z</dcterms:created>
  <dc:creator>Angel Sanhueza</dc:creator>
  <dc:description/>
  <dc:language>en-US</dc:language>
  <cp:lastModifiedBy>Angel Sanhueza</cp:lastModifiedBy>
  <dcterms:modified xsi:type="dcterms:W3CDTF">2005-08-10T14:54:34Z</dcterms:modified>
  <cp:revision>10</cp:revision>
  <dc:subject/>
  <dc:title>INTRODUCCIÓN</dc:title>
</cp:coreProperties>
</file>