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709E2-9496-422B-8628-B2563295C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2A231-5B49-4216-A78A-E5C946B59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EA6B5-FAD4-4B74-9C7C-21DC4CA9B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4AE79-6263-4BAF-BD80-A54342656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214A2-4097-4627-B9C9-C895521BE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7ACFE-38EF-4349-A475-3E25CDA4C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0638F-5DD4-49BA-90FC-40B9D957E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6BBA1-E24E-436E-839D-BEFCDC0C7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D3CA2-B97C-4FC7-A99E-2B34E49C9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4527B-8BF3-492D-9A0C-D95607BE5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AF1A0-6D98-4616-9593-DAD5F47F3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36726-BBF6-4D32-82F9-5FFD4F7F6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B886-D020-4202-8827-C8E5FFB006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CCION POR SOLVENTE (S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DUCCIÓN</a:t>
            </a:r>
            <a:endParaRPr b="0" lang="en-US" sz="16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a extracción por solvente es un método de purificación de soluciones . Este método consiste en poner en contacto una solución rica de lixiviación con un reactivo orgánico el cual tiene la propiedad de extraer selectivamente los iones metálicos de interés. En una etapa posterior esta resina es descargada, es decir, esta resina devuelve los iones capturados y los entrega a una solución limpia.</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a extracción por solvente consiste al menos en dos etapas, la primera etapa, de carga, se conoce como extracción y la segunda etapa, de descarga, es llamada de reextracción o stripping.</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circuito" descr=""/>
          <p:cNvPicPr/>
          <p:nvPr/>
        </p:nvPicPr>
        <p:blipFill>
          <a:blip r:embed="rId1"/>
          <a:stretch/>
        </p:blipFill>
        <p:spPr>
          <a:xfrm>
            <a:off x="228600" y="762120"/>
            <a:ext cx="8534520" cy="495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1963 se fabricó la primera resina capaz de extraer cobre comercialment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Chile la primera la primera aplicación de esta tecnología se hizo en el año 1980, en la Sociedad Minera Pudahuel.</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DELCO incorporó este proceso en el año 1985 en el mineral el Teni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OS INDUSTRIALE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peración de metales desde soluciones de lixiviació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aración de varios metales metales en solució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rificación de soluciones en que se extraen las impurezas para dejar limpia la solución de partid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gn="ct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Me</a:t>
            </a:r>
            <a:r>
              <a:rPr b="0" lang="en-GB" sz="1800" spc="-1" strike="noStrike" baseline="30000">
                <a:solidFill>
                  <a:srgbClr val="000000"/>
                </a:solidFill>
                <a:latin typeface="Times New Roman"/>
                <a:ea typeface="Times New Roman"/>
              </a:rPr>
              <a:t>2+</a:t>
            </a:r>
            <a:r>
              <a:rPr b="0" lang="en-GB" sz="1800" spc="-1" strike="noStrike">
                <a:solidFill>
                  <a:srgbClr val="000000"/>
                </a:solidFill>
                <a:latin typeface="Times New Roman"/>
                <a:ea typeface="Times New Roman"/>
              </a:rPr>
              <a:t> + 2RH ===== MeR</a:t>
            </a:r>
            <a:r>
              <a:rPr b="0" lang="en-GB" sz="1800" spc="-1" strike="noStrike" baseline="-30000">
                <a:solidFill>
                  <a:srgbClr val="000000"/>
                </a:solidFill>
                <a:latin typeface="Times New Roman"/>
                <a:ea typeface="Times New Roman"/>
              </a:rPr>
              <a:t>2</a:t>
            </a:r>
            <a:r>
              <a:rPr b="0" lang="en-GB" sz="1800" spc="-1" strike="noStrike">
                <a:solidFill>
                  <a:srgbClr val="000000"/>
                </a:solidFill>
                <a:latin typeface="Times New Roman"/>
                <a:ea typeface="Times New Roman"/>
              </a:rPr>
              <a:t> + 2H</a:t>
            </a:r>
            <a:r>
              <a:rPr b="0" lang="en-GB" sz="1800" spc="-1" strike="noStrike" baseline="30000">
                <a:solidFill>
                  <a:srgbClr val="000000"/>
                </a:solidFill>
                <a:latin typeface="Times New Roman"/>
                <a:ea typeface="Times New Roman"/>
              </a:rPr>
              <a:t>+</a:t>
            </a: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8" name=""/>
          <p:cNvGraphicFramePr/>
          <p:nvPr/>
        </p:nvGraphicFramePr>
        <p:xfrm>
          <a:off x="3252960" y="2541600"/>
          <a:ext cx="2636640" cy="1774800"/>
        </p:xfrm>
        <a:graphic>
          <a:graphicData uri="http://schemas.openxmlformats.org/presentationml/2006/ole">
            <p:oleObj r:id="rId1" spid="">
              <p:embed/>
              <p:pic>
                <p:nvPicPr>
                  <p:cNvPr id="49" name="" descr=""/>
                  <p:cNvPicPr/>
                  <p:nvPr/>
                </p:nvPicPr>
                <p:blipFill>
                  <a:blip r:embed="rId2"/>
                  <a:stretch/>
                </p:blipFill>
                <p:spPr>
                  <a:xfrm>
                    <a:off x="3252960" y="2541600"/>
                    <a:ext cx="2636640" cy="17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diagrama" descr=""/>
          <p:cNvPicPr/>
          <p:nvPr/>
        </p:nvPicPr>
        <p:blipFill>
          <a:blip r:embed="rId1"/>
          <a:stretch/>
        </p:blipFill>
        <p:spPr>
          <a:xfrm>
            <a:off x="2502000" y="2168640"/>
            <a:ext cx="4138560" cy="252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mixer-settler" descr=""/>
          <p:cNvPicPr/>
          <p:nvPr/>
        </p:nvPicPr>
        <p:blipFill>
          <a:blip r:embed="rId1"/>
          <a:stretch/>
        </p:blipFill>
        <p:spPr>
          <a:xfrm>
            <a:off x="762120" y="1109520"/>
            <a:ext cx="7619760" cy="463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0T13:14:46Z</dcterms:created>
  <dc:creator>Angel Sanhueza</dc:creator>
  <dc:description/>
  <dc:language>en-US</dc:language>
  <cp:lastModifiedBy>Angel Sanhueza</cp:lastModifiedBy>
  <dcterms:modified xsi:type="dcterms:W3CDTF">2005-08-10T14:54:34Z</dcterms:modified>
  <cp:revision>10</cp:revision>
  <dc:subject/>
  <dc:title>INTRODUCCIÓN</dc:title>
</cp:coreProperties>
</file>