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288-54CB-437E-8040-5FB0BD79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8F8-23E2-42C1-9127-B4AEE645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D36-B0AD-460C-9C38-0B66FACA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259-DBAE-4894-B570-02773C8C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ABF1-699C-4B93-B233-0583CE6B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3D9D-BFDF-49D4-AF70-B627C20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D582-6C02-478E-8FF2-6ECA21C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5212-8212-4405-8633-B499C892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A9C5-E6C4-433C-BCEF-79A9C243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3FD2-8836-401F-B0D4-9ED77622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9D6-E00D-4336-9266-8D4418C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573-DE1E-4B9D-BB84-EAF682D4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176E-C749-4854-A5D9-75F3A37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AB22-0706-4A5B-A9F4-F7DE7515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19F-5EE2-465A-BAB5-0C45847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5A8E-8CC1-4666-9FD4-AAC83C47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6E9E-3CBC-4A39-9E4D-A66A6EA8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4BE-CB6B-486B-A9AC-8436E2D5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59F-5891-47AE-8E0C-AFEFEA3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2CA-5C46-4D73-8260-CBB4F8B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5AA-07F4-491C-BE9A-5EC94BC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849-A9F4-4AE1-AEB8-793E40A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B35-8D56-44EA-94C0-C70EF65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51B-2E6B-448B-B911-C31C7A35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E06-AE59-4270-904A-9F07DDBCB216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C802-6A62-439B-9032-58AC638CCCBF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liberación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5-08-10T03:36:40Z</dcterms:modified>
  <cp:revision>14</cp:revision>
  <dc:subject/>
  <dc:title>Electro-obtención (EW)</dc:title>
</cp:coreProperties>
</file>