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BCD7-64C8-40DD-A644-D377224CC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AE97-A89B-4AFD-B4E8-0622940A6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84EE-F912-4585-B21B-107341C97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9010-5B5C-4B5D-BECF-12F24A0CD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1042-ED5A-4A7D-AA5E-DBD506E33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1F54-F6AB-491A-A47C-8C0CEF3C8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983F-E4F4-4C31-B975-3942ED76D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DC21-0A71-4DAA-AC2A-892448EC5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BF71-834F-40DB-A2D6-274D21BE2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22BD-13E7-4C74-9AFD-9D866DA9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2C8A-DFF4-4996-A805-276856E7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0010-3AD9-4140-9509-E02FEC7B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9D37-65BD-4AC3-9671-225205820E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8569080" cy="6120000"/>
          </a:xfrm>
          <a:prstGeom prst="rect">
            <a:avLst/>
          </a:prstGeom>
          <a:solidFill>
            <a:srgbClr val="bbe0e3"/>
          </a:solidFill>
          <a:ln w="28440">
            <a:solidFill>
              <a:srgbClr val="ff0000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ECADOR DE BANDEJ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6107040"/>
          </a:xfrm>
          <a:prstGeom prst="rect">
            <a:avLst/>
          </a:prstGeom>
          <a:solidFill>
            <a:srgbClr val="bbe0e3"/>
          </a:solidFill>
          <a:ln w="28440">
            <a:solidFill>
              <a:srgbClr val="ff0000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demás se cuenta con una balanza digital que permite registrar en el tiempo la masa del sólido, y por lo tanto la pérdida de humedad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6249960"/>
          </a:xfrm>
          <a:prstGeom prst="rect">
            <a:avLst/>
          </a:prstGeom>
          <a:solidFill>
            <a:srgbClr val="bbe0e3"/>
          </a:solidFill>
          <a:ln w="28440">
            <a:solidFill>
              <a:srgbClr val="ff0000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velocidad del aire se determina con velocímetro digital de paletas y con un sicrómetro se determinan las temperaturas del flujo de ai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temperatura de bulbo seco y temperatura de bulbo húmedo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516880" cy="5977080"/>
          </a:xfrm>
          <a:prstGeom prst="rect">
            <a:avLst/>
          </a:prstGeom>
          <a:solidFill>
            <a:srgbClr val="bbe0e3"/>
          </a:solidFill>
          <a:ln w="28440">
            <a:solidFill>
              <a:srgbClr val="ff0000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 lo tanto es posible obtener la velocidad de secado, la cantidad de agua evaporada y la humedad relativa del aire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7345440" cy="5977080"/>
          </a:xfrm>
          <a:prstGeom prst="rect">
            <a:avLst/>
          </a:prstGeom>
          <a:ln w="28440">
            <a:solidFill>
              <a:srgbClr val="ff0000"/>
            </a:solidFill>
            <a:prstDash val="sysDot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8360" y="274680"/>
            <a:ext cx="8205840" cy="6323040"/>
          </a:xfrm>
          <a:prstGeom prst="rect">
            <a:avLst/>
          </a:prstGeom>
          <a:ln w="28440">
            <a:solidFill>
              <a:srgbClr val="ff0000"/>
            </a:solidFill>
            <a:prstDash val="sysDot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424720" cy="6120000"/>
          </a:xfrm>
          <a:prstGeom prst="rect">
            <a:avLst/>
          </a:prstGeom>
          <a:solidFill>
            <a:srgbClr val="bbe0e3"/>
          </a:solidFill>
          <a:ln w="28440">
            <a:solidFill>
              <a:srgbClr val="ff0000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proceso de secado consiste en la remoción de humedad de una sustancia, involucrando los fenómenos de transferencia de calor y masa, en forma simultane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74320"/>
            <a:ext cx="8280360" cy="6249960"/>
          </a:xfrm>
          <a:prstGeom prst="rect">
            <a:avLst/>
          </a:prstGeom>
          <a:solidFill>
            <a:srgbClr val="bbe0e3"/>
          </a:solidFill>
          <a:ln w="28440">
            <a:solidFill>
              <a:srgbClr val="ff0000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transferencia de masa ocurre cuando el sólido pierde humedad y la transferencia de calor se verifica cuando el medio ambiente (aire) entrega calor al sólido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6249960"/>
          </a:xfrm>
          <a:prstGeom prst="rect">
            <a:avLst/>
          </a:prstGeom>
          <a:solidFill>
            <a:srgbClr val="bbe0e3"/>
          </a:solidFill>
          <a:ln w="28440">
            <a:solidFill>
              <a:srgbClr val="ff0000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e calor del aire, es el que se emplea en la evaporación del agua que se va incorporando al aire a medida que transcurre el proceso de secad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6249960"/>
          </a:xfrm>
          <a:prstGeom prst="rect">
            <a:avLst/>
          </a:prstGeom>
          <a:solidFill>
            <a:srgbClr val="bbe0e3"/>
          </a:solidFill>
          <a:ln w="28440">
            <a:solidFill>
              <a:srgbClr val="ff0000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a de las formas usuales d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ado consiste en hacer circular una corriente de aire caliente por sobre el material a secar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193080"/>
          </a:xfrm>
          <a:prstGeom prst="rect">
            <a:avLst/>
          </a:prstGeom>
          <a:solidFill>
            <a:srgbClr val="bbe0e3"/>
          </a:solidFill>
          <a:ln w="28440">
            <a:solidFill>
              <a:srgbClr val="ff0000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 nivel de agua deseado lo determina el tipo de producto final que buscamos, por ejemplo, el secado de granos y cereales se realiza hasta obtener alrededor de 12% de agua en el producto que es parecido a la humedad del aire normal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solidFill>
            <a:srgbClr val="bbe0e3"/>
          </a:solidFill>
          <a:ln w="28440">
            <a:solidFill>
              <a:srgbClr val="ff0000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el caso de las frutas secas, los niveles son más bajo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8-10%), en el caso de nueces y semillas los niveles son todavía más bajos (3-5%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solidFill>
            <a:srgbClr val="bbe0e3"/>
          </a:solidFill>
          <a:ln w="28440">
            <a:solidFill>
              <a:srgbClr val="ff0000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ando la humedad final que buscamos está por debajo de l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edad del aire normal o del medio ambiente, es necesario realizar un proceso controlado de secado utilizando aire calentado por cualquier fuente de energí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solidFill>
            <a:srgbClr val="bbe0e3"/>
          </a:solidFill>
          <a:ln w="28440">
            <a:solidFill>
              <a:srgbClr val="ff0000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equipo es un secador de material particulado dispuesto en 4 bandejas, el que permite controlar la velocidad y la temperatura del flujo de aire, el cual es impulsado por un termoventilador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9T23:19:36Z</dcterms:created>
  <dc:creator>georgette</dc:creator>
  <dc:description/>
  <dc:language>en-US</dc:language>
  <cp:lastModifiedBy>georgette</cp:lastModifiedBy>
  <dcterms:modified xsi:type="dcterms:W3CDTF">2005-07-31T00:32:25Z</dcterms:modified>
  <cp:revision>4</cp:revision>
  <dc:subject/>
  <dc:title>El proceso de secado consiste en la remoción de humedad de una sustancia, involucrando los fenómenos de transferencia de calor y masa, en forma simultanea.</dc:title>
</cp:coreProperties>
</file>