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DCAE-A2EF-4091-869D-0ECCC8084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DF7D-D66B-41CB-A5A3-C9943752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C93-358C-47FC-AFF8-CF180851C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E7DB-3221-4518-8C31-D1C559EA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D27F-357B-43A4-811B-3928100E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811B-4A3A-4BBB-B1BB-FE75E212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1B5B-AF13-4E93-8DB8-37FF8A83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97B3-30CF-4DA0-92AF-226FA9275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5716-5C55-430E-AE92-067F017F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A4CB-0F56-469D-B84C-A9E6A94C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2A24-7D72-4DBE-B00E-82A93F2C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AB0D-395C-4579-9B63-DCD3AC19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DB8A-276D-449B-BFA6-B1BF74B64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69080" cy="583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a experiencia está diseñada para poder estudiar los fenómenos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erencia simultánea de calor y materia que ocurren durante una operació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humidificación de aire utilizando agua calien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1070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bos fluidos circulan 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acorrient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6337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equipo corresponde a una columna rellena cilíndrica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 altura del relleno es 40" y el diámetro de la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lumna es 6".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l relleno corresponde a anillos Rasching de 3/4" (cilindros huecos de vidrio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619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circuito de agua está constituido por un estanque termostatizado, una bomba centrífuga, tuberías de cobre de 3/4", una manguera de retorno de líquido al estanque, una placa orificio (conectada a un manómetro de mercurio, Hg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424720" cy="60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circuito de aire está conformado por un compresor, tuberías de cobre de 3/4", una placa orificio (conectada a un manómetro de tretracloruro de carbono, CCl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 y dos pares de termocuplas, a la entrada y salida del aire de la torre, para medir la temperatura de bulbo seco y de bulbo húmedo en ambos punt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218440" cy="619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emás se dispone 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ocuplas a la entrad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a la salida de la columna para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r la temperatura del agua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3640" y="333360"/>
            <a:ext cx="8351640" cy="6191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libración de las placas orificio</a:t>
            </a:r>
            <a:br>
              <a:rPr sz="4400"/>
            </a:br>
            <a:br>
              <a:rPr sz="36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1) Aire: Q (m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/hr) = 3.01 ×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0.49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,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 (cm. CCl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), a 18º C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) Agua: Q (L/min.) = 1.04 ×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" sz="3200" spc="-1" strike="noStrike" baseline="30000">
                <a:solidFill>
                  <a:srgbClr val="000000"/>
                </a:solidFill>
                <a:latin typeface="Arial"/>
              </a:rPr>
              <a:t>0.51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, </a:t>
            </a: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 (cm. Hg.)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943280" y="368280"/>
            <a:ext cx="5256000" cy="612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11280" y="333360"/>
            <a:ext cx="4681800" cy="612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20:03:50Z</dcterms:created>
  <dc:creator>georgette</dc:creator>
  <dc:description/>
  <dc:language>en-US</dc:language>
  <cp:lastModifiedBy>georgette</cp:lastModifiedBy>
  <dcterms:modified xsi:type="dcterms:W3CDTF">2005-07-22T23:04:43Z</dcterms:modified>
  <cp:revision>7</cp:revision>
  <dc:subject/>
  <dc:title>Esta experiencia está diseñada para poder estudiar los fenómenos de transferencia simultánea de calor y materia que ocurren durante una operación de humidificación de aire utilizando agua caliente.</dc:title>
</cp:coreProperties>
</file>