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2B3-29A1-46AF-94AA-F196A42B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EB3-C470-480F-ABD0-AAFF9FFE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C3B-8D33-4095-AA93-62C08437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31C-F71A-475E-9F49-433202B9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128-012C-4547-BB32-A4950236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CCB-13A3-445E-848D-DF8FB49A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B90-33A7-4CDF-B48D-CCCADB36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F941-E076-4936-ADDA-46804F7C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960-CEF1-4CB2-9DD0-3846B090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093-0FA8-4AEA-A322-F22E8FEC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653-29EF-4437-86E8-94364CD4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596-2FE8-437E-BABB-103C5239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70C0-78D1-49B3-9609-69D65A7AB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lumna de Absor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362320" y="457200"/>
          <a:ext cx="441936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4193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36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20760" y="657360"/>
          <a:ext cx="8289720" cy="56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760" y="657360"/>
                    <a:ext cx="8289720" cy="56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objetivo es estudiar el fenómeno de transferencia de materia para la absorción del dióxido de carbono presente en una mezcla con aire, utilizando agua potable y una solución diluida de hidróxido de sodio. Establecer una relación entre el coeficiente global de transferencia de masa y los flujos de líquido y gas y comparar los sistemas de absorción con y sin reacción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4:15:08Z</dcterms:created>
  <dc:creator>Angel Sanhueza</dc:creator>
  <dc:description/>
  <dc:language>en-US</dc:language>
  <cp:lastModifiedBy>Angel Sanhueza</cp:lastModifiedBy>
  <dcterms:modified xsi:type="dcterms:W3CDTF">2005-08-03T18:41:19Z</dcterms:modified>
  <cp:revision>2</cp:revision>
  <dc:subject/>
  <dc:title>Columna de Absorción </dc:title>
</cp:coreProperties>
</file>