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ED6-A150-4813-9EA7-B5DFD234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6DB-6ABC-4A69-8461-2BE2C641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34F-F65D-4708-BCA1-57C5C7FB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987-CBB2-403A-8A9B-D09ABA27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ED2-85D9-459F-BCD5-89980DBC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846-4163-43F0-8DA8-6601B9AE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8807-ED90-4CCD-80EB-D947CCBA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9D08-ECC2-4D79-AC08-853B20A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1EDC-6DB1-43F3-B782-20F30CC4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B7B-9699-42BF-9AD1-9EF3646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4CD-8B8F-4751-B10D-6D37B470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FA0-2D9F-4053-AEE2-9924CBF3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B4D-09DC-416B-8439-8A7BD2B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C57-96BA-489A-B3D6-321D114D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C2ED-0C7B-4460-B121-7D290A8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B57-902F-4415-BF43-351C3CAA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2A63-86F1-4B95-A64E-90A5116B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099-DB0F-478E-B942-26063B2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B31-3870-42FA-B08E-CF3CD8DA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771-EE29-4F5E-ACDD-F081043C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082-7919-4A0E-91B4-EBB87E1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DBF-8423-49BE-A7FC-3E64878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B3C-3466-458E-86AC-18355F8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208-B81B-4DB3-B248-0D0BBB1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AF8A-34BA-43B2-BA68-5DA67F3743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8D6-1BF2-48CD-BF1F-CE94AA2E30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990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0T15:05:48Z</dcterms:modified>
  <cp:revision>302</cp:revision>
  <dc:subject/>
  <dc:title>Reactor Agitado</dc:title>
</cp:coreProperties>
</file>