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1956-4228-4857-98B7-D138229D8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EC94-EACD-4DA7-8BD9-263207446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55C3-A935-4FE9-8529-2A8C7860F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D6E2-33CD-4B50-A178-B008ADA08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4A482-3A16-4555-8DC3-DA11AAF1F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5F0BD-79F9-4939-B797-87D6150F2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5820F-0C10-404E-B8B9-490A1002C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2B0D0-A818-4511-8BB2-F4A491D9D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C750A-7C7C-43CF-8C09-D084B1FAF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0FD06-0014-4A2B-8E07-1BBA0BEA7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617CA-8AC0-403B-A4F6-9232E5E1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FF2F-398B-4D42-BFBF-1355A736E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EEF20-C842-4BBA-A28B-561B26EF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F0A62-9524-4379-9614-7A42B0FF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68050-0296-43AE-875D-0B1C8C182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5E926-B49F-4846-84BE-C7F5BA859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18EC9-E27F-4FA3-A346-F3C3B0DEE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FA3F-9B66-4B9C-B0E8-DC27A5638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ED83-AA68-45CE-8130-949EDEBA4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BA53-18D7-4C88-8BB3-EF7C62AAC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5EB8-8FB3-450B-9A0A-7BFB46EBB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E4AC-023E-429D-BB7D-B5B2721E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46A8-C4D7-47D4-B5F0-DB56B00F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E6B2-F667-4820-9458-4231A625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34745-7F7C-4058-9FBF-C178B1A7CF2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50D72-7EAB-4F5B-AE2A-10CB5BFA325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040" y="1752120"/>
            <a:ext cx="7010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1143000" y="8380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Filtro Prens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90720" y="1676520"/>
            <a:ext cx="6607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OBJETIVO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studiar un filtro prensa, para determinar las características de la filtración, tipo de torta, porosidad, resistencia específica, constante de filtración, Volumen equivalente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219320" y="3886200"/>
                <a:ext cx="6248160" cy="13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C</m:t>
                        </m:r>
                        <m:r>
                          <m:t xml:space="preserve">v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ΔP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C</m:t>
                    </m:r>
                    <m:f>
                      <m:num>
                        <m:r>
                          <m:t xml:space="preserve">v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ΔP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975600" y="5791320"/>
            <a:ext cx="374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Alan Foust, George Brown, Vían-Oca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 flipV="1">
            <a:off x="1523880" y="1752480"/>
            <a:ext cx="0" cy="373392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3880" y="5486400"/>
            <a:ext cx="53341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752480" y="3505320"/>
            <a:ext cx="304812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          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       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    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   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41920" y="28954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504040" y="25146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1676520" y="2133720"/>
            <a:ext cx="4800600" cy="31240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44120" y="1981080"/>
            <a:ext cx="83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dV/d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38080" y="2362320"/>
            <a:ext cx="22860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554520" y="57913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V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676520" y="9907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Gráfico  dV/dt  v/s  V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2:20:09Z</dcterms:created>
  <dc:creator>Leonardo Valenzuela</dc:creator>
  <dc:description/>
  <dc:language>en-US</dc:language>
  <cp:lastModifiedBy>LI2</cp:lastModifiedBy>
  <dcterms:modified xsi:type="dcterms:W3CDTF">2004-08-10T15:05:48Z</dcterms:modified>
  <cp:revision>302</cp:revision>
  <dc:subject/>
  <dc:title>Reactor Agitado</dc:title>
</cp:coreProperties>
</file>