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B77B-20D7-4F83-9EA2-BCAB3E3B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7B45-2508-4863-97DA-4561F534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E37-3439-48B0-A751-CC015190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88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91920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259092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75488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91920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646-BAE6-4D40-8AB0-4F62BD77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831C-52EF-4D0C-AD43-C283087A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2C9B-47C3-467F-B71A-B705E9B8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759B-4019-421D-9809-BC405A69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4877-4625-4750-8979-0FD56262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A655-8FA5-46D4-8401-03E9D473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652400" y="180612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A77A-63A0-436B-B6E5-DEEC77B1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D8E0-45C3-43FC-8517-F3B8644A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EE99-0745-4D43-9239-12F15731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71AD-D7E5-4E61-9184-FECA507A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E031-3BBE-4199-85F4-849DB954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7261-3DBE-49EC-B69B-1D657A62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DD12-C4F9-4341-81CE-6E9D8FC8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488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91920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259092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75488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91920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AA00-1E62-4809-AA23-7B45CB69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0537-4F85-46C9-8EBD-BDDEEF5A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A077-797D-4CA9-BB8D-CBB49394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AE7B-46CF-4575-BFF3-9ADB5F6E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652400" y="180612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22DF-412D-45B7-9797-890C3B84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30E-55BD-44E6-9357-B6F4A462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41B-DF7B-43E7-B355-72C75833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591F-69B5-477F-A719-4CE8DC12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74D6-8577-4A25-8EF3-E09899447CDD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AAC0-EC4E-4585-AD89-A024441FF404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IQ46B Operaciones de Transferencia I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Transferencia de Masa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ixiviació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una etap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menclatu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: masa de ine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: masa de M + masa de S en el sólido a lixiv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 masa de M + masa de S en el sólido lixivi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 masa de M + masa de S en el líquido disolv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 masa de M + masa de S en la solución lixivi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una etap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23880" y="2819520"/>
            <a:ext cx="6476760" cy="2491200"/>
            <a:chOff x="1523880" y="2819520"/>
            <a:chExt cx="6476760" cy="2491200"/>
          </a:xfrm>
        </p:grpSpPr>
        <p:sp>
          <p:nvSpPr>
            <p:cNvPr id="136" name=""/>
            <p:cNvSpPr/>
            <p:nvPr/>
          </p:nvSpPr>
          <p:spPr>
            <a:xfrm>
              <a:off x="3352680" y="3124080"/>
              <a:ext cx="2590560" cy="19051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35053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160" y="449568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43240" y="35053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43240" y="457200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99840" y="2895480"/>
              <a:ext cx="1524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99840" y="2819520"/>
              <a:ext cx="167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I, F, N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, y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24480" y="4800600"/>
              <a:ext cx="167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, x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28440" y="4648320"/>
              <a:ext cx="167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, x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1840" y="2819520"/>
              <a:ext cx="167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I, E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, N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, y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una etap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alance de Iner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alance de soluto (M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alance de disolvente (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619440" y="2590920"/>
                <a:ext cx="3048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819520" y="3733920"/>
                <a:ext cx="45338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85800" y="4952880"/>
                <a:ext cx="81914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una etap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alance de M + 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uyas coordenadas corresponden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666880" y="2590920"/>
                <a:ext cx="40770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895480" y="3676680"/>
                <a:ext cx="37720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905120" y="5029200"/>
                <a:ext cx="60195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una etap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79600" y="1981080"/>
          <a:ext cx="762624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9600" y="1981080"/>
                    <a:ext cx="7626240" cy="4113360"/>
                  </a:xfrm>
                  <a:prstGeom prst="rect">
                    <a:avLst/>
                  </a:prstGeom>
                  <a:ln w="9360">
                    <a:solidFill>
                      <a:srgbClr val="33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3733560" y="2666880"/>
            <a:ext cx="99036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2438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s y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581280" y="510516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56386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7314840" y="251460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105520" y="3276720"/>
            <a:ext cx="0" cy="1752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4114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181480" y="4267080"/>
            <a:ext cx="5335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2819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105520" y="304812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724280" y="5029200"/>
            <a:ext cx="3812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019560" y="4648320"/>
            <a:ext cx="9903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4419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varias etapas a corriente cruzad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3505320"/>
            <a:ext cx="1752840" cy="1143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3505320"/>
            <a:ext cx="1752480" cy="1143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77120" y="3505320"/>
            <a:ext cx="1752480" cy="1143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4114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4114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41148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46483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46483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46483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296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,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35053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, 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67480" y="27432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35812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, 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9528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27432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50292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26668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05920" y="35053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, 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1520" y="48769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varias etapas a corriente cruzad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ara este sistema, se debe considerar los mismos balances que el caso anterior, con la salvedad de que ahora se tratan de varias etapas, con los respectivos flujos de entrada y sal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varias etapas a corriente cruzad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479600" y="1981080"/>
          <a:ext cx="762624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9600" y="1981080"/>
                    <a:ext cx="7626240" cy="4113360"/>
                  </a:xfrm>
                  <a:prstGeom prst="rect">
                    <a:avLst/>
                  </a:prstGeom>
                  <a:ln w="9360">
                    <a:solidFill>
                      <a:srgbClr val="33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 flipH="1">
            <a:off x="3733560" y="2590920"/>
            <a:ext cx="759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2209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s y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9246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581280" y="510516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56386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314840" y="251460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105520" y="3276720"/>
            <a:ext cx="0" cy="1752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4114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81480" y="4267080"/>
            <a:ext cx="5335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2819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105520" y="304812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724280" y="5029200"/>
            <a:ext cx="3812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038480" y="3276720"/>
            <a:ext cx="1067040" cy="175248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3429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380988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200400"/>
            <a:ext cx="0" cy="182880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2743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495320" y="29718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114800" y="510552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038480" y="3276720"/>
            <a:ext cx="533520" cy="17524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8120" y="3886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41148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91120" y="3200400"/>
            <a:ext cx="0" cy="190512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38480" y="25909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172200" y="4648320"/>
            <a:ext cx="9907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varias a etapas en contracorriente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3429000"/>
            <a:ext cx="838080" cy="838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3429000"/>
            <a:ext cx="838080" cy="838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3429000"/>
            <a:ext cx="838440" cy="838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86600" y="3429000"/>
            <a:ext cx="838080" cy="838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657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24680" y="36576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36576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2940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7924320" y="41148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37720" y="41148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38280" y="41148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476760" y="4114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885840" y="4114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4191120"/>
            <a:ext cx="99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3276720"/>
            <a:ext cx="12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,F,N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8280" y="2286000"/>
            <a:ext cx="53352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2819520"/>
            <a:ext cx="1143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, E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267080"/>
            <a:ext cx="5335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24480" y="2270160"/>
            <a:ext cx="60984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4267080"/>
            <a:ext cx="5331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2286000"/>
            <a:ext cx="53316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4267080"/>
            <a:ext cx="5335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01000" y="4343400"/>
            <a:ext cx="914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varias etapas a contracorriente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alance global para la solución (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balance de la masa de S + masa de 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 coordenadas de M corresponden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743200" y="2514600"/>
                <a:ext cx="3886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752480" y="3733920"/>
                <a:ext cx="5864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752480" y="5105520"/>
                <a:ext cx="25574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029200" y="5105520"/>
                <a:ext cx="34099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una operación de transferencia de masa que consiste en la disloución preferente de uno o más componentes de una muestra sólida por contacto con un componente líqu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 operación tiene una gran importancia en la industria metalúrgica, donde el componente de interés es el metal precioso, que es retirado del sólido mediante métodos químicos como bi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varias etapas a contracorriente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 ecuaciones anteriores se reordenan de modo 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cualquier etapa, realizando un balance de solución se puede obten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onde el delta representa la diferencia cte entre los flujos del sist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743200" y="2895480"/>
                <a:ext cx="3886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895480" y="4419720"/>
                <a:ext cx="3784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varias etapas a contracorriente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09480" y="1981080"/>
          <a:ext cx="8496360" cy="335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981080"/>
                    <a:ext cx="8496360" cy="3353040"/>
                  </a:xfrm>
                  <a:prstGeom prst="rect">
                    <a:avLst/>
                  </a:prstGeom>
                  <a:ln w="9360">
                    <a:solidFill>
                      <a:srgbClr val="33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3048120" y="2286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1905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s y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4267080"/>
            <a:ext cx="45720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39625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862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505320" y="4495680"/>
            <a:ext cx="759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25909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00600" y="5486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572000" y="4495680"/>
            <a:ext cx="38088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819160" y="2514600"/>
            <a:ext cx="426708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571640" y="3124080"/>
            <a:ext cx="685800" cy="144792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2514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5486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3962520" y="4572000"/>
            <a:ext cx="30456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2895480"/>
            <a:ext cx="106668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6720" y="243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476760" y="4114800"/>
            <a:ext cx="9903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467480" y="3809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209320" y="2895480"/>
            <a:ext cx="121932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209680" y="2514240"/>
            <a:ext cx="487692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62320" y="6172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209320" y="3124080"/>
            <a:ext cx="3048120" cy="320040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962160" y="3048120"/>
            <a:ext cx="685800" cy="144756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209680" y="3048120"/>
            <a:ext cx="2438640" cy="32763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5486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FI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udas, Consultas, Sugerencia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Tipos de Lixiviación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peración en estado no estacionar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xiviación In Si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xiviación a la Intemper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anques de percol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peración en continu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xiviación durante el mol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anques agit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xiviación de semillas vege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óptim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ara que exista un proceso de obtención del material óptimo, se deben cumplir las suguientes condic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Gran área de contacto entre las f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emperatura de conta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piedades del extractante o líquido que lixiv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Método de cálculo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a realizar los cálculos de determinación de la cantidad de material a procesar, se debe conocer, como base de cálculo, las condiciones de equilibrio para el sistema de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ilibrio: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Concepto que se refiere a las condiciones en las cuales una sustancia coexiste de forma estacionaria en 2 o más fases de un sistema. En otras palabras, es la condición donde  no existe transferencia de masa entre las f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Definiciones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todo sistema de lixiviación, coexisten 3 entes princip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olvente líquido puro (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ólido libre de material o inerte (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aterial de interés, que es aquel que realiza la transferencia de masa (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Definiciones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e define la concentración del sólido inerte co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895480" y="3219480"/>
                <a:ext cx="42674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sa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sa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Definiciones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 composiciones del material de interés se definen en función de la fase como fracciones másicas en base libre de sólido iner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x : fracción de M en la sol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y : fracción de M en el sólido. Esta es la fase que se considera en equilib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Sistema de Coordenadas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37368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ólido seco: y =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olvente puro: N = 0; x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181480" y="1981080"/>
          <a:ext cx="3735360" cy="410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1981080"/>
                    <a:ext cx="3735360" cy="41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22:48:36Z</dcterms:created>
  <dc:creator>ANDRES  ROQUE VARGAS</dc:creator>
  <dc:description/>
  <dc:language>en-US</dc:language>
  <cp:lastModifiedBy>ANDRES  ROQUE VARGAS</cp:lastModifiedBy>
  <dcterms:modified xsi:type="dcterms:W3CDTF">2005-09-27T02:55:17Z</dcterms:modified>
  <cp:revision>20</cp:revision>
  <dc:subject/>
  <dc:title>IQ46B Operaciones de Transferencia I</dc:title>
</cp:coreProperties>
</file>