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358E-78CA-4C86-9D08-86224B8A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90920" y="447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AED9-5DA7-49A9-BD6D-5E5AE53B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259092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87088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F034-1295-4178-B071-6677D49E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880" y="355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919200" y="355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2590920" y="447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754880" y="447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919200" y="447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8950-4AB4-4B7C-991F-9607C0AC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8E8B-D9A4-41E4-B2FD-D46838EE7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2D18-E76B-48FE-98C5-85758836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38BD-9D60-4D21-B891-B75B2A70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873C-D51C-47EF-88DA-C2C020F4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6D43-546A-4169-967E-CFD091D6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652400" y="180612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7257-0178-49F7-A587-7AFDDF05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59092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D03B-0EB8-4899-B4DF-C0D6A8DB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7AD7-D071-40DC-8CF9-210A794D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87088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42B4-72B8-47CC-AC5A-529B211B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590920" y="447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5B44-17E2-4FF1-AC9F-39D60983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590920" y="447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2ACD-E661-45D5-9645-03465B70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59092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87088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2C56-9F79-4A50-9FF2-062B9942B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4880" y="355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919200" y="355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2590920" y="447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754880" y="447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919200" y="447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0DF7-6D97-4D5B-BB44-3098F0D7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6464-1495-4FC0-97FA-9B77EFA2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7FE3-D87C-485C-BA2F-A4CDF4E4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7A50-3EF3-4F58-B1F7-C7242DAD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652400" y="180612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F52E-1F04-4C4A-BED5-191D7858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9092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ABAB-0C7D-4D36-A091-9B6A8797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7088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E4F5-2796-4FBA-81CF-989631C1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590920" y="447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9DE6-62E8-49BD-9BE9-4039CAF3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5242-3A01-4A9D-AD15-D565DEB2C020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4661-A489-4658-B1CC-4DBBB18D05E7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IQ46B Operaciones de Transferencia I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Transferencia de Masa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ixiviació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Lixiviación en una etapa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menclatu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: masa de iner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: masa de M + masa de S en el sólido a lixivi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: masa de M + masa de S en el sólido lixivi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: masa de M + masa de S en el líquido disolv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: masa de M + masa de S en la solución lixivi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Lixiviación en una etapa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523880" y="2819520"/>
            <a:ext cx="6476760" cy="2491200"/>
            <a:chOff x="1523880" y="2819520"/>
            <a:chExt cx="6476760" cy="2491200"/>
          </a:xfrm>
        </p:grpSpPr>
        <p:sp>
          <p:nvSpPr>
            <p:cNvPr id="136" name=""/>
            <p:cNvSpPr/>
            <p:nvPr/>
          </p:nvSpPr>
          <p:spPr>
            <a:xfrm>
              <a:off x="3352680" y="3124080"/>
              <a:ext cx="2590560" cy="19051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3880" y="350532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76160" y="449568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43240" y="350532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43240" y="457200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99840" y="2895480"/>
              <a:ext cx="1524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99840" y="2819520"/>
              <a:ext cx="167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I, F, N</a:t>
              </a:r>
              <a:r>
                <a:rPr b="0" lang="es-CL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, y</a:t>
              </a:r>
              <a:r>
                <a:rPr b="0" lang="es-CL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24480" y="4800600"/>
              <a:ext cx="167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CL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, x</a:t>
              </a:r>
              <a:r>
                <a:rPr b="0" lang="es-CL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28440" y="4648320"/>
              <a:ext cx="167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CL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, x</a:t>
              </a:r>
              <a:r>
                <a:rPr b="0" lang="es-CL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71840" y="2819520"/>
              <a:ext cx="167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I, E</a:t>
              </a:r>
              <a:r>
                <a:rPr b="0" lang="es-CL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, N</a:t>
              </a:r>
              <a:r>
                <a:rPr b="0" lang="es-CL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, y</a:t>
              </a:r>
              <a:r>
                <a:rPr b="0" lang="es-CL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Lixiviación en una etapa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Balance de Iner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Balance de soluto (M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Balance de disolvente (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619440" y="2590920"/>
                <a:ext cx="3048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819520" y="3733920"/>
                <a:ext cx="453384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y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85800" y="4952880"/>
                <a:ext cx="81914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Lixiviación en una etapa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Balance de M + 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uyas coordenadas corresponden 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666880" y="2590920"/>
                <a:ext cx="407700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895480" y="3676680"/>
                <a:ext cx="377208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905120" y="5029200"/>
                <a:ext cx="601956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F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F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Lixiviación en una etapa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79600" y="1981080"/>
          <a:ext cx="7626240" cy="41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9600" y="1981080"/>
                    <a:ext cx="7626240" cy="4113360"/>
                  </a:xfrm>
                  <a:prstGeom prst="rect">
                    <a:avLst/>
                  </a:prstGeom>
                  <a:ln w="9360">
                    <a:solidFill>
                      <a:srgbClr val="33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 flipH="1">
            <a:off x="3733560" y="2666880"/>
            <a:ext cx="99036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24382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vs y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2286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581280" y="510516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56386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7314840" y="2514600"/>
            <a:ext cx="6094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105520" y="3276720"/>
            <a:ext cx="0" cy="175248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38680" y="41148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5181480" y="4267080"/>
            <a:ext cx="53352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28195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105520" y="3048120"/>
            <a:ext cx="3045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67080" y="5562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724280" y="5029200"/>
            <a:ext cx="38124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019560" y="4648320"/>
            <a:ext cx="99036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34320" y="4419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v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Lixiviación en varias etapas a corriente cruzada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3505320"/>
            <a:ext cx="1752840" cy="114300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3505320"/>
            <a:ext cx="1752480" cy="114300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77120" y="3505320"/>
            <a:ext cx="1752480" cy="114300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4114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90920" y="4114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41148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652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46483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95680" y="46483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46483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9568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296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,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43200" y="350532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, E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467480" y="27432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35812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, E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49528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8320" y="27432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50292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28800" y="26668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05920" y="350532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, E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91520" y="487692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Lixiviación en varias etapas a corriente cruzad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ara este sistema, se debe considerar los mismos balances que el caso anterior, con la salvedad de que ahora se tratan de varias etapas, con los respectivos flujos de entrada y sal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Lixiviación en varias etapas a corriente cruzada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479600" y="1981080"/>
          <a:ext cx="7626240" cy="41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9600" y="1981080"/>
                    <a:ext cx="7626240" cy="4113360"/>
                  </a:xfrm>
                  <a:prstGeom prst="rect">
                    <a:avLst/>
                  </a:prstGeom>
                  <a:ln w="9360">
                    <a:solidFill>
                      <a:srgbClr val="33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 flipH="1">
            <a:off x="3733560" y="2590920"/>
            <a:ext cx="7596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2209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vs y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924680" y="2286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581280" y="510516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56386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314840" y="2514600"/>
            <a:ext cx="6094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5105520" y="3276720"/>
            <a:ext cx="0" cy="175248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38680" y="41148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181480" y="4267080"/>
            <a:ext cx="53352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28195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105520" y="3048120"/>
            <a:ext cx="3045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67080" y="5562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724280" y="5029200"/>
            <a:ext cx="38124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4038480" y="3276720"/>
            <a:ext cx="1067040" cy="175248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05320" y="3429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14800" y="380988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200400"/>
            <a:ext cx="0" cy="182880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24280" y="27432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4495320" y="29718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57600" y="5562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114800" y="510552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038480" y="3276720"/>
            <a:ext cx="533520" cy="17524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48120" y="38862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7600" y="41148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91120" y="3200400"/>
            <a:ext cx="0" cy="190512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38480" y="25909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172200" y="4648320"/>
            <a:ext cx="9907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v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Lixiviación en varias a etapas en contracorriente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3429000"/>
            <a:ext cx="838080" cy="838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8120" y="3429000"/>
            <a:ext cx="838080" cy="838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52880" y="3429000"/>
            <a:ext cx="838440" cy="838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086600" y="3429000"/>
            <a:ext cx="838080" cy="838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36576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924680" y="36576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36576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3657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629400" y="3657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7924320" y="41148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837720" y="41148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438280" y="41148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6476760" y="4114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3885840" y="4114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4191120"/>
            <a:ext cx="99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3276720"/>
            <a:ext cx="129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,F,N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38280" y="2286000"/>
            <a:ext cx="53352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01000" y="2819520"/>
            <a:ext cx="1143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, E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4267080"/>
            <a:ext cx="5335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324480" y="2270160"/>
            <a:ext cx="60984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4267080"/>
            <a:ext cx="5331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2286000"/>
            <a:ext cx="53316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4267080"/>
            <a:ext cx="5335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001000" y="4343400"/>
            <a:ext cx="914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Lixiviación en varias etapas a contracorriente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Balance global para la solución (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balance de la masa de S + masa de 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s coordenadas de M corresponden 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743200" y="2514600"/>
                <a:ext cx="3886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752480" y="3733920"/>
                <a:ext cx="5864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y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752480" y="5105520"/>
                <a:ext cx="25574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5029200" y="5105520"/>
                <a:ext cx="34099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Lixiviació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una operación de transferencia de masa que consiste en la disloución preferente de uno o más componentes de una muestra sólida por contacto con un componente líqu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a operación tiene una gran importancia en la industria metalúrgica, donde el componente de interés es el metal precioso, que es retirado del sólido mediante métodos químicos como biológ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Lixiviación en varias etapas a contracorriente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s ecuaciones anteriores se reordenan de modo q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n cualquier etapa, realizando un balance de solución se puede obten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onde el delta representa la diferencia cte entre los flujos del sist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743200" y="2895480"/>
                <a:ext cx="3886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2895480" y="4419720"/>
                <a:ext cx="3784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Lixiviación en varias etapas a contracorriente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609480" y="1981080"/>
          <a:ext cx="8496360" cy="335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981080"/>
                    <a:ext cx="8496360" cy="3353040"/>
                  </a:xfrm>
                  <a:prstGeom prst="rect">
                    <a:avLst/>
                  </a:prstGeom>
                  <a:ln w="9360">
                    <a:solidFill>
                      <a:srgbClr val="33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3048120" y="2286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14600" y="1905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vs y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2286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4267080"/>
            <a:ext cx="45720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76520" y="396252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8620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3505320" y="4495680"/>
            <a:ext cx="7596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25909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00600" y="54864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4572000" y="4495680"/>
            <a:ext cx="38088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819160" y="2514600"/>
            <a:ext cx="426708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571640" y="3124080"/>
            <a:ext cx="685800" cy="144792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43400" y="25146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38480" y="54864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 flipV="1">
            <a:off x="3962520" y="4572000"/>
            <a:ext cx="30456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2895480"/>
            <a:ext cx="106668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6720" y="2438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476760" y="4114800"/>
            <a:ext cx="99036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467480" y="3809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v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209320" y="2895480"/>
            <a:ext cx="1219320" cy="34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2209680" y="2514240"/>
            <a:ext cx="487692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362320" y="61722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209320" y="3124080"/>
            <a:ext cx="3048120" cy="320040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962160" y="3048120"/>
            <a:ext cx="685800" cy="144756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2209680" y="3048120"/>
            <a:ext cx="2438640" cy="32763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76720" y="5486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FI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udas, Consultas, Sugerencia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Tipos de Lixiviación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Operación en estado no estacionar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ixiviación In Si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ixiviación a la Intemper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anques de percol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Operación en continu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ixiviación durante el mol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anques agit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ixiviación de semillas veget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Lixiviación óptim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ara que exista un proceso de obtención del material óptimo, se deben cumplir las suguientes condic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Gran área de contacto entre las f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Temperatura de conta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piedades del extractante o líquido que lixiv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Ot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Método de cálculo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ra realizar los cálculos de determinación de la cantidad de material a procesar, se debe conocer, como base de cálculo, las condiciones de equilibrio para el sistema de traba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ilibrio: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Concepto que se refiere a las condiciones en las cuales una sustancia coexiste de forma estacionaria en 2 o más fases de un sistema. En otras palabras, es la condición donde  no existe transferencia de masa entre las f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Definiciones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n todo sistema de lixiviación, coexisten 3 entes princip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olvente líquido puro (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ólido libre de material o inerte (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aterial de interés, que es aquel que realiza la transferencia de masa (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Definiciones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e define la concentración del sólido inerte com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895480" y="3219480"/>
                <a:ext cx="426744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asa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asa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Definiciones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s composiciones del material de interés se definen en función de la fase como fracciones másicas en base libre de sólido iner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x : fracción de M en la solu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y : fracción de M en el sólido. Esta es la fase que se considera en equilib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Sistema de Coordenadas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2742840"/>
            <a:ext cx="37368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ólido seco: y =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olvente puro: N = 0; x =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181480" y="1981080"/>
          <a:ext cx="3735360" cy="410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1981080"/>
                    <a:ext cx="3735360" cy="41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22:48:36Z</dcterms:created>
  <dc:creator>ANDRES  ROQUE VARGAS</dc:creator>
  <dc:description/>
  <dc:language>en-US</dc:language>
  <cp:lastModifiedBy>ANDRES  ROQUE VARGAS</cp:lastModifiedBy>
  <dcterms:modified xsi:type="dcterms:W3CDTF">2005-09-27T02:55:17Z</dcterms:modified>
  <cp:revision>20</cp:revision>
  <dc:subject/>
  <dc:title>IQ46B Operaciones de Transferencia I</dc:title>
</cp:coreProperties>
</file>