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381-F9BF-4ECA-85A8-A4B089D8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55F-1F69-42E1-826C-64256853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3A5-4605-48B4-BB65-67EC3D40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88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91920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259092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75488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91920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A74-6AEF-4A73-9A23-9AE9A024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9001-FCD4-4271-930C-B2837294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2E72-0423-4420-9649-C693A651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DE0D-2E1C-415B-8939-EDEAA36A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04D0-D452-402F-BF91-54B6E461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3FA1-D7A6-4F13-99C1-099BAFC5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52400" y="180612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04FD-85B3-44A0-93E6-825DCBB0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AD9D-0828-4182-BAB9-D9EC063D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C6E-0022-4665-8F65-1633BF26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0CC5-A9A6-4A73-838B-2809EA72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76B4-0A6B-42CF-95D3-9DCE1FFB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1534-A406-48CC-ABC3-489001F8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CCD6-B4CE-4502-8853-898A831D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88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919200" y="3559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259092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75488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919200" y="4475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C792-9F7C-40A5-B1AB-BF5239A4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0EF-5E99-428D-9C73-512A7EA7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3037-9E06-44DE-97B5-C42DF5AD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29F-6247-4702-9D69-3DD6AE5D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652400" y="1806120"/>
            <a:ext cx="739116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640-5606-42AE-97E6-F4D8ECEA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94C-2E9F-4741-9866-F87AD32A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0880" y="4475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AF2-E021-41CC-8D13-5B15767F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9092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70880" y="3559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590920" y="4475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03FF-C42D-4B01-9F3D-6B3F94E4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E984-5543-44C3-AB4B-E78F08DD9AE8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085D-7D6B-4368-B118-302FBC480119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IQ46B Operaciones de Transferencia I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Transferencia de Masa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ixiviació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una etap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menclatu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: masa de ine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: masa de M + masa de S en el sólido a lixiv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 masa de M + masa de S en el sólido lixivi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 masa de M + masa de S en el líquido disolv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 masa de M + masa de S en la solución lixivi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una etap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23880" y="2819520"/>
            <a:ext cx="6476760" cy="2491200"/>
            <a:chOff x="1523880" y="2819520"/>
            <a:chExt cx="6476760" cy="2491200"/>
          </a:xfrm>
        </p:grpSpPr>
        <p:sp>
          <p:nvSpPr>
            <p:cNvPr id="136" name=""/>
            <p:cNvSpPr/>
            <p:nvPr/>
          </p:nvSpPr>
          <p:spPr>
            <a:xfrm>
              <a:off x="3352680" y="3124080"/>
              <a:ext cx="2590560" cy="190512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3880" y="35053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6160" y="449568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43240" y="35053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43240" y="457200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99840" y="2895480"/>
              <a:ext cx="1524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99840" y="2819520"/>
              <a:ext cx="167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I, F, N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 y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24480" y="4800600"/>
              <a:ext cx="1676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28440" y="4648320"/>
              <a:ext cx="167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2819520"/>
              <a:ext cx="1676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I, E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 N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 y</a:t>
              </a:r>
              <a:r>
                <a:rPr b="0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una etap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alance de Iner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alance de soluto (M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alance de disolvente 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619440" y="2590920"/>
                <a:ext cx="3048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819520" y="3733920"/>
                <a:ext cx="45338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5800" y="4952880"/>
                <a:ext cx="81914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una etap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alance de M + 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yas coordenadas corresponden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666880" y="2590920"/>
                <a:ext cx="407700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895480" y="3676680"/>
                <a:ext cx="37720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905120" y="5029200"/>
                <a:ext cx="60195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una etap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79600" y="1981080"/>
          <a:ext cx="762624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9600" y="1981080"/>
                    <a:ext cx="7626240" cy="4113360"/>
                  </a:xfrm>
                  <a:prstGeom prst="rect">
                    <a:avLst/>
                  </a:prstGeom>
                  <a:ln w="9360">
                    <a:solidFill>
                      <a:srgbClr val="33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3733560" y="2666880"/>
            <a:ext cx="9903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2438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y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581280" y="510516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56386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314840" y="251460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105520" y="3276720"/>
            <a:ext cx="0" cy="1752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4114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181480" y="4267080"/>
            <a:ext cx="5335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2819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05520" y="304812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724280" y="5029200"/>
            <a:ext cx="3812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19560" y="4648320"/>
            <a:ext cx="9903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4419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rriente cruzad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3505320"/>
            <a:ext cx="1752840" cy="1143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3505320"/>
            <a:ext cx="1752480" cy="1143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3505320"/>
            <a:ext cx="1752480" cy="1143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4114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4114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41148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46483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46483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46483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296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,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35053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, 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2743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35812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, 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9528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27432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50292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26668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05920" y="35053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, 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91520" y="48769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rriente cruzad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ara este sistema, se debe considerar los mismos balances que el caso anterior, con la salvedad de que ahora se tratan de varias etapas, con los respectivos flujos de entrada y sal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rriente cruzada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479600" y="1981080"/>
          <a:ext cx="762624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9600" y="1981080"/>
                    <a:ext cx="7626240" cy="4113360"/>
                  </a:xfrm>
                  <a:prstGeom prst="rect">
                    <a:avLst/>
                  </a:prstGeom>
                  <a:ln w="9360">
                    <a:solidFill>
                      <a:srgbClr val="33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 flipH="1">
            <a:off x="3733560" y="2590920"/>
            <a:ext cx="759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2209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y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9246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81280" y="5105160"/>
            <a:ext cx="38124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56386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314840" y="251460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105520" y="3276720"/>
            <a:ext cx="0" cy="175248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4114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81480" y="4267080"/>
            <a:ext cx="53352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28195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105520" y="304812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724280" y="5029200"/>
            <a:ext cx="3812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038480" y="3276720"/>
            <a:ext cx="1067040" cy="1752480"/>
          </a:xfrm>
          <a:prstGeom prst="line">
            <a:avLst/>
          </a:prstGeom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3429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80988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200400"/>
            <a:ext cx="0" cy="182880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2743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495320" y="297180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114800" y="510552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038480" y="3276720"/>
            <a:ext cx="533520" cy="17524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8120" y="3886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41148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3200400"/>
            <a:ext cx="0" cy="190512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38480" y="25909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172200" y="4648320"/>
            <a:ext cx="9907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a etapas en contracorriente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3429000"/>
            <a:ext cx="838080" cy="838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3429000"/>
            <a:ext cx="838080" cy="838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3429000"/>
            <a:ext cx="838440" cy="838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86600" y="3429000"/>
            <a:ext cx="838080" cy="838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3657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36576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36576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2940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924320" y="4114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37720" y="4114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8280" y="41148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476760" y="4114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885840" y="4114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4191120"/>
            <a:ext cx="990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3276720"/>
            <a:ext cx="129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,F,N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2286000"/>
            <a:ext cx="53352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2819520"/>
            <a:ext cx="1143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, 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267080"/>
            <a:ext cx="5335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2270160"/>
            <a:ext cx="60984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4267080"/>
            <a:ext cx="5331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2286000"/>
            <a:ext cx="53316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4267080"/>
            <a:ext cx="5335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4343400"/>
            <a:ext cx="914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ntracorriente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alance global para la solución 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balance de la masa de S + masa de 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coordenadas de M corresponden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743200" y="2514600"/>
                <a:ext cx="388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752480" y="3733920"/>
                <a:ext cx="5864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752480" y="5105520"/>
                <a:ext cx="25574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029200" y="5105520"/>
                <a:ext cx="3409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una operación de transferencia de masa que consiste en la disloución preferente de uno o más componentes de una muestra sólida por contacto con un componente 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 operación tiene una gran importancia en la industria metalúrgica, donde el componente de interés es el metal precioso, que es retirado del sólido mediante métodos químicos como biol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ntracorriente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ecuaciones anteriores se reordenan de modo 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cualquier etapa, realizando un balance de solución se puede obten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onde el delta representa la diferencia cte entre los flujos del sis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743200" y="2895480"/>
                <a:ext cx="3886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895480" y="4419720"/>
                <a:ext cx="3784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en varias etapas a contracorriente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09480" y="1981080"/>
          <a:ext cx="8496360" cy="335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981080"/>
                    <a:ext cx="8496360" cy="3353040"/>
                  </a:xfrm>
                  <a:prstGeom prst="rect">
                    <a:avLst/>
                  </a:prstGeom>
                  <a:ln w="9360">
                    <a:solidFill>
                      <a:srgbClr val="33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3048120" y="2286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y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4267080"/>
            <a:ext cx="4572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396252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8620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505320" y="4495680"/>
            <a:ext cx="759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25909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00600" y="5486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572000" y="4495680"/>
            <a:ext cx="38088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2514600"/>
            <a:ext cx="426708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571640" y="3124080"/>
            <a:ext cx="685800" cy="144792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2514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5486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3962520" y="4572000"/>
            <a:ext cx="3045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2895480"/>
            <a:ext cx="106668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6720" y="2438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476760" y="4114800"/>
            <a:ext cx="99036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67480" y="3809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 v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209320" y="2895480"/>
            <a:ext cx="12193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209680" y="2514240"/>
            <a:ext cx="487692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62320" y="6172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209320" y="3124080"/>
            <a:ext cx="3048120" cy="320040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962160" y="3048120"/>
            <a:ext cx="685800" cy="144756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209680" y="3048120"/>
            <a:ext cx="2438640" cy="32763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548640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FI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udas, Consultas, Sugerenci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Tipos de Lixiviación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peración en estado no estaciona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xiviación In Si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xiviación a la Intemper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anques de percol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peración en continu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xiviación durante el mol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anques agit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xiviación de semillas vege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Lixiviación óptim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ara que exista un proceso de obtención del material óptimo, se deben cumplir las suguientes condi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Gran área de contacto entre las f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emperatura de conta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piedades del extractante o líquido que lixiv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Método de cálculo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a realizar los cálculos de determinación de la cantidad de material a procesar, se debe conocer, como base de cálculo, las condiciones de equilibrio para el sistema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ilibrio: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Concepto que se refiere a las condiciones en las cuales una sustancia coexiste de forma estacionaria en 2 o más fases de un sistema. En otras palabras, es la condición donde  no existe transferencia de masa entre las f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Definiciones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todo sistema de lixiviación, coexisten 3 entes princip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lvente líquido puro (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ólido libre de material o inerte (I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aterial de interés, que es aquel que realiza la transferencia de masa (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Definiciones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e define la concentración del sólido inerte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895480" y="3219480"/>
                <a:ext cx="42674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a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sa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Definiciones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 composiciones del material de interés se definen en función de la fase como fracciones másicas en base libre de sólido iner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x : fracción de M en la sol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y : fracción de M en el sólido. Esta es la fase que se considera en equili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400" spc="-1" strike="noStrike">
                <a:solidFill>
                  <a:srgbClr val="996633"/>
                </a:solidFill>
                <a:latin typeface="Times New Roman"/>
              </a:rPr>
              <a:t>Sistema de Coordenadas: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37368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ólido seco: y =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olvente puro: N = 0; x =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181480" y="1981080"/>
          <a:ext cx="3735360" cy="41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981080"/>
                    <a:ext cx="373536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22:48:36Z</dcterms:created>
  <dc:creator>ANDRES  ROQUE VARGAS</dc:creator>
  <dc:description/>
  <dc:language>en-US</dc:language>
  <cp:lastModifiedBy>ANDRES  ROQUE VARGAS</cp:lastModifiedBy>
  <dcterms:modified xsi:type="dcterms:W3CDTF">2005-09-27T02:55:17Z</dcterms:modified>
  <cp:revision>20</cp:revision>
  <dc:subject/>
  <dc:title>IQ46B Operaciones de Transferencia I</dc:title>
</cp:coreProperties>
</file>