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01257-CFB8-42AB-8388-B33DAD5E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095BD-24E7-4709-A2EF-FAA895D3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57772-453E-4466-BFE8-DACB8A43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FDD72-6F8F-4AEE-A015-7D00990A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60F3-FDCE-4937-8621-D3A43D2A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F4DE-CA33-456D-97ED-D5BBC007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264D-DA95-4B3B-94E5-7B88921A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8838-CEF7-48EC-897F-DA36FA48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5AE7-2E74-4450-9680-16AE9042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80F0-2809-4DD8-909E-28BCD6F6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8077-6F6D-4F08-B7F8-6B8644C3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1031B-AE5F-40E0-B3B3-2A8A4FF2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75AE-CD29-453C-83BC-631861D4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7ABE-8484-48A1-A22A-47685D53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E831-BA87-495E-B616-C64682E9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54B8-39AD-4855-9D31-CEA19DAD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EB5E-9FC5-4218-B113-5783B69B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9A334-0EE8-4BAF-AF2A-507202C3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0D11C-4F40-41E9-9AAF-41FCE132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8886E-D5F6-4FE4-BEA3-499C42D4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2186C-324B-4F31-857F-54E73351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A5394-4BEF-46C6-99A0-0A49300E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80ED5-C141-4881-AEF3-14B098ED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D396A-754B-45BA-AB4A-83EE8A71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5B15-A8BE-49C5-9C91-240CCB75AD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5AC4-1424-42DC-B63B-8E6D76E8EF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ffff"/>
                </a:solidFill>
                <a:latin typeface="Arial"/>
              </a:rPr>
              <a:t>Auxiliar 1 IQ46B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Transferencia de calor en paredes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Andrés Roqu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lcular la temperatura en la cubierta de una tetera con agua hirviendo (Th=100°C) suponiendo a que se trata de una pared de aluminio con un espesor de 2 mm. La temperatura ambiente corresponde a 25°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Arial"/>
              </a:rPr>
              <a:t>alumini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260 W/(m °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Arial"/>
              </a:rPr>
              <a:t>aire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28,39 W/(m</a:t>
            </a:r>
            <a:r>
              <a:rPr b="0" lang="es-MX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°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Arial"/>
              </a:rPr>
              <a:t>agu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15614,5 W/(m</a:t>
            </a:r>
            <a:r>
              <a:rPr b="0" lang="es-MX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°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blem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e tienen 2 tasas de té: una caliente y la otra tibia. ¿Cúal de las 2 se enfría primero? 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blem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Usted es contratado para realizar un servicio de aislación a 2 casas en un día nevado. Una de ellas no posee nieve en su techo, mientras la otra sí. Suponga que la temperatura exterior es de -5°C y la temperatura de cada hogar es de 20°C. Los techos son de Zinc y la aislación es de Aislapol.¿Cúal casa aisla? ¿Por qué?. Para la casa a aislar, determine las temperaturas de las Interfases antes y después de la ais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blem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Arial"/>
              </a:rPr>
              <a:t>zinc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: 121 W/(m °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Arial"/>
              </a:rPr>
              <a:t>aislapol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: 0,13 W/(m °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spesor del techo: 5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spesor de la capa aislante: 1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Arial"/>
              </a:rPr>
              <a:t>aire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: 28,39 W/(m</a:t>
            </a:r>
            <a:r>
              <a:rPr b="0" lang="es-MX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°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ferencia de Calor por conducción en una pared pla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29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100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5284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02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932360" y="2708280"/>
                <a:ext cx="2952720" cy="35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6" name=""/>
          <p:cNvGrpSpPr/>
          <p:nvPr/>
        </p:nvGrpSpPr>
        <p:grpSpPr>
          <a:xfrm>
            <a:off x="914400" y="2492280"/>
            <a:ext cx="3581280" cy="4064040"/>
            <a:chOff x="914400" y="2492280"/>
            <a:chExt cx="3581280" cy="4064040"/>
          </a:xfrm>
        </p:grpSpPr>
        <p:sp>
          <p:nvSpPr>
            <p:cNvPr id="117" name=""/>
            <p:cNvSpPr/>
            <p:nvPr/>
          </p:nvSpPr>
          <p:spPr>
            <a:xfrm>
              <a:off x="1523880" y="2981160"/>
              <a:ext cx="0" cy="34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00400" y="2981160"/>
              <a:ext cx="0" cy="34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09680" y="2981160"/>
              <a:ext cx="0" cy="34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14600" y="2981160"/>
              <a:ext cx="0" cy="34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81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514240" y="29811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255204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23880" y="640224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523880" y="2553120"/>
              <a:ext cx="0" cy="42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57600" y="6096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66680" y="2492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47920" y="38973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51804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14400" y="35906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w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76720" y="493596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w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90720" y="340848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52680" y="29822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q/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3880" y="3897360"/>
              <a:ext cx="1676520" cy="12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76438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ransferencia de calor por conducción y convección a través de una pared pla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3816360" cy="3745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292720" y="2995560"/>
                <a:ext cx="2951280" cy="27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908000" y="1268280"/>
                <a:ext cx="475164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476360" y="3573360"/>
                <a:ext cx="6120000" cy="26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ferencia de calor a través de las paredes de un t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24000" y="2349360"/>
            <a:ext cx="6019200" cy="3593880"/>
            <a:chOff x="324000" y="2349360"/>
            <a:chExt cx="6019200" cy="3593880"/>
          </a:xfrm>
        </p:grpSpPr>
        <p:sp>
          <p:nvSpPr>
            <p:cNvPr id="145" name=""/>
            <p:cNvSpPr/>
            <p:nvPr/>
          </p:nvSpPr>
          <p:spPr>
            <a:xfrm>
              <a:off x="1695240" y="3067920"/>
              <a:ext cx="3962160" cy="8388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05080" y="3247920"/>
              <a:ext cx="2818800" cy="419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85960" y="3367800"/>
              <a:ext cx="1980720" cy="179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95240" y="3487320"/>
              <a:ext cx="0" cy="245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57760" y="3487320"/>
              <a:ext cx="0" cy="101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05080" y="3487320"/>
              <a:ext cx="0" cy="29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24240" y="3487320"/>
              <a:ext cx="0" cy="29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71560" y="2588760"/>
              <a:ext cx="609120" cy="958320"/>
            </a:xfrm>
            <a:prstGeom prst="downArrow">
              <a:avLst>
                <a:gd name="adj1" fmla="val 50000"/>
                <a:gd name="adj2" fmla="val 39332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48080" y="2588760"/>
              <a:ext cx="609120" cy="898560"/>
            </a:xfrm>
            <a:prstGeom prst="upArrow">
              <a:avLst>
                <a:gd name="adj1" fmla="val 50000"/>
                <a:gd name="adj2" fmla="val 36879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57560" y="234936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Times New Roman"/>
                </a:rPr>
                <a:t>Fluído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4000" y="24703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3399ff"/>
                  </a:solidFill>
                  <a:latin typeface="Times New Roman"/>
                </a:rPr>
                <a:t>Fluído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4952880" y="3962520"/>
            <a:ext cx="2514600" cy="2514600"/>
          </a:xfrm>
          <a:prstGeom prst="ellipse">
            <a:avLst/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4343400"/>
            <a:ext cx="1676160" cy="1676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4572000"/>
            <a:ext cx="1218960" cy="1219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510552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55640" y="1844640"/>
            <a:ext cx="3352320" cy="2971800"/>
            <a:chOff x="755640" y="1844640"/>
            <a:chExt cx="3352320" cy="2971800"/>
          </a:xfrm>
        </p:grpSpPr>
        <p:sp>
          <p:nvSpPr>
            <p:cNvPr id="163" name=""/>
            <p:cNvSpPr/>
            <p:nvPr/>
          </p:nvSpPr>
          <p:spPr>
            <a:xfrm>
              <a:off x="831600" y="1844640"/>
              <a:ext cx="327636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41080" y="2301840"/>
              <a:ext cx="213336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50920" y="2835000"/>
              <a:ext cx="91404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93720" y="2454120"/>
              <a:ext cx="182844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50920" y="2835000"/>
              <a:ext cx="99000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584080" y="2073240"/>
              <a:ext cx="7617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4080" y="336852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593360" y="321624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5640" y="321624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355480" y="3368520"/>
              <a:ext cx="2282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36720" y="306360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26880" y="367344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07920" y="2606400"/>
              <a:ext cx="609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83880" y="275904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07920" y="4206600"/>
              <a:ext cx="761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74600" y="245412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148360" y="2349360"/>
                <a:ext cx="3317760" cy="388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/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23050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564000" y="3357720"/>
                <a:ext cx="3047760" cy="24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495324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4360" y="2500200"/>
            <a:ext cx="3181320" cy="2789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859280" y="2130480"/>
                <a:ext cx="2808360" cy="14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356000" y="4076640"/>
                <a:ext cx="4392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84360" y="1773360"/>
                <a:ext cx="35272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55640" y="3789360"/>
                <a:ext cx="340344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076720" y="1700280"/>
                <a:ext cx="333540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148360" y="3933720"/>
                <a:ext cx="327636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16:07:45Z</dcterms:created>
  <dc:creator>ANDRES  ROQUE VARGAS</dc:creator>
  <dc:description/>
  <dc:language>en-US</dc:language>
  <cp:lastModifiedBy>ANDRES  ROQUE VARGAS</cp:lastModifiedBy>
  <dcterms:modified xsi:type="dcterms:W3CDTF">2005-08-10T03:14:35Z</dcterms:modified>
  <cp:revision>12</cp:revision>
  <dc:subject/>
  <dc:title>Auxiliar 1 IQ46B</dc:title>
</cp:coreProperties>
</file>