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C7D9-B6F6-4C7B-B0C7-AEDE0883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8531-2BE8-4BD2-9413-9D4D6C5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D48E-8AD4-4BA0-8E3C-2E1FE2DD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2B75-3113-4A87-B7FE-104A11A7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0F1-7B35-4511-A4E3-C12ED351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51FA-28D9-43E5-A679-8507FFDF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8235-7960-443B-8B79-31ADCB2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1EAD-941C-44E2-A7F3-95C96FA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975E-B1A0-417C-876B-FB784324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A726-99EA-4F8D-8AE6-6884500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D44-7E27-4B2A-A0CD-474CF3A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AC66-2CCF-43AD-9650-1293BB18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1D4-A6F3-4F86-9BDB-F1486F4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FFD-8353-4878-BEB1-FEFCE65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AA32-DF58-4E43-A285-07580CD3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1DB0-0464-4DA5-A0C1-7A47D00F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5FAD-C7D3-44DD-8801-BF9A311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E52C-E615-4FFB-82BE-B53CE8C3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6C8A-1373-42E7-959E-2DE28145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3733-01EA-4A8D-B85D-640C5A8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A96C-0666-4354-BF7C-E1F1ACB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3DFC-9894-4BB9-8135-2405BCA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DB46-602B-4036-AB6B-C7A42AD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D149-6A2E-4E3F-A6E1-891FEFB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B9FB-8997-478A-8CBD-3485287C6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CAA-C85B-4BEB-B7D5-3E692DCD8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Auxiliar 1 IQ46B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Transferencia de calor en parede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Andrés Ro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cular la temperatura en la cubierta de una tetera con agua hirviendo (Th=100°C) suponiendo a que se trata de una pared de aluminio con un espesor de 2 mm. La temperatura ambiente corresponde a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lumini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60 W/(m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ir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15614,5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tienen 2 tasas de té: una caliente y la otra tibia. ¿Cúal de las 2 se enfría primer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sted es contratado para realizar un servicio de aislación a 2 casas en un día nevado. Una de ellas no posee nieve en su techo, mientras la otra sí. Suponga que la temperatura exterior es de -5°C y la temperatura de cada hogar es de 20°C. Los techos son de Zinc y la aislación es de Aislapol.¿Cúal casa aisla? ¿Por qué?. Para la casa a aislar, determine las temperaturas de las Interfases antes y después de la ais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zinc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121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slapo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0,13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l techo: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 la capa aislante: 1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re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por conducción en una pared pl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32360" y="2708280"/>
                <a:ext cx="29527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914400" y="2492280"/>
            <a:ext cx="3581280" cy="4064040"/>
            <a:chOff x="914400" y="2492280"/>
            <a:chExt cx="3581280" cy="4064040"/>
          </a:xfrm>
        </p:grpSpPr>
        <p:sp>
          <p:nvSpPr>
            <p:cNvPr id="117" name=""/>
            <p:cNvSpPr/>
            <p:nvPr/>
          </p:nvSpPr>
          <p:spPr>
            <a:xfrm>
              <a:off x="152388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81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14240" y="2981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25520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64022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23880" y="2553120"/>
              <a:ext cx="0" cy="42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609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249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920" y="389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518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5906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9359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340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2982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q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897360"/>
              <a:ext cx="167652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438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nsferencia de calor por conducción y convección a través de una pared pl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816360" cy="37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92720" y="2995560"/>
                <a:ext cx="29512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8000" y="1268280"/>
                <a:ext cx="475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6360" y="3573360"/>
                <a:ext cx="61200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a través de las paredes de un t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349360"/>
            <a:ext cx="6019200" cy="3593880"/>
            <a:chOff x="324000" y="2349360"/>
            <a:chExt cx="6019200" cy="3593880"/>
          </a:xfrm>
        </p:grpSpPr>
        <p:sp>
          <p:nvSpPr>
            <p:cNvPr id="145" name=""/>
            <p:cNvSpPr/>
            <p:nvPr/>
          </p:nvSpPr>
          <p:spPr>
            <a:xfrm>
              <a:off x="1695240" y="3067920"/>
              <a:ext cx="3962160" cy="83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5080" y="3247920"/>
              <a:ext cx="2818800" cy="41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3367800"/>
              <a:ext cx="1980720" cy="17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5240" y="3487320"/>
              <a:ext cx="0" cy="245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57760" y="3487320"/>
              <a:ext cx="0" cy="10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0508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424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71560" y="2588760"/>
              <a:ext cx="609120" cy="958320"/>
            </a:xfrm>
            <a:prstGeom prst="downArrow">
              <a:avLst>
                <a:gd name="adj1" fmla="val 50000"/>
                <a:gd name="adj2" fmla="val 3933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48080" y="2588760"/>
              <a:ext cx="609120" cy="898560"/>
            </a:xfrm>
            <a:prstGeom prst="upArrow">
              <a:avLst>
                <a:gd name="adj1" fmla="val 50000"/>
                <a:gd name="adj2" fmla="val 3687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7560" y="234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2470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5640" y="1844640"/>
            <a:ext cx="3352320" cy="2971800"/>
            <a:chOff x="755640" y="1844640"/>
            <a:chExt cx="3352320" cy="2971800"/>
          </a:xfrm>
        </p:grpSpPr>
        <p:sp>
          <p:nvSpPr>
            <p:cNvPr id="163" name=""/>
            <p:cNvSpPr/>
            <p:nvPr/>
          </p:nvSpPr>
          <p:spPr>
            <a:xfrm>
              <a:off x="831600" y="1844640"/>
              <a:ext cx="327636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1080" y="2301840"/>
              <a:ext cx="213336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0920" y="28350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3720" y="2454120"/>
              <a:ext cx="182844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2835000"/>
              <a:ext cx="99000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84080" y="207324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4080" y="33685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93360" y="321624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5640" y="32162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55480" y="3368520"/>
              <a:ext cx="228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36720" y="30636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6880" y="36734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7920" y="2606400"/>
              <a:ext cx="609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3880" y="2759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7920" y="4206600"/>
              <a:ext cx="76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4600" y="24541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148360" y="2349360"/>
                <a:ext cx="33177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305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64000" y="3357720"/>
                <a:ext cx="304776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53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4360" y="2500200"/>
            <a:ext cx="318132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59280" y="2130480"/>
                <a:ext cx="280836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56000" y="407664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84360" y="1773360"/>
                <a:ext cx="3527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3789360"/>
                <a:ext cx="340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1700280"/>
                <a:ext cx="33354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3933720"/>
                <a:ext cx="3276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6:07:45Z</dcterms:created>
  <dc:creator>ANDRES  ROQUE VARGAS</dc:creator>
  <dc:description/>
  <dc:language>en-US</dc:language>
  <cp:lastModifiedBy>ANDRES  ROQUE VARGAS</cp:lastModifiedBy>
  <dcterms:modified xsi:type="dcterms:W3CDTF">2005-08-10T03:14:35Z</dcterms:modified>
  <cp:revision>12</cp:revision>
  <dc:subject/>
  <dc:title>Auxiliar 1 IQ46B</dc:title>
</cp:coreProperties>
</file>