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C9F14-42CB-47E8-A5B3-B781767DA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4AF00-EB0D-45E4-85AD-F15D34833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66921-3B18-48EE-B82D-21ACFA2F2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BA46D-FA75-4931-9733-BDD9AAC33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52C04-0B44-4B1C-B739-DFEB692ED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F5B4C-633A-4530-B41B-FA0521FBF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68E58-A287-441B-97FE-6097B4C2B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7A597-5C72-4A75-9AD6-28E75B647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64115-94EA-4601-8422-BC42B794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5D9AC-F985-48AC-934E-F29A9C272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AC426-9A70-46BB-A635-EA18B737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6F8CD-D7F2-4203-9113-C097BA4C3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FCA73-65F9-489C-AF2F-B02BBE84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E5702-FE6B-430A-B516-9E4846B0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9ED2C-A85A-472B-B6D2-1AD698501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C3481-9C22-4240-9B66-DAEF28A3C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108C0-59CD-434F-B459-9D0F3DCD3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29735-774D-4228-B318-D9B53C9B6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4A8C9-787A-487E-B6A0-4073A82CC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97E88-C2CC-4ED9-BFF4-0AD40E2BB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2AAF2-F0A3-48A0-AD9F-F63D71369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3972F-BDB2-4675-A476-F77B6D40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8646D-403A-4957-85EF-B827E26C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D8B9F-FADE-468E-9766-638610B0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05174-2720-4479-8D89-19DEF04E73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07FCC-53FF-4E6B-8313-EE24AB4199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ffffff"/>
                </a:solidFill>
                <a:latin typeface="Arial"/>
              </a:rPr>
              <a:t>Auxiliar 1 IQ46B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3400" spc="-1" strike="noStrike">
                <a:solidFill>
                  <a:srgbClr val="000000"/>
                </a:solidFill>
                <a:latin typeface="Arial"/>
              </a:rPr>
              <a:t>Transferencia de calor en paredes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Arial"/>
              </a:rPr>
              <a:t>Andrés Roqu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alcular la temperatura en la cubierta de una tetera con agua hirviendo (Th=100°C) suponiendo a que se trata de una pared de aluminio con un espesor de 2 mm. La temperatura ambiente corresponde a 25°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a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s-MX" sz="2800" spc="-1" strike="noStrike" baseline="-25000">
                <a:solidFill>
                  <a:srgbClr val="000000"/>
                </a:solidFill>
                <a:latin typeface="Arial"/>
              </a:rPr>
              <a:t>aluminio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: 260 W/(m °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MX" sz="2800" spc="-1" strike="noStrike" baseline="-25000">
                <a:solidFill>
                  <a:srgbClr val="000000"/>
                </a:solidFill>
                <a:latin typeface="Arial"/>
              </a:rPr>
              <a:t>aire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: 28,39 W/(m</a:t>
            </a:r>
            <a:r>
              <a:rPr b="0" lang="es-MX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°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MX" sz="2800" spc="-1" strike="noStrike" baseline="-25000">
                <a:solidFill>
                  <a:srgbClr val="000000"/>
                </a:solidFill>
                <a:latin typeface="Arial"/>
              </a:rPr>
              <a:t>agua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: 15614,5 W/(m</a:t>
            </a:r>
            <a:r>
              <a:rPr b="0" lang="es-MX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°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Problem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Se tienen 2 tasas de té: una caliente y la otra tibia. ¿Cúal de las 2 se enfría primero? ¿Por qué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Problema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Usted es contratado para realizar un servicio de aislación a 2 casas en un día nevado. Una de ellas no posee nieve en su techo, mientras la otra sí. Suponga que la temperatura exterior es de -5°C y la temperatura de cada hogar es de 20°C. Los techos son de Zinc y la aislación es de Aislapol.¿Cúal casa aisla? ¿Por qué?. Para la casa a aislar, determine las temperaturas de las Interfases antes y después de la aisl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Problema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a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Arial"/>
              </a:rPr>
              <a:t>zinc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: 121 W/(m °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Arial"/>
              </a:rPr>
              <a:t>aislapol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: 0,13 W/(m °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spesor del techo: 5 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spesor de la capa aislante: 1 c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Arial"/>
              </a:rPr>
              <a:t>aire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: 28,39 W/(m</a:t>
            </a:r>
            <a:r>
              <a:rPr b="0" lang="es-MX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°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Marco teór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ransferencia de Calor por conducción en una pared plan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2292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242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10080" y="79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552840" y="79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00280" y="79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4932360" y="2708280"/>
                <a:ext cx="2952720" cy="352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</m:num>
                          <m:den>
                            <m:f>
                              <m:num>
                                <m:r>
                                  <m:t xml:space="preserve">k</m:t>
                                </m:r>
                              </m:num>
                              <m:den>
                                <m:r>
                                  <m:t xml:space="preserve">Δx</m:t>
                                </m:r>
                              </m:den>
                            </m:f>
                          </m:den>
                        </m:f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f>
                              <m:num>
                                <m:r>
                                  <m:t xml:space="preserve">k</m:t>
                                </m:r>
                              </m:num>
                              <m:den>
                                <m:r>
                                  <m:t xml:space="preserve">Δx</m:t>
                                </m:r>
                              </m:den>
                            </m:f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16" name=""/>
          <p:cNvGrpSpPr/>
          <p:nvPr/>
        </p:nvGrpSpPr>
        <p:grpSpPr>
          <a:xfrm>
            <a:off x="914400" y="2492280"/>
            <a:ext cx="3581280" cy="4064040"/>
            <a:chOff x="914400" y="2492280"/>
            <a:chExt cx="3581280" cy="4064040"/>
          </a:xfrm>
        </p:grpSpPr>
        <p:sp>
          <p:nvSpPr>
            <p:cNvPr id="117" name=""/>
            <p:cNvSpPr/>
            <p:nvPr/>
          </p:nvSpPr>
          <p:spPr>
            <a:xfrm>
              <a:off x="1523880" y="2981160"/>
              <a:ext cx="0" cy="34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200400" y="2981160"/>
              <a:ext cx="0" cy="34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209680" y="2981160"/>
              <a:ext cx="0" cy="34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14600" y="2981160"/>
              <a:ext cx="0" cy="34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811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2514240" y="29811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33720" y="255204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d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23880" y="640224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1523880" y="2553120"/>
              <a:ext cx="0" cy="42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657600" y="6096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066680" y="24922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447920" y="38973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124080" y="518040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914400" y="359064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w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276720" y="493596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w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990720" y="3408480"/>
              <a:ext cx="304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52680" y="298224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q/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523880" y="3897360"/>
              <a:ext cx="1676520" cy="128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Marco Teór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7643880" cy="47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Transferencia de calor por conducción y convección a través de una pared plan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55640" y="2492280"/>
            <a:ext cx="3816360" cy="3745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5292720" y="2995560"/>
                <a:ext cx="2951280" cy="278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Marco Teór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908000" y="1268280"/>
                <a:ext cx="4751640" cy="19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w</m:t>
                                    </m:r>
                                  </m:sub>
                                </m:sSub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Δx</m:t>
                                </m:r>
                              </m:den>
                            </m:f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1476360" y="3573360"/>
                <a:ext cx="6120000" cy="266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w</m:t>
                                    </m:r>
                                  </m:sub>
                                </m:sSub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Δx</m:t>
                                </m:r>
                              </m:den>
                            </m:f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Marco Teór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ransferencia de calor a través de las paredes de un t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324000" y="2349360"/>
            <a:ext cx="6019200" cy="3593880"/>
            <a:chOff x="324000" y="2349360"/>
            <a:chExt cx="6019200" cy="3593880"/>
          </a:xfrm>
        </p:grpSpPr>
        <p:sp>
          <p:nvSpPr>
            <p:cNvPr id="145" name=""/>
            <p:cNvSpPr/>
            <p:nvPr/>
          </p:nvSpPr>
          <p:spPr>
            <a:xfrm>
              <a:off x="1695240" y="3067920"/>
              <a:ext cx="3962160" cy="8388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305080" y="3247920"/>
              <a:ext cx="2818800" cy="4194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685960" y="3367800"/>
              <a:ext cx="1980720" cy="1796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95240" y="3487320"/>
              <a:ext cx="0" cy="2455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657760" y="3487320"/>
              <a:ext cx="0" cy="101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305080" y="3487320"/>
              <a:ext cx="0" cy="299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124240" y="3487320"/>
              <a:ext cx="0" cy="299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771560" y="2588760"/>
              <a:ext cx="609120" cy="958320"/>
            </a:xfrm>
            <a:prstGeom prst="downArrow">
              <a:avLst>
                <a:gd name="adj1" fmla="val 50000"/>
                <a:gd name="adj2" fmla="val 39332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448080" y="2588760"/>
              <a:ext cx="609120" cy="898560"/>
            </a:xfrm>
            <a:prstGeom prst="upArrow">
              <a:avLst>
                <a:gd name="adj1" fmla="val 50000"/>
                <a:gd name="adj2" fmla="val 36879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057560" y="2349360"/>
              <a:ext cx="22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ff0000"/>
                  </a:solidFill>
                  <a:latin typeface="Times New Roman"/>
                </a:rPr>
                <a:t>Fluído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4000" y="247032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3399ff"/>
                  </a:solidFill>
                  <a:latin typeface="Times New Roman"/>
                </a:rPr>
                <a:t>Fluído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4952880" y="3962520"/>
            <a:ext cx="2514600" cy="2514600"/>
          </a:xfrm>
          <a:prstGeom prst="ellipse">
            <a:avLst/>
          </a:prstGeom>
          <a:solidFill>
            <a:srgbClr val="00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34120" y="4343400"/>
            <a:ext cx="1676160" cy="16765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62720" y="4572000"/>
            <a:ext cx="1218960" cy="12193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400800" y="5105520"/>
            <a:ext cx="990720" cy="228600"/>
          </a:xfrm>
          <a:prstGeom prst="rightArrow">
            <a:avLst>
              <a:gd name="adj1" fmla="val 50000"/>
              <a:gd name="adj2" fmla="val 108346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86600" y="4724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Marco Teór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755640" y="1844640"/>
            <a:ext cx="3352320" cy="2971800"/>
            <a:chOff x="755640" y="1844640"/>
            <a:chExt cx="3352320" cy="2971800"/>
          </a:xfrm>
        </p:grpSpPr>
        <p:sp>
          <p:nvSpPr>
            <p:cNvPr id="163" name=""/>
            <p:cNvSpPr/>
            <p:nvPr/>
          </p:nvSpPr>
          <p:spPr>
            <a:xfrm>
              <a:off x="831600" y="1844640"/>
              <a:ext cx="3276360" cy="2971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41080" y="2301840"/>
              <a:ext cx="2133360" cy="2057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050920" y="2835000"/>
              <a:ext cx="914040" cy="914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593720" y="2454120"/>
              <a:ext cx="1828440" cy="167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050920" y="2835000"/>
              <a:ext cx="990000" cy="990720"/>
            </a:xfrm>
            <a:prstGeom prst="ellipse">
              <a:avLst/>
            </a:prstGeom>
            <a:solidFill>
              <a:srgbClr val="ff505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2584080" y="2073240"/>
              <a:ext cx="76176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84080" y="336852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1593360" y="3216240"/>
              <a:ext cx="38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55640" y="321624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355480" y="3368520"/>
              <a:ext cx="22824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736720" y="3063600"/>
              <a:ext cx="60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126880" y="367344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907920" y="2606400"/>
              <a:ext cx="609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983880" y="275904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d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907920" y="4206600"/>
              <a:ext cx="761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74600" y="2454120"/>
              <a:ext cx="609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5148360" y="2349360"/>
                <a:ext cx="3317760" cy="388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sup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r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L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q</m:t>
                                </m:r>
                              </m:den>
                            </m:f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  <m:r>
                              <m:t xml:space="preserve">)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  <m:e/>
                      <m:e/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148360" y="1268280"/>
            <a:ext cx="230508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Marco Teór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3564000" y="3357720"/>
                <a:ext cx="3047760" cy="24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124000" y="1700280"/>
            <a:ext cx="4953240" cy="12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Marco Teór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84360" y="2500200"/>
            <a:ext cx="3181320" cy="2789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859280" y="2130480"/>
                <a:ext cx="2808360" cy="14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i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o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4356000" y="4076640"/>
                <a:ext cx="43927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q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Marco Teór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684360" y="1773360"/>
                <a:ext cx="352728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755640" y="3789360"/>
                <a:ext cx="3403440" cy="17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5076720" y="1700280"/>
                <a:ext cx="3335400" cy="15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5148360" y="3933720"/>
                <a:ext cx="327636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9T16:07:45Z</dcterms:created>
  <dc:creator>ANDRES  ROQUE VARGAS</dc:creator>
  <dc:description/>
  <dc:language>en-US</dc:language>
  <cp:lastModifiedBy>ANDRES  ROQUE VARGAS</cp:lastModifiedBy>
  <dcterms:modified xsi:type="dcterms:W3CDTF">2005-08-10T03:14:35Z</dcterms:modified>
  <cp:revision>12</cp:revision>
  <dc:subject/>
  <dc:title>Auxiliar 1 IQ46B</dc:title>
</cp:coreProperties>
</file>