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465-1A6A-417A-80DA-E15F52E7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BE4-7082-42E5-A8C6-129D112D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9C1-B7B9-47A4-91DB-8C530935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CE0-5858-4F17-81DC-EB528DE8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2A7-24B8-4B58-9F0F-DB5D6616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9C0-CEAC-44D8-848D-D53CEC66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49B-A6FB-4FC5-AF5B-B5E7F5CA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85F-02E2-4CFA-A88A-42CAABD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7E9-E746-4EBD-BC83-AE498BEF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17C-0DB9-4C5B-9A82-E4A677D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753-BAA3-4CC3-AC01-1552C05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934-6AEC-4FEC-9596-BBA9609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FBD9-2C16-4E2A-AE0D-2BE343381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 IQ40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231" t="3112" r="2231" b="2537"/>
          <a:stretch/>
        </p:blipFill>
        <p:spPr>
          <a:xfrm>
            <a:off x="25560" y="1146240"/>
            <a:ext cx="9154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si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tipo de procesos se resuelve fácilmente siguiendo la 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A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B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3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C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as ecuaciones de balances (tanto de masa como de energía) y cualquier otra ecuación que surja de consideraciones físicas o especificaciones del proceso para cada un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r dichas ecuacio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r el cálculo en la unidad siguiente hasta que se han considerado todas las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0039" t="24126" r="35039" b="47295"/>
          <a:stretch/>
        </p:blipFill>
        <p:spPr>
          <a:xfrm>
            <a:off x="1523880" y="2133720"/>
            <a:ext cx="6248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resolver siguiendo una secuencia ya que ningún módulo tiene todas sus entradas especificadas. Se requiere de un método de prueba 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752480" y="1371600"/>
            <a:ext cx="595332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5906" t="22355" r="28128" b="18765"/>
          <a:stretch/>
        </p:blipFill>
        <p:spPr>
          <a:xfrm>
            <a:off x="1676520" y="430056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 se debe seguir un procedimiento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ivina o estima el valor de una corriente (por ejemplo s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suelve el dia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ara el valor de s5 estimado con el calculado,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esta estimación se genera un valor mejorado de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inua el procedimiento hasta lograr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906" t="22355" r="28128" b="18765"/>
          <a:stretch/>
        </p:blipFill>
        <p:spPr>
          <a:xfrm>
            <a:off x="1676520" y="129528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, se aplican 3 técnicas bás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ón: consiste en dividir el problema en una secuencia de sistemas más sim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imiento: consiste en abrir todos los ciclos para poder resolver cada subsistema; se debe elegir cuidadosamente el flujo que se va a cort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ia: partiendo de una estimación, se debe resolver el problema haciendo converger el valor estimado hacía su valor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ste en descomponer el diagrama de flujo en subconjuntos de unidades relacionadas entre si pero independientes del re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dea es obtener bloques pequeños de módulos que se puedan resolver independientemente en una secuencia d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bloque independiente es llamado: partición, componente irreductible, componente fuerte o red cíclica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racterística principal de una partición es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n camino desde cualquier unidad a cualquier otra unidad en la misma part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existen ciclos que contengan unidades de distintas part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jas de la partición s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blema a resolver es más pequeño que el problema que considera todo el diagrama al mismo tiemp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solución es casi siempre más ráp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765000"/>
            <a:ext cx="763092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oder resolver un diagrama de flujo en forma secuencial, se debe romper las inter-conecciones entre las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se logra por medio de la estimación de ciertas corrientes en la red de ciclos, lo que permite resolver el problema en forma secuencial y llegar a la solución definitiva por medio de iteraciones que involucran la comparación de las corrientes estimadas (rotas) y sus valores calc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547640" y="3068640"/>
            <a:ext cx="6048720" cy="19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3053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tiene sus entradas completamente identifi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puede ser calculada antes qu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unidades están en cic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35772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6309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cedimiento a seguir consiste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r una de las corrientes (por ejemplo s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r el flowsheet (obtener s5`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rar hasta lograr convergencia, en base a la comparación entre s5 y s5`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caso de tener redes de ciclos complicadas, no es obvio determinar un conjunto apropiado de corriente de romp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njunto válido de corrientes de rompimiento es aquel que abre o rompe cada ciclo al menos un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onjunto válido de corrientes de rompimiento no es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todas las corrientes del conjunto de rompimiento son rotas, el flowsheet se transforma en un acíclico y la secuencia de cálculo se obtiene fáci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8000" y="2349360"/>
          <a:ext cx="5543640" cy="16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349360"/>
                    <a:ext cx="554364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05092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981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dea central consiste en romper cada ciclo al menos una vez y obtener un set válido de corrientes de romp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do que el conjunto válido de rompimientos no es único, es necesario determinar cual es el "mejor" conjunto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n varios criterios para definir el mejor conju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492280"/>
          <a:ext cx="7772400" cy="4410000"/>
        </p:xfrm>
        <a:graphic>
          <a:graphicData uri="http://schemas.openxmlformats.org/drawingml/2006/table">
            <a:tbl>
              <a:tblPr/>
              <a:tblGrid>
                <a:gridCol w="933480"/>
                <a:gridCol w="3314520"/>
                <a:gridCol w="35244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al 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erio de se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 difícil estimar las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número mínimo de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tintas corrientes pueden tener distint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el mínim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a dificultad de obtener una buena estimación puede ser diferente para cada corr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signar un peso a cada corriente, que refleje el grado de dificultad que tiene asociado. escoger el conjunto que minimice la suma total de los pe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o que realmente interesa es obtener la solución lo más rápido posi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que minimice el número total de it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las técnicas más utilizadas en simulación estacionaria; entender la aplicabilidad y limitaciones de cada método; poder utilizar en forma eficiente paquetes estándar de simulación estacion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412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riterio D es equivalente a seleccionar aquel conjunto válido que evite abrir cada ciclo más de una vez, de ser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familias de conjuntos válidos que poseen exactamente las mismas propiedades de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s los miembros de una familia pueden ser generados a partir de uno cualqui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lgoritmos de convergencia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troducir variables de corte, se debe utilizar algún mecanismo que permita re-actualizar el valor de las corrientes esti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374" t="24079" r="33618" b="13356"/>
          <a:stretch/>
        </p:blipFill>
        <p:spPr>
          <a:xfrm>
            <a:off x="1116000" y="1916280"/>
            <a:ext cx="676908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6450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ndo como corriente de corte s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1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valor de s1' resulta ser función de s1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' = f( s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convergencia se logra cuando s1'= s1, es decir, que la simulación es equivalente al problema matemá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 - f (s1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generalmente es un conjunto de ecuaciones algebraicas no line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necesaria para que un problema tenga una solución única es: NL = 0 (grados de libertad nul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, no es una condición 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pueden distinguir 4 tipos de malas espec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b-especifi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bre-especific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lección ilegal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es especificados imposible de alcanz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l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g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ón ilegal de variables especificad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= Grados de liber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las variables especificadas no son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specificados imposibles de alcanzar físicamen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s valores particulares considerados no pueden ser alcanzados con las incógnitas restringidas a valores físicos real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7821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10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otérm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 = 106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tiene sentid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789360"/>
            <a:ext cx="2232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221000"/>
            <a:ext cx="1513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 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ecuaciones, 5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ados de libert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se tiene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No se puede resolver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y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 y 2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arar el Nº de especificaciones con los grados de liber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 muy difícil distinguir entre singularidades numéricas y funcionales del Jacobi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subconjunto de singularidades funcionales que se denominan estructurales, las cuales son fácilmente detectables y corregibles. Un sistema se dice estructuralmente singular, si contiene un subconjunto de k ecuaciones que entre ellas contienen menos incógnitas qu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structuralmente singular, puesto que contiene un subconjunto de 2 ecuaciones (k = 2),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ntre ellas sólo contienen una incógnita 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es estructuralmente singular si y solo si existe una correspondencia unívoca entre ecuaciones 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éstas son muy difíciles de detectar en forma precisa. El síntoma usual, es que algunas variables se quedan pegadas en los lí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blemas reales (procesos industriales) incluyen decenas y centenas de unidades, con cientos y miles de ecuaciones, en su mayoría no lineales. Por esto se requieren computadores y softwares especialmente dedicados a resolver estos problemas. Los paquetes computacionales se denominan simuladores o paquetes Flowsh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incipales diferencias entre los diversos paquetes computacion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écnicas matemáticas empl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dustria de Procesos a las que están dirig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raciones unitarias que se incl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piedades termodinámicas que s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qu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 12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SuperPro Desi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Area Bio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v/s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Modular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asociar a cada unidad de operación un Módulo, que contiene un modelo de la unidad. Cada módulo se caracteriza por una serie de entradas y genera un conjunto de variables de salida. Se resuelve cada módulo en secuencia. Las salidas de un módulo son las entradas del sigu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–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Orientada a las Ecuaciones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s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elven todas las ecuaciones en forma simultánea sin distinguir a que módulo pertenecen. Se utilizan técnicas avanzadas de ordenamiento y descomposición para agrupar las ecuaciones por blo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ijar las condiciones de entrada (composición, flujo, presión, entalpía, temperatura, etc) y los parámetros del equipo (volumen y presión en el rector, área y coeficiente de transferencia de calor o masa, fracción de purga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as estas condiciones, el módulo calcula los valores de las corrientes de sali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stas corrientes de salida pueden ser corrientes de entrada a otras unidades y se continua hasta resolver todo el diagrama de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imuladores funcionan en forma ideal cuando todas las operaciones en el diagrama de flujo se encuentran en secuencia. Si hay reciclos o se desean resolver problemas de diseño, el problema se com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os casos se deben identificar los reciclos (unidades que componen el reciclo) y aplicar técnicas especiales para transformar el problema en una secuencia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3:23:59Z</dcterms:created>
  <dc:creator>Catedra medio ambiente</dc:creator>
  <dc:description/>
  <dc:language>en-US</dc:language>
  <cp:lastModifiedBy>Maria Elena Lienqueo</cp:lastModifiedBy>
  <dcterms:modified xsi:type="dcterms:W3CDTF">2005-11-07T02:26:11Z</dcterms:modified>
  <cp:revision>22</cp:revision>
  <dc:subject/>
  <dc:title>Análisis de Procesos IQ40A</dc:title>
</cp:coreProperties>
</file>