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5D8-8EFE-4D90-9CDA-AA02FDC6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483-0CFA-4C99-B91E-A9F9209C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1FD-DCD5-4529-9FBE-E7872195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8E1-F52F-4835-A5F9-BA9B4026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E1F-4341-4E9A-A1B3-02C5B947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37F-5175-4134-A297-80B7FB6A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6C2-45F0-49CE-983D-71D4CAAA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3AC-CDAC-4F8D-8598-0F1E3FDD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168-D82F-47F8-9FB2-A562EA37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9F2-AEFE-4E3A-AE6A-D7060E1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1FB-20C2-456E-99D3-F4B260B1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985-EDD1-4D34-AD41-6E985B0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DB98-0DDE-4AF3-9DFF-F5B742885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I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ule el balance diferencial de energía e integre la ecuación para obtener una relación entre la temperatura adimensional (T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función del número adimensional (U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/(G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)) y (W/W*), 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el peso del contenido del estanque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* el peso del contenido del estanque cuando está lleno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el flujo suspensión, lb/h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l vapor,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la temperatura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 alimentación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 el calor específico de la suspensión, BTU/(lb º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ransferencia de calor entre la camisa y la suspensión en el estanque se puede expresar segú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U 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) con U: coef. de transf. de cal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área de transf de calor del estanque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: área de transf de calor cuando el estanque esta lleno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alcule las temperaturas de la suspensión cuando el estanque está hasta la mitad de su capacidad y cuando está ll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ingreso de energía por límites indefinidos (B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en el eje y el sistema es adiabático (W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y q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se reduc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5715000"/>
                <a:ext cx="4419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U = H - PV 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que H es una función de T, P y el número de moles de las especies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52480" y="1752480"/>
                <a:ext cx="5562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3809880"/>
                <a:ext cx="38102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43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5791320"/>
                <a:ext cx="5257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es despreciable en sistemas líquidos, y es cero para gases idea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o que H(T)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 (T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uego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 definen entalpías molares parciale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se puede obtener a partir de los balances de masa dado qu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i 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e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iciente estequiométrico, con signo positivo si es producto y negativo si es reac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4724280"/>
                <a:ext cx="533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r 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los puntos 3 y 4, el product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esulta ser igual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stas consideraciones en la ecuación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si referimos las entalpías a la temperatura en el sistem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4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66680" y="1905120"/>
                <a:ext cx="6705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lim>
                    </m:limLow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652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3657600"/>
                <a:ext cx="8153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747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5486400"/>
                <a:ext cx="3809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limLow>
                      <m:e>
                        <m:limUp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Upp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talpía de la mezcla a la temperatura de ent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lpía de la mezcla a la temperatura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utilizamos la definición de Cp promedio y reemplazamos en la ecuacion de balance de energía anterior, tene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por termodinámica, se sabe qu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bie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 en la ecuación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9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19320" y="3962520"/>
                <a:ext cx="69339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52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9480" y="6019920"/>
                <a:ext cx="815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ualando esta última expresión con la ecuación desarrollada por la regla de la cadena, se tie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86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3124080"/>
                <a:ext cx="845820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V r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_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endo términos y utilizan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l calor de reacción igual a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oluciones ideales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n general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es despreciable fr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e término sólo será importante cuando los efectos de calor de mezcla sean considerables. Finalmente, la ecuación de balance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6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4920" y="2819520"/>
                <a:ext cx="853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2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52480" y="5932440"/>
                <a:ext cx="5486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+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U +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interna, función de la temperatura, volumen, densidad, 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ci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n a las respectivas energías por unidad de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or recibido y trabajo realiza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s estos términos en la expresión de balance, dividiendo po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haciendo tend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 cero se obtiene la expre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érmino de trabajo tot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se descompone en el trabajo asociado al ingreso y salida de materi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l resto del trabajo, que se denomina trabajo del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s decir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0" y="2743200"/>
                <a:ext cx="914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calcular el trabajo asociado al flujo de material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debe considera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apl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 que recorre el material a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zar los límites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denotamos por P como la presión en el límite y S el área transversal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el trabajo por unidad de masa, aplicando el concepto de densidad,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62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324480" y="5715000"/>
                <a:ext cx="2819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n el balance de energía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la entalpía se define como: H = U + P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por unidad de masa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reemplazar en la ecuación anterior del balance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1905120"/>
                <a:ext cx="899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5334120"/>
                <a:ext cx="88390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n las siguientes simpl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lujo de energía por límites indef (B = 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de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de la ecuación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la definición:U = H - PV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267080"/>
                <a:ext cx="4648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8120" y="5715000"/>
                <a:ext cx="5562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con esto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busca determinar la variación de la temperatura en el tiempo se hace necesario utiliza la defini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62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2286000"/>
                <a:ext cx="4038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157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438280" y="5257800"/>
                <a:ext cx="5943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ba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 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6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depósito contiene inicialmente V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agua a T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En un momento determinado, se comienza a introducir agua a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con un caudal constante de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, y mediante una válvula controlada se descargan un caudal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 constantemente. Despreciando las posible pérdidas de calor y suponiendo que la densidad y la capacidad calórica son constantes . Asuma que el tanque es perfectamente agitado, 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 variación de la temperatura del agua del estanque co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Determine el valor de la temperatura en el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7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 estanque cilíndrico inicialmente vacío, perfectamente agitado equipado de una camisa calefactora, se introduce una suspensión a una velocidad uniforme, junto con el paso de vapor por la camisa. El estanque tiene un diámetro de 3 ft y cuando está lleno, el nivel marca 5 ft. El flujo de suspensión alimentado es de 1200 lb/hr, con una temperatura de 70ºF. La capacidad calorífica de la suspensión es 1 Btu/(l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). El coeficiente de transferencia de calor es 100 Btu/(h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2). La temperatura del vapor es de 200º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10-14T20:41:41Z</dcterms:modified>
  <cp:revision>59</cp:revision>
  <dc:subject/>
  <dc:title>Análisis de Procesos</dc:title>
</cp:coreProperties>
</file>