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6C0-18F8-4BDA-9A39-8D8300A2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907-2E6F-4186-B0FF-E7DC25EE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366-62FF-481C-A29F-CCFC6104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E0A-3045-446C-AD48-23447403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1B0-38D5-4A82-8769-A5B35528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1A1-C849-49AF-ADEE-5E45A2D9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C8C-93F6-447C-AA88-5B6865EA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0BB-D2BF-4A86-B8B2-4BB740CC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554-58A8-4D9C-B179-B267F781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2D1-35EB-4C59-9B1F-D87F1A14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14C-47C1-4EC5-A3AB-F72036FA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274-4012-4DEA-BB2E-95A118B3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7994-5797-4342-9C66-06FFCBEAF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de sección cuadrada, de 4 metros de ancho y 10 metros de alto, está lleno con una solución salina. Encuentre el tiempo requerido para vaciar el estanque, si éste tiene un agujero en el fondo de 5 cm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á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promedio de la corriente de salida por un orificio se puede expresar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2,74 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/seg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h es la altura de llenado del estanqu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tanque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queño destilador separa propano y butano a 135ºC. Inicialmente contiene 10 kgmol de una mezcla cuya composición en fracción molar de butano es X = 0.3. La alimentación es de 5 kmol/hr con Xf = 0.3. Si el volumen total de líquido en el destilador es constante y la concentración del vapor ( Xd ) se relaciona con la concentración de la solución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 = Xs /( 1 +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¿Cuánto tiempo debe transcurrir para que Xs cambie de 0.3 a 0.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¿Cuál es el valor de estado estacionario de X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estil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315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ideal: butano + prop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utan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mulación = entrada +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da: 5 kmol/hr x 0,3 = 0,15 kmol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: 5 kmol/hr x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d/dt = 0,15 – 0,5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15 – Xs/(1-X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cribir los balances macroscópicos de masa y energía en estado no estacion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 diferenciales origin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formar un problema descrito en palabras a un sistema de ecuaciones diferenci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y energía se pueden aplicar a diferentes escalas. Por ejemplo, a nivel molecular, microscópico o bien, a nivel macroscóp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 último nivel es el que nos interesa en este curso, y consiste en considerar una unidad de proceso como un sistema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homogéne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temperaturas, presiones, densidades, concentraciones, etc.,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no dependen de la posición dentro del equi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resión general de los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y energí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22866"/>
          <a:stretch/>
        </p:blipFill>
        <p:spPr>
          <a:xfrm>
            <a:off x="0" y="762120"/>
            <a:ext cx="9144000" cy="37368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4724280"/>
            <a:ext cx="9143280" cy="1828440"/>
            <a:chOff x="0" y="4724280"/>
            <a:chExt cx="9143280" cy="1828440"/>
          </a:xfrm>
        </p:grpSpPr>
        <p:sp>
          <p:nvSpPr>
            <p:cNvPr id="50" name=""/>
            <p:cNvSpPr/>
            <p:nvPr/>
          </p:nvSpPr>
          <p:spPr>
            <a:xfrm>
              <a:off x="0" y="4724280"/>
              <a:ext cx="184068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[Acumul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0680" y="4724280"/>
              <a:ext cx="1906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[Entrada a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46880" y="4724280"/>
              <a:ext cx="1960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Salida de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08160" y="4724280"/>
              <a:ext cx="1717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[Gener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26080" y="4724280"/>
              <a:ext cx="1717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Consumo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3581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se considera como estacionario cuando todas las variables del proceso [Tª, P, F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son independientes d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una de las variables del proceso depende del tiempo, el proceso es no estacionario. En este caso, el término de acumulación en la ecuación de balance de masa o de balance de energía no es n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puede ser considero como estacionario del punto de vista del balance de masa y no del punto de vista del balance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no estaciona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 =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+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masa de A/volumen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ensida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olumen to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 = entra-sale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1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elocidad del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area transvers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 = w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érmino de generación y/o consumo = r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gt; 0 = generación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0 = consumo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balance por especie toma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el balance de masa tot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120" y="4495680"/>
                <a:ext cx="80010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0" y="2116080"/>
                <a:ext cx="9144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dividimos ambas ecuaciones po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y hacemos tende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 obtenemos las siguientes ecuaciones diferencia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por espec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3809880"/>
                <a:ext cx="746784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5732640"/>
                <a:ext cx="54104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contiene 100 galones de una solución salina, donde se encuentran disueltas 4 lb de sal. El flujo de agua fresca que entra al tanque es de 5 gal/min, saliendo un mismo flujo de solución del estanque. Si el tanque se encuentra perfectamente agitado. ¿ Cuánta sal queda en el tanque a los 50 minut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supone que la densidad de la solución es constante e igual a la densidad del agu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29T18:41:40Z</dcterms:modified>
  <cp:revision>59</cp:revision>
  <dc:subject/>
  <dc:title>Análisis de Procesos</dc:title>
</cp:coreProperties>
</file>